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FFC-4A76-4599-B8EC-36EA572D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CC0-159D-4F74-90AF-B70667F7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0B4-BE1F-4349-BDD0-66B2751B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F59-5394-4646-A342-0E372F60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3CFA-F448-4F8A-91F4-1C3B3BA3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7F20-CAE6-45B5-9B8D-74DF5324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4C74-A668-4B7B-BA82-B5D90854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D279-4316-4173-A9A7-CED730D8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7988-2754-4AF5-A862-5D9C47F6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D355-0A78-4382-9757-F9E57102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2C95-B450-4352-BC97-56DB18F1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B4E-C1C2-4777-8249-D9D4E7A7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ABF6-548A-4C5A-877F-B408B856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55FB-FF2C-4176-8371-42B3972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677E-4C35-4D87-9AEE-C571C907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7943-839B-4333-BF3D-79A27B8A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DE74-CC15-4516-B442-113ACF67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91A-CEAC-4D01-825E-8A9C0CD0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763-C722-45DB-B3E6-3C6F30B7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C6D-9B8E-4985-9558-AC0DECDB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2FD-2246-4633-852E-0316E550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2AF-87F5-4E59-8A61-C047B5AB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90F-D9D6-4E56-BFCB-55B30F49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6D1-86A8-4AC2-82C1-05F2B15A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3CB0-F3D8-40C7-9014-40901F355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32D1-1088-45B6-A0DF-C71F6880C0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: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F280-7EB5-4C24-AEDB-026F7EFB27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1905120"/>
            <a:ext cx="4952880" cy="30477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View/Toolbars/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oolbars tab create a new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Commands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main form icon onto the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ustomers menu option and drag the customer forms and reports on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Help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95F-AB7A-48F3-AABD-C6E2067CC4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807360"/>
            <a:ext cx="1600200" cy="162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70240" y="2059200"/>
            <a:ext cx="1701720" cy="78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Powder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4923000"/>
            <a:ext cx="266724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File: AllPowder.c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Context ID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0240" y="3205080"/>
            <a:ext cx="1157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pi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opi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pi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opi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pi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Topic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2590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562720" y="34286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9625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1225440"/>
            <a:ext cx="4749840" cy="4683240"/>
          </a:xfrm>
          <a:custGeom>
            <a:avLst/>
            <a:gdLst/>
            <a:ahLst/>
            <a:rect l="l" t="t" r="r" b="b"/>
            <a:pathLst>
              <a:path w="2992" h="2950">
                <a:moveTo>
                  <a:pt x="1554" y="340"/>
                </a:moveTo>
                <a:cubicBezTo>
                  <a:pt x="1154" y="445"/>
                  <a:pt x="621" y="717"/>
                  <a:pt x="375" y="996"/>
                </a:cubicBezTo>
                <a:cubicBezTo>
                  <a:pt x="129" y="1275"/>
                  <a:pt x="0" y="1707"/>
                  <a:pt x="79" y="2012"/>
                </a:cubicBezTo>
                <a:cubicBezTo>
                  <a:pt x="158" y="2317"/>
                  <a:pt x="415" y="2740"/>
                  <a:pt x="847" y="2828"/>
                </a:cubicBezTo>
                <a:cubicBezTo>
                  <a:pt x="1279" y="2916"/>
                  <a:pt x="2350" y="2950"/>
                  <a:pt x="2671" y="2540"/>
                </a:cubicBezTo>
                <a:cubicBezTo>
                  <a:pt x="2992" y="2130"/>
                  <a:pt x="2959" y="734"/>
                  <a:pt x="2773" y="367"/>
                </a:cubicBezTo>
                <a:cubicBezTo>
                  <a:pt x="2587" y="0"/>
                  <a:pt x="1933" y="237"/>
                  <a:pt x="1554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209680" y="2819160"/>
            <a:ext cx="12193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4000" y="19051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114800" y="22860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D1D-5A74-4A46-BF86-9BD614D6EE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371600"/>
            <a:ext cx="71629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Object type="application/x-oleobject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d="clsid:1e2a7bd0-dab9-11d0-b93a-00c04fc99f9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Content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Introduction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Star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Managemen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OBJECT&gt;&lt;HTML&gt;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rel="stylesheet" type="text/css" href="Styles.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EAD&gt;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1&gt;Introduction to the All Powder Board and Ski Shop&lt;/H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&gt;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&lt;IMG SRC='BoardLogo1.gif' border='0'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All Powder Board and Ski Shop sells and rents snowboards and skis for all levels of riders and skiers.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R&gt;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2&gt;The Board and Ski Shop&lt;/H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L&gt;&lt;LI&gt;&lt;A HREF=’Customers.html'&gt;Customers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&gt;&lt;A HREF=’Sales.html'&gt;Sales 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UL&gt;&lt;/BODY&gt;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770-4C84-487A-8EBB-2DF17DF853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1600200"/>
            <a:ext cx="7238880" cy="3733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t least three HTML help files for the All Powder forms using an HTML editor or Wor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, download and install the HTML Help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project in the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HTM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HTML files to add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mapping file with a text editor and add it to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ject options to build the TOC and inde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and test the 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database forms and add the help file name and Cont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press the F1 key to test the 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B5E-F525-4A1F-92CF-937A84D96A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pics Map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05740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AllPow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Custo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673-C250-49E0-A8DC-EF8C94BF45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Compiler and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77840" y="1600200"/>
            <a:ext cx="698652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07E-79A0-4F4D-9176-D9CA7CB65E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33440" y="1542960"/>
            <a:ext cx="4624560" cy="4552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File on Access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413388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0" y="436248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497196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343040" y="520056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5C3-E6C2-40C7-9181-8160574D7C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ploying Applic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1795320" cy="2727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503360" cy="1203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98760" y="4608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7880" y="34290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3209760"/>
            <a:ext cx="2779560" cy="1032120"/>
          </a:xfrm>
          <a:custGeom>
            <a:avLst/>
            <a:gdLst/>
            <a:ahLst/>
            <a:rect l="l" t="t" r="r" b="b"/>
            <a:pathLst>
              <a:path w="1751" h="650">
                <a:moveTo>
                  <a:pt x="0" y="570"/>
                </a:moveTo>
                <a:cubicBezTo>
                  <a:pt x="260" y="610"/>
                  <a:pt x="520" y="650"/>
                  <a:pt x="672" y="570"/>
                </a:cubicBezTo>
                <a:cubicBezTo>
                  <a:pt x="824" y="490"/>
                  <a:pt x="732" y="180"/>
                  <a:pt x="912" y="90"/>
                </a:cubicBezTo>
                <a:cubicBezTo>
                  <a:pt x="1092" y="0"/>
                  <a:pt x="1576" y="43"/>
                  <a:pt x="1751" y="3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9080" y="4191120"/>
            <a:ext cx="274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 to transf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.mdb or Name.m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files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 files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B34-9AEA-4DE9-B2DA-E2D1B809D6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905120"/>
            <a:ext cx="5562360" cy="1981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your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mdb and chm files to a second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desktop shortcut to the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application and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the Access runtime, use its installation software to build an installation file and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6C6-B2D8-4CBC-A1C7-653FC2A0BE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267600" y="990720"/>
            <a:ext cx="2571480" cy="1562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pplication El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3505320" cy="223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2895480"/>
            <a:ext cx="2690640" cy="3581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86200" y="3581280"/>
            <a:ext cx="3843360" cy="2243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962520" y="1447920"/>
            <a:ext cx="2895480" cy="2090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13372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048120"/>
            <a:ext cx="13716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forms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1143000"/>
            <a:ext cx="762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590920" y="25909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2819520"/>
            <a:ext cx="19047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2590920"/>
            <a:ext cx="990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D33-DA87-4436-B57B-3D76381640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mplat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191200" cy="442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38280" y="3586320"/>
            <a:ext cx="762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3048120"/>
            <a:ext cx="685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3048120"/>
            <a:ext cx="838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480528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886200" y="26665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62720" y="26665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048120" y="5181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78C-2E90-4636-A5F9-56CFC603A7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Form with Templ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91040" cy="40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121-ADE9-4A44-AE7F-A88427E95D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2057400"/>
            <a:ext cx="518148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form in Desig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logo and sample ti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close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label that can be used to display messages to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message label’s Visible property to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the template form to the Customer form and save it as Custom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CCC-498A-4C61-B056-A293F5D3B8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610000" y="1863720"/>
            <a:ext cx="5848200" cy="3524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a Switchboar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168640"/>
            <a:ext cx="14475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2473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006720"/>
            <a:ext cx="14475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09680" y="338760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354024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36904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orms or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419720" y="3921120"/>
            <a:ext cx="7617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19720" y="4073040"/>
            <a:ext cx="838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926-9CAC-4F17-8753-28E66F79D9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1981080"/>
            <a:ext cx="5715000" cy="26672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properties to remove the scroll bars and navigati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 to open other forms (Form Operations/Open Form)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lors and graphics to make the form app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all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093-7559-4EE6-81DF-EA8586A1C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19440" y="1771560"/>
            <a:ext cx="3666960" cy="3486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Toolbars and Menu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220968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257440" y="25146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437920" y="2285640"/>
            <a:ext cx="3962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8DB-C267-412F-9E1C-3074312CB9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81280" y="1452600"/>
            <a:ext cx="4467240" cy="4405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olbars and Menu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819520"/>
            <a:ext cx="14475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mmands onto the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952880" y="31237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657600" y="3429000"/>
            <a:ext cx="2819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895120" y="3429000"/>
            <a:ext cx="3581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707-47A5-41FC-98ED-DD28BBB02A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3T21:01:49Z</dcterms:modified>
  <cp:revision>51</cp:revision>
  <dc:subject/>
  <dc:title>All Powder Board and Ski</dc:title>
</cp:coreProperties>
</file>