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428-27B9-413C-B84A-CE9FDEF7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9AC-F3FD-4FC6-8DD6-70FC132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037-480F-44C0-85EF-BDEC74B2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468-F331-4EF6-85F9-DDD48561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2ECF-DA1E-450B-B924-D25E46A7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B61B-8CAD-4C70-B73D-6929614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9E23-3DF0-4594-B910-5E4E4CD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6325-52E2-466A-AF21-D7FF2F6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BE08-4021-47DC-B6E0-A6BF5D2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DF2-93E5-4B47-BE4B-4BE5CB2F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5B84-2BE8-48CB-9481-B372AA0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AD3-34D0-439F-A358-E5AEFF08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BD7B-A542-4AF7-9C52-133FBA5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714-D098-42B8-BEBF-634AA9E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32F-8B35-407D-8382-0282B6CD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02C-BA09-4164-A8B3-68834173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424-D25E-4244-9EE5-D7846AC2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889-256D-4E42-BF0E-7BD5C6D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AA5-EBA6-4712-B207-3E66AA4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AF7-C7D1-4978-8FA0-D787A02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FBE-3349-40A3-90E1-17EBF45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12E-0C1A-44F8-A7D2-F058E25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0A4-3DF1-4DF6-AF8E-42F35F7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37E-4EC0-47F2-A457-44AB8872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097-12B8-40E4-8709-0316F6F9A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C54-AB8A-4EAC-A936-37AFA5600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D947-9B72-4556-9C0A-600A51ECF9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87692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(Rental.RentDate = Sale.SaleDate) AND (Rental.CustomerID = Sale.Customer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68588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95680" y="328608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ADF-2D96-4107-B357-B3DC5F0607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905120"/>
            <a:ext cx="510552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join from Rental to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join from Sale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is new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option to include all 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103-C367-4F9B-8246-7A7A8AB23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324400" cy="3019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1143000" y="41911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309920"/>
            <a:ext cx="8763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LEFT JOIN Rental ON Sale.CustomerID = Rent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58128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Properties: Left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24080" y="2514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3429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14880" y="1752480"/>
            <a:ext cx="3952800" cy="21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3FF-92C6-442D-95B2-A6A09AF32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847880"/>
            <a:ext cx="3648240" cy="4095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590920"/>
            <a:ext cx="259092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ho purchased items without renting anything have missing (Null) values for the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495680" y="25146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572000" y="32000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72000" y="33526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95680" y="3505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35053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EE9-CF4D-4611-B78A-1F78EDCFE4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2057400"/>
            <a:ext cx="487692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CustomerID (use SQL):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10A-9C05-4914-9820-3DFFBBB3AE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724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.CustomerID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86280" cy="308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61016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B15-AD93-41B7-9F43-4E848B895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752480"/>
            <a:ext cx="69343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 an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QuantityOnHand and sort it in de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ID, CategoryName, LowLimit, High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6BA-6EC2-4595-98EE-94B86862FA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62440" cy="303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41964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B63-9D55-461D-9CDE-E5E0FCE05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2652840"/>
            <a:ext cx="4114800" cy="155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3A6-E838-463D-BD5C-BE7644421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981080"/>
            <a:ext cx="525780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ModelsOnHand and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view add the inequality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E73-EB4D-41BA-A6F2-540ABBB84A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5CA-A20E-40D0-B7E4-630D6365B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455840"/>
            <a:ext cx="4876920" cy="265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848040" cy="2877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629240"/>
            <a:ext cx="79250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odelsOnHand.ModelID, ModelsOnHand.SumOfQuantityOnHand, SalesCategory.CategoryID, SalesCategory.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odelsOnHand INNER JOIN SalesCategory ON (ModelsOnHand.SumOfQuantityOnHand&gt;=SalesCategory.LowLimit) AND (ModelsOnHand.SumOfQuantityOnHand&lt;SalesCategory.HighLimi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6576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in cannot be displayed in design view and must be entered by hand in SQ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752480" y="2286000"/>
            <a:ext cx="152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5720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82F-6249-4860-A025-46902F1B30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324320" cy="305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971800" cy="15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D7F-F6B9-4156-9B96-49DD67512E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655344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January sale date in criteri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entir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ord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to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27A-D024-4DA4-A454-66E8D107F7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51520" y="1749600"/>
            <a:ext cx="35589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it could be done with simple conditions, but it is good practice for UN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962520"/>
            <a:ext cx="853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Jan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1/1/2004# And #1/31/2004#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Mar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3/1/2004# And #3/31/2004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495680" cy="25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01C-8A20-46E5-817C-E928D3D0E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752480"/>
            <a:ext cx="54864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Category,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to sum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“Where” and criteria for RentDate to Between [Start Date] And [End Da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CF1-C611-4EE3-A4E4-B923DD7370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734000" cy="4276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4572000"/>
            <a:ext cx="2114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6C9-FB09-4E19-AA21-D48951B075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1981080"/>
            <a:ext cx="487692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B40-9D72-4B58-B352-3082C0D110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CAF-642F-4D7A-8C87-1A2ABAA445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905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AF4-4C66-409D-99CE-63025AEE52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586728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INSERT command: INSERT INTO Customer (LastName, FirstName, City, Gender) 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386-2BB1-4AE1-8AF4-F79111043F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34200" cy="3095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3840" y="46846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3305160" cy="26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AE6-171A-4C8F-A3D2-888E1D3E4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3F0-3483-4098-B72B-CB76524DBC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FD1-D153-48AF-A848-0206622714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1905120"/>
            <a:ext cx="594360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, ModelYear,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Category=”Board” And ModelYear=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Cost set Update To: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155-3DD5-4E32-B889-089EE73754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486400" cy="4321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333072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/ 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288960" y="1882440"/>
            <a:ext cx="1282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76720" y="355932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99000" y="49356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118120" y="478260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79132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temModel SET Cost =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Board") AND (ModelYear=200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249228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76920" y="2111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B20-A336-4F81-A875-B2B6214638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2057400"/>
            <a:ext cx="426744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ID, LName, F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ID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Dele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791-8B84-4F74-8171-99A6BD3DE1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4572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D &gt;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423864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F5A-F968-473B-A04D-BEFD197EC4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961-F801-4C5C-9953-EB427F5006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057400"/>
            <a:ext cx="5029200" cy="3581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SalesValue: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SalesValue, Group By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query as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and select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B99-FF56-41B2-A47A-7E6BEC20C0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9051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vg(CustomerSales.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41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4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800360" cy="30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C47-8317-4A85-B11B-5D4AE06631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33720"/>
            <a:ext cx="586728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SalesValue (enter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B6-441C-4535-B597-ADF7662CE8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753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.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sValue &gt; 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alesValu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33920" cy="303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914920" cy="29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3F8-D666-438E-856D-FE65B59736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9528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Rental.CustomerID = 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95720" cy="3247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152960" cy="30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DDA-9DC8-4882-8E06-35F22F711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828800"/>
            <a:ext cx="51818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RentDate=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C2E-4876-48E8-A253-A5BA50CD9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49Z</dcterms:modified>
  <cp:revision>35</cp:revision>
  <dc:subject/>
  <dc:title>All Powder Board and Ski</dc:title>
</cp:coreProperties>
</file>