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88BB-4CC3-4836-9067-0EAE9E96F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93B8-9DA4-407C-87A7-2FBED0A0B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DBFD-9232-48D8-A71D-45F40FA13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D59E-2180-4CE4-84F1-DC0554AC1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AA6F5-01D5-4CE4-8D54-E5186A9A3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9491D-8972-405E-8DF9-3E4D7E652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A9039-5CBF-406E-B9A6-C70F29CAE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257D5-08F9-4092-8EE4-47215DC99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90B52-B3A7-4619-8D55-6FED165FE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B5874-5B55-4F2D-AD71-FE18961E0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BA6DB-9336-4FDC-B0C9-0A69838A6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908D-B490-4F13-A7C4-296F21A64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59C3E-714B-42D9-BA4E-015B6282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94434-386F-44E7-B15C-15D861073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C51F2-E1D2-462C-982C-B96D309E4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C4842-68D3-4E8C-8BE5-2DF43CDDE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AE528-EB00-43B6-ADBD-B4C88251C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CB44-7908-4B82-A794-5E06757D0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4310-3067-4470-8117-8FA8BBDCB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E19A-E4F1-4FF3-9E51-1440464A3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67F4-1985-4642-B628-9634FAEF3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9F18-DF5C-4A06-978E-BF7DE5F5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7D8D-9261-49DD-BA33-D3C4FEE5D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F456-A408-494E-BFAD-326B9DAFF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F7878-5403-444D-AB24-C2E9455506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11F56-A219-4545-9CC8-5ABC8FE08F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time-post.com/dbdesign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All Powder Board and Ski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rosoft Access Work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2: Database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rry P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right ©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286000" y="1600200"/>
            <a:ext cx="4199040" cy="441972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BDesign: Examp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72200" y="4191120"/>
            <a:ext cx="12952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colum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90720" y="2286000"/>
            <a:ext cx="9144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752480" y="3276720"/>
            <a:ext cx="12193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nt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5181480"/>
            <a:ext cx="144756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4114800"/>
            <a:ext cx="14479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us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2971800" y="320004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1905120" y="2438280"/>
            <a:ext cx="30456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609552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47920" y="44956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1523880" y="5105160"/>
            <a:ext cx="60984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00200" y="2286000"/>
            <a:ext cx="5867280" cy="259092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04640" indent="-404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Customer and Sale 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GenerateKey to Customer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ame it to 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g new CustomerID from right side into Sal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g CustomerID from Customer and drop it on CustomerID in Sal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l out relationship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333520" y="2162160"/>
            <a:ext cx="3409920" cy="362916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elationship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867280" y="1573200"/>
            <a:ext cx="16002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g-and-drop colu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24480" y="3443400"/>
            <a:ext cx="1752840" cy="119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min and max for both sides of the relatio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962160" y="3900600"/>
            <a:ext cx="2361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5257440" y="390060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1855800"/>
            <a:ext cx="1828800" cy="977760"/>
          </a:xfrm>
          <a:custGeom>
            <a:avLst/>
            <a:gdLst/>
            <a:ahLst/>
            <a:rect l="l" t="t" r="r" b="b"/>
            <a:pathLst>
              <a:path w="1152" h="616">
                <a:moveTo>
                  <a:pt x="1152" y="376"/>
                </a:moveTo>
                <a:cubicBezTo>
                  <a:pt x="1104" y="188"/>
                  <a:pt x="1056" y="0"/>
                  <a:pt x="864" y="40"/>
                </a:cubicBezTo>
                <a:cubicBezTo>
                  <a:pt x="672" y="80"/>
                  <a:pt x="336" y="348"/>
                  <a:pt x="0" y="6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5257800" y="2224080"/>
            <a:ext cx="1447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828800" y="2438280"/>
            <a:ext cx="5791320" cy="243864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Grade/Grade and Ma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ble click messages in 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x errors by removing columns and adding new tab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esign Erro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514600" y="2057400"/>
            <a:ext cx="4838760" cy="36482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438280" y="1447920"/>
            <a:ext cx="16002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SKU to the Sal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038480" y="205740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38080" y="2286000"/>
            <a:ext cx="198144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 the Inventory table to the Sal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819520" y="2514600"/>
            <a:ext cx="1447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3809880"/>
            <a:ext cx="182880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ble click the diagnostic mes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676520" y="4724280"/>
            <a:ext cx="838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486400" y="4038480"/>
            <a:ext cx="18288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sible errors are highligh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5562360" y="2971440"/>
            <a:ext cx="53316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re Erro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4915080" cy="38768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838080" y="1676520"/>
            <a:ext cx="18288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y setting SKU as a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666880" y="2057400"/>
            <a:ext cx="1219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181480" y="3809880"/>
            <a:ext cx="320040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still causes problems because SaleDate does not depend on the S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4800600" y="2666880"/>
            <a:ext cx="38088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343400" y="419112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plit Many-to-Many Relationshi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2290680"/>
            <a:ext cx="160020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2666880"/>
            <a:ext cx="160020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al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e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2290680"/>
            <a:ext cx="137160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38080" y="2666880"/>
            <a:ext cx="13716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O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224080" y="1995480"/>
            <a:ext cx="3948120" cy="477720"/>
          </a:xfrm>
          <a:custGeom>
            <a:avLst/>
            <a:gdLst/>
            <a:ahLst/>
            <a:rect l="l" t="t" r="r" b="b"/>
            <a:pathLst>
              <a:path w="2487" h="301">
                <a:moveTo>
                  <a:pt x="0" y="301"/>
                </a:moveTo>
                <a:cubicBezTo>
                  <a:pt x="205" y="251"/>
                  <a:pt x="816" y="0"/>
                  <a:pt x="1230" y="0"/>
                </a:cubicBezTo>
                <a:cubicBezTo>
                  <a:pt x="1644" y="0"/>
                  <a:pt x="2225" y="238"/>
                  <a:pt x="2487" y="301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415680" y="1636560"/>
            <a:ext cx="16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-to-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352680" y="4272120"/>
            <a:ext cx="160020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352680" y="4648320"/>
            <a:ext cx="16002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al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ntityS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952880" y="2895480"/>
            <a:ext cx="1219320" cy="1905120"/>
          </a:xfrm>
          <a:custGeom>
            <a:avLst/>
            <a:gdLst/>
            <a:ahLst/>
            <a:rect l="l" t="t" r="r" b="b"/>
            <a:pathLst>
              <a:path w="768" h="1200">
                <a:moveTo>
                  <a:pt x="768" y="0"/>
                </a:moveTo>
                <a:lnTo>
                  <a:pt x="384" y="0"/>
                </a:lnTo>
                <a:lnTo>
                  <a:pt x="384" y="1200"/>
                </a:lnTo>
                <a:lnTo>
                  <a:pt x="0" y="120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09680" y="2895480"/>
            <a:ext cx="1143000" cy="2286000"/>
          </a:xfrm>
          <a:custGeom>
            <a:avLst/>
            <a:gdLst/>
            <a:ahLst/>
            <a:rect l="l" t="t" r="r" b="b"/>
            <a:pathLst>
              <a:path w="720" h="1440">
                <a:moveTo>
                  <a:pt x="0" y="0"/>
                </a:moveTo>
                <a:lnTo>
                  <a:pt x="384" y="0"/>
                </a:lnTo>
                <a:lnTo>
                  <a:pt x="384" y="1440"/>
                </a:lnTo>
                <a:lnTo>
                  <a:pt x="720" y="144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96000" y="25509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…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02600" y="48006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…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955040" y="4419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…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564880" y="25509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…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ki Shop Invento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41680" y="6400800"/>
            <a:ext cx="28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to: www.rossigno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317680" y="2286000"/>
            <a:ext cx="561960" cy="26766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2470320" y="2590920"/>
            <a:ext cx="498240" cy="23716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2622600" y="2819520"/>
            <a:ext cx="449280" cy="21430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2754360" y="3048120"/>
            <a:ext cx="401760" cy="19144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5"/>
          <a:stretch/>
        </p:blipFill>
        <p:spPr>
          <a:xfrm>
            <a:off x="2149560" y="1981080"/>
            <a:ext cx="625320" cy="29815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6"/>
          <a:stretch/>
        </p:blipFill>
        <p:spPr>
          <a:xfrm>
            <a:off x="1981080" y="1905120"/>
            <a:ext cx="641520" cy="30574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4251240" y="2093760"/>
            <a:ext cx="344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 shops carry multiple lengths of each ski or board mod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251240" y="3429000"/>
            <a:ext cx="344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 information refers to the overall type of board or sk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251240" y="4572000"/>
            <a:ext cx="344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ory information refers to an individual ski or board—defined by its leng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03800" y="5334120"/>
            <a:ext cx="187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ignol Ax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905120" y="4800600"/>
            <a:ext cx="1295280" cy="304920"/>
          </a:xfrm>
          <a:custGeom>
            <a:avLst/>
            <a:gdLst/>
            <a:ahLst/>
            <a:rect l="l" t="t" r="r" b="b"/>
            <a:pathLst>
              <a:path w="816" h="192">
                <a:moveTo>
                  <a:pt x="0" y="0"/>
                </a:moveTo>
                <a:lnTo>
                  <a:pt x="0" y="192"/>
                </a:lnTo>
                <a:lnTo>
                  <a:pt x="816" y="192"/>
                </a:lnTo>
                <a:lnTo>
                  <a:pt x="81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34960" y="152388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m: 196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896920" y="152388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m: 181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219320" y="1828800"/>
            <a:ext cx="9903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2590560" y="1828800"/>
            <a:ext cx="11430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133720" y="2514600"/>
            <a:ext cx="4800600" cy="236232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the SaleItem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the ItemModel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lude the proper colum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the k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the data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de/Grade and Ma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dels and Item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523880" y="2133720"/>
            <a:ext cx="542952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BDesign: An Expert Syste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6666"/>
                </a:solidFill>
                <a:uFillTx/>
                <a:latin typeface="Arial"/>
                <a:hlinkClick r:id="rId1"/>
              </a:rPr>
              <a:t>http://time-post.com/db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it easy to create database di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s data in central location, so changes can be made from almost any 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immediate detailed feedback on th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ors must ask for a free ac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ors and students need a Java-enabled Web brow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ustomer Skill Leve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816560" y="1676520"/>
            <a:ext cx="465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ustomer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LastName, … Style, Skill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816560" y="2173320"/>
            <a:ext cx="462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ID, LastName, …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y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kill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48400" y="2706840"/>
            <a:ext cx="665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usiness rule: Each customer can have one skill in many sty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usiness rule: Each style can apply to more than one custo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eed a table with both attributes as ke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832400" y="3711600"/>
            <a:ext cx="469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ustomer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LastName, …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y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kill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43000" y="42307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ut you cannot include LastName, FirstName and so on, because then you would have to re-enter that data for each customer ski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ustomer Style Skill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066680" y="1752480"/>
            <a:ext cx="160020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066680" y="2133720"/>
            <a:ext cx="16002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733920" y="2438280"/>
            <a:ext cx="182880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Sk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733920" y="2819520"/>
            <a:ext cx="18288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ll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400800" y="1681200"/>
            <a:ext cx="190512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400800" y="2057400"/>
            <a:ext cx="19051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yle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400800" y="3814920"/>
            <a:ext cx="190512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ll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400800" y="4191120"/>
            <a:ext cx="19051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kill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ll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666880" y="2286000"/>
            <a:ext cx="1067040" cy="685800"/>
          </a:xfrm>
          <a:custGeom>
            <a:avLst/>
            <a:gdLst/>
            <a:ahLst/>
            <a:rect l="l" t="t" r="r" b="b"/>
            <a:pathLst>
              <a:path w="672" h="432">
                <a:moveTo>
                  <a:pt x="0" y="0"/>
                </a:moveTo>
                <a:lnTo>
                  <a:pt x="192" y="0"/>
                </a:lnTo>
                <a:lnTo>
                  <a:pt x="192" y="432"/>
                </a:lnTo>
                <a:lnTo>
                  <a:pt x="672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562720" y="2286000"/>
            <a:ext cx="838080" cy="990720"/>
          </a:xfrm>
          <a:custGeom>
            <a:avLst/>
            <a:gdLst/>
            <a:ahLst/>
            <a:rect l="l" t="t" r="r" b="b"/>
            <a:pathLst>
              <a:path w="528" h="624">
                <a:moveTo>
                  <a:pt x="0" y="624"/>
                </a:moveTo>
                <a:lnTo>
                  <a:pt x="240" y="624"/>
                </a:lnTo>
                <a:lnTo>
                  <a:pt x="240" y="0"/>
                </a:lnTo>
                <a:lnTo>
                  <a:pt x="52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562720" y="3581280"/>
            <a:ext cx="838080" cy="762120"/>
          </a:xfrm>
          <a:custGeom>
            <a:avLst/>
            <a:gdLst/>
            <a:ahLst/>
            <a:rect l="l" t="t" r="r" b="b"/>
            <a:pathLst>
              <a:path w="528" h="480">
                <a:moveTo>
                  <a:pt x="0" y="0"/>
                </a:moveTo>
                <a:lnTo>
                  <a:pt x="240" y="0"/>
                </a:lnTo>
                <a:lnTo>
                  <a:pt x="240" y="480"/>
                </a:lnTo>
                <a:lnTo>
                  <a:pt x="528" y="48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cess Data Types (Domains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609480" y="1295280"/>
          <a:ext cx="7925040" cy="4943520"/>
        </p:xfrm>
        <a:graphic>
          <a:graphicData uri="http://schemas.openxmlformats.org/drawingml/2006/table">
            <a:tbl>
              <a:tblPr/>
              <a:tblGrid>
                <a:gridCol w="1836720"/>
                <a:gridCol w="2229120"/>
                <a:gridCol w="2830320"/>
                <a:gridCol w="10288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y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xt  (character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x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ri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 K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ri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ri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7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umer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yte (8 bit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ger (16 bit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ng (32 bit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64 bit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xed prec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lo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u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rrenc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s/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umber: By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umber: Integ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umber: Long Integ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umber: Decim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umber: Sing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umber: Dou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rrenc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s/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-2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/- 327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/- 2 bill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/- 1 E 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/- 1 E 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/- 1 E 3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/- 900.0000  trill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/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dec" pos="290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dec" pos="290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dec" pos="290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dec" pos="290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dec" pos="290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dec" pos="290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dec" pos="290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dec" pos="290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b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e/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e/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/1/100 – 12/31/9999 (1 se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dec" pos="290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m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LE Obje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gigaby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dec" pos="290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ri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utoNu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utoNu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ng (+/- 2 billio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dec" pos="290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itial Business Objec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3510000"/>
            <a:ext cx="160020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3886200"/>
            <a:ext cx="16002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mploye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xpay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343400" y="1600200"/>
            <a:ext cx="160020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343400" y="1981080"/>
            <a:ext cx="1600200" cy="221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43000" y="1452600"/>
            <a:ext cx="160020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1828800"/>
            <a:ext cx="16002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al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e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477120" y="3124080"/>
            <a:ext cx="190476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477120" y="3505320"/>
            <a:ext cx="190476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nt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t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cted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ssociations or Relationship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52480" y="3510000"/>
            <a:ext cx="160020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52480" y="3886200"/>
            <a:ext cx="16002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mploye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xpay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343400" y="1600200"/>
            <a:ext cx="160020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1981080"/>
            <a:ext cx="1600200" cy="221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43000" y="1452600"/>
            <a:ext cx="160020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43000" y="1828800"/>
            <a:ext cx="16002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al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e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77120" y="3124080"/>
            <a:ext cx="190476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477120" y="3505320"/>
            <a:ext cx="190476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nt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t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cted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743200" y="2133720"/>
            <a:ext cx="1600200" cy="457200"/>
          </a:xfrm>
          <a:custGeom>
            <a:avLst/>
            <a:gdLst/>
            <a:ahLst/>
            <a:rect l="l" t="t" r="r" b="b"/>
            <a:pathLst>
              <a:path w="1008" h="288">
                <a:moveTo>
                  <a:pt x="0" y="288"/>
                </a:moveTo>
                <a:lnTo>
                  <a:pt x="432" y="288"/>
                </a:lnTo>
                <a:lnTo>
                  <a:pt x="432" y="0"/>
                </a:lnTo>
                <a:lnTo>
                  <a:pt x="100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29520" y="21700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…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9760" y="175248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…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09680" y="2590920"/>
            <a:ext cx="4800600" cy="167616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wser: http://time-post.com/db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student who has two key numb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Getting Started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429000" y="1523880"/>
            <a:ext cx="4111560" cy="44197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38080" y="1981080"/>
            <a:ext cx="182880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the key numbers you recei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666880" y="2666880"/>
            <a:ext cx="8384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38080" y="3124080"/>
            <a:ext cx="182880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username and passwo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666880" y="3581280"/>
            <a:ext cx="83844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38080" y="4495680"/>
            <a:ext cx="1828800" cy="119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your correct name, e-mail address and Student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666880" y="4266720"/>
            <a:ext cx="83844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ass Registr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4111560" cy="44193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638680" y="1940040"/>
            <a:ext cx="20574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ccessful accoun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638680" y="3159000"/>
            <a:ext cx="221004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your university and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638680" y="4038480"/>
            <a:ext cx="221004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the admit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276360" y="24382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4038120" y="35053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2285640" y="3962160"/>
            <a:ext cx="33526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2286000"/>
            <a:ext cx="4572000" cy="22860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/Open, choose All Powder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click/Add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click header/Renam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g columns from right ont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click name/set data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8T22:44:22Z</dcterms:created>
  <dc:creator>Jerry Post</dc:creator>
  <dc:description/>
  <dc:language>en-US</dc:language>
  <cp:lastModifiedBy>Jerry Post</cp:lastModifiedBy>
  <dcterms:modified xsi:type="dcterms:W3CDTF">2006-06-22T16:06:56Z</dcterms:modified>
  <cp:revision>14</cp:revision>
  <dc:subject/>
  <dc:title>All Powder Board and Ski</dc:title>
</cp:coreProperties>
</file>