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306-578B-43FC-8677-93B6A796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F0B-7740-4FAA-B722-BAE37295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73A-E388-4B06-8DCF-3742FF27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0D2-277B-47E0-8437-341A0F6F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F396-4DB4-4B36-BE2A-97C27B67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320C-ED23-4F26-BF89-B3427DD1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6221-7C84-4774-BDFC-AC4A2285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2264-6044-48BD-8FE2-1358BFF5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7EB0-1A50-4B46-8258-F1C0897C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A102-553F-4470-AD32-A992099D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F982-48DB-4A96-8C8E-E17C3E6E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E83-3484-4771-A80E-778DA0C5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0040-D63B-42E7-8D5A-62B70224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F09C-8BBC-4AC9-9786-6F19E137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83CD-3ACA-4DD9-BF60-7EDF425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3FF6-EBCB-444A-A850-7D75E2F8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5AC5-6F7F-4FA7-88D0-04C47AE2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376-A286-4C0E-BD31-D3D87F52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FBF-A1EE-4002-9B3F-65F1BAA6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340-FC2C-4889-B4B9-9D49B3E2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32B-5C5C-422C-B0B8-D1D65F0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E95-08F7-4798-88AD-03DBC411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EFD-EC2D-4266-BBCC-60C06234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8E1-F58B-4AB5-BAA7-01DD6C1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7485-AD0F-4145-974F-BB4BBF669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A64-2603-4974-AA40-C88D16FC4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: Integrity an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9F03-587E-4C00-B81A-ECF926DCAE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8120" y="22924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881360"/>
            <a:ext cx="100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960" y="188136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6200" y="22924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0600" y="2292480"/>
            <a:ext cx="8254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720" y="1881360"/>
            <a:ext cx="114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Re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1881360"/>
            <a:ext cx="12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Ac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360" y="1881360"/>
            <a:ext cx="12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2904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9888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9888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888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0120" y="23684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80120" y="25970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10080" y="2298600"/>
            <a:ext cx="81252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79920" y="236844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9920" y="252108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79920" y="267336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0800" y="236844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60800" y="259704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1881360"/>
            <a:ext cx="99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) 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4836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820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820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820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9908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99080" y="2597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7640" y="1881360"/>
            <a:ext cx="14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7) Go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1504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91360" y="2374920"/>
            <a:ext cx="203040" cy="127080"/>
          </a:xfrm>
          <a:prstGeom prst="rect">
            <a:avLst/>
          </a:prstGeom>
          <a:solidFill>
            <a:srgbClr val="ffffe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8488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8488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66120" y="23684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66120" y="25970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5234040"/>
            <a:ext cx="10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560" y="5234040"/>
            <a:ext cx="152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Deac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5160" y="5234040"/>
            <a:ext cx="11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U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81480" y="5651640"/>
            <a:ext cx="81252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51320" y="572148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1320" y="587376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1320" y="602604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32200" y="572148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32200" y="595008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74800" y="5645160"/>
            <a:ext cx="8254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5234040"/>
            <a:ext cx="150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Los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48360" y="5651640"/>
            <a:ext cx="81288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8200" y="57214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8200" y="58737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8200" y="6026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99080" y="57214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99080" y="5950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38520" y="523404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15040" y="5651640"/>
            <a:ext cx="81288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91360" y="5727600"/>
            <a:ext cx="203040" cy="127080"/>
          </a:xfrm>
          <a:prstGeom prst="rect">
            <a:avLst/>
          </a:prstGeom>
          <a:solidFill>
            <a:srgbClr val="ffffe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84880" y="58737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84880" y="6026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66120" y="572148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66120" y="595008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30840" y="129528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3718080"/>
            <a:ext cx="131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1400" y="3718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2520" y="1752480"/>
            <a:ext cx="5639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58480" y="5029200"/>
            <a:ext cx="579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9600" y="4624560"/>
            <a:ext cx="152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ang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9360" y="44956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12952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46640" y="3024360"/>
            <a:ext cx="2465280" cy="1984320"/>
          </a:xfrm>
          <a:custGeom>
            <a:avLst/>
            <a:gdLst/>
            <a:ahLst/>
            <a:rect l="l" t="t" r="r" b="b"/>
            <a:pathLst>
              <a:path w="1553" h="1250">
                <a:moveTo>
                  <a:pt x="1553" y="1231"/>
                </a:moveTo>
                <a:cubicBezTo>
                  <a:pt x="1409" y="1230"/>
                  <a:pt x="897" y="1250"/>
                  <a:pt x="689" y="1215"/>
                </a:cubicBezTo>
                <a:cubicBezTo>
                  <a:pt x="481" y="1180"/>
                  <a:pt x="420" y="1140"/>
                  <a:pt x="305" y="1023"/>
                </a:cubicBezTo>
                <a:cubicBezTo>
                  <a:pt x="190" y="906"/>
                  <a:pt x="0" y="666"/>
                  <a:pt x="1" y="511"/>
                </a:cubicBezTo>
                <a:cubicBezTo>
                  <a:pt x="2" y="356"/>
                  <a:pt x="166" y="178"/>
                  <a:pt x="313" y="95"/>
                </a:cubicBezTo>
                <a:cubicBezTo>
                  <a:pt x="460" y="12"/>
                  <a:pt x="681" y="30"/>
                  <a:pt x="881" y="15"/>
                </a:cubicBezTo>
                <a:cubicBezTo>
                  <a:pt x="1081" y="0"/>
                  <a:pt x="1381" y="9"/>
                  <a:pt x="1513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914400"/>
            <a:ext cx="0" cy="487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CF8-65C6-4018-8040-1017451A7B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Control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24382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8954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33526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38098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242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51814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34080" y="239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33720" y="28954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35160" y="327672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: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337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35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4800" y="51055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41560" y="2514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33880" y="3581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12200" y="1981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6240" y="1981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2670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34440" y="41911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65280" y="2944800"/>
            <a:ext cx="75960" cy="228600"/>
            <a:chOff x="2465280" y="2944800"/>
            <a:chExt cx="75960" cy="228600"/>
          </a:xfrm>
        </p:grpSpPr>
        <p:sp>
          <p:nvSpPr>
            <p:cNvPr id="229" name=""/>
            <p:cNvSpPr/>
            <p:nvPr/>
          </p:nvSpPr>
          <p:spPr>
            <a:xfrm>
              <a:off x="2498400" y="2944800"/>
              <a:ext cx="0" cy="22860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5280" y="294480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65280" y="317340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706840" y="3394080"/>
            <a:ext cx="75960" cy="228600"/>
            <a:chOff x="2706840" y="3394080"/>
            <a:chExt cx="75960" cy="228600"/>
          </a:xfrm>
        </p:grpSpPr>
        <p:sp>
          <p:nvSpPr>
            <p:cNvPr id="233" name=""/>
            <p:cNvSpPr/>
            <p:nvPr/>
          </p:nvSpPr>
          <p:spPr>
            <a:xfrm>
              <a:off x="2739960" y="3394080"/>
              <a:ext cx="0" cy="22860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06840" y="339408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06840" y="362268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E92-0E65-46B5-A27F-02715C6300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2057400"/>
            <a:ext cx="480060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QOH box and buil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AfterUpdat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refresh the row and subtract QuantitySold from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CB6-8C24-4E9E-92BE-5DF27A61B4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rst Attempt: QOH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15238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QuantitySold_AfterUpd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Refre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 Save data for new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OnHand = QuantityOnHand - 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286600" cy="30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F8E-A044-4FEC-BC08-1B08F67BAC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 clerk entered the wrong value and should have entered 1 instead of 2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t, and the code subtracts 1 from the QOH, leaving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add the original 2 units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640" y="4394160"/>
            <a:ext cx="77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OnHand = QuantityOnHand – QuantitySold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9FF-9DB2-4600-902E-67DB6DB4DF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erk Changes SK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94000" y="2592360"/>
            <a:ext cx="1384560" cy="78552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004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0050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2840" y="255096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SKU 950049, Qua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01028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9640" y="26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40160" y="21700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SKU  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920" y="351936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SKU to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070000"/>
            <a:ext cx="4343400" cy="520920"/>
          </a:xfrm>
          <a:custGeom>
            <a:avLst/>
            <a:gdLst/>
            <a:ahLst/>
            <a:rect l="l" t="t" r="r" b="b"/>
            <a:pathLst>
              <a:path w="2736" h="328">
                <a:moveTo>
                  <a:pt x="0" y="328"/>
                </a:moveTo>
                <a:cubicBezTo>
                  <a:pt x="108" y="232"/>
                  <a:pt x="216" y="136"/>
                  <a:pt x="624" y="88"/>
                </a:cubicBezTo>
                <a:cubicBezTo>
                  <a:pt x="1032" y="40"/>
                  <a:pt x="2160" y="0"/>
                  <a:pt x="2448" y="40"/>
                </a:cubicBezTo>
                <a:cubicBezTo>
                  <a:pt x="2736" y="80"/>
                  <a:pt x="2544" y="204"/>
                  <a:pt x="2352" y="3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2952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2590920"/>
            <a:ext cx="3049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3048120"/>
            <a:ext cx="5105520" cy="1307880"/>
          </a:xfrm>
          <a:custGeom>
            <a:avLst/>
            <a:gdLst/>
            <a:ahLst/>
            <a:rect l="l" t="t" r="r" b="b"/>
            <a:pathLst>
              <a:path w="3216" h="824">
                <a:moveTo>
                  <a:pt x="0" y="432"/>
                </a:moveTo>
                <a:cubicBezTo>
                  <a:pt x="472" y="620"/>
                  <a:pt x="944" y="808"/>
                  <a:pt x="1440" y="816"/>
                </a:cubicBezTo>
                <a:cubicBezTo>
                  <a:pt x="1936" y="824"/>
                  <a:pt x="2736" y="616"/>
                  <a:pt x="2976" y="480"/>
                </a:cubicBezTo>
                <a:cubicBezTo>
                  <a:pt x="3216" y="344"/>
                  <a:pt x="3048" y="172"/>
                  <a:pt x="28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3352680"/>
            <a:ext cx="1092240" cy="762120"/>
          </a:xfrm>
          <a:custGeom>
            <a:avLst/>
            <a:gdLst/>
            <a:ahLst/>
            <a:rect l="l" t="t" r="r" b="b"/>
            <a:pathLst>
              <a:path w="688" h="480">
                <a:moveTo>
                  <a:pt x="0" y="480"/>
                </a:moveTo>
                <a:cubicBezTo>
                  <a:pt x="280" y="424"/>
                  <a:pt x="560" y="368"/>
                  <a:pt x="624" y="288"/>
                </a:cubicBezTo>
                <a:cubicBezTo>
                  <a:pt x="688" y="208"/>
                  <a:pt x="536" y="104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5380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58720" y="2627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68760" y="3868560"/>
            <a:ext cx="220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 back to 9500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ract for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93C-E476-4F3A-A2AB-AF4A9AAD65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erk Changes SKU: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523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rk enters original SKU (950049)  and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ubtracts QuantitySold from QuantityOnHand (10 - 2 =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rk changes SKU to new value (9500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row becomes set for new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subtract QuantitySold from QuantityOnHand for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dd QuantitySold back into QuantityOnHand for 9500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4191120"/>
            <a:ext cx="4572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cboSKU_Ent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sNull(cboSKU.Value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SKU = "-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SKU = cboSKU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262-5C89-4C9F-BD45-E6BCD0ECF1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2057400"/>
            <a:ext cx="7315200" cy="1828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View/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d modify the code as specified to handle changes in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105-2600-44D4-B5FD-030F5B20C2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U Changes: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327320"/>
            <a:ext cx="7238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cboSKU_Ent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sNull(cboSKU.Value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SKU = "-1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SKU = cboSKU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cboSKU_AfterUpda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ldSKU &lt;&gt; "-1" And Not IsNull(QuantitySold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OnHand = QuantityOnHand - 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 = "UPDATE Inventory SET QuantityOnHand = QuantityOnHand + "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QuantitySold &amp; " WHERE SKU='" &amp; OldSKU &amp; "'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B38-845A-42AA-99AF-56EEEA5532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1353240"/>
            <a:ext cx="7085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DelQuantity()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DelSKU()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nDel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Form_Delete(Cancel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sNull(cboSKU.Value) Or IsNull(QuantitySold) Then Exit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nDel = 0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im DelQuantity(Me.CurrentVi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im DelSKU(Me.CurrentVi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SKU(nDel) = cboSKU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Quantity(nDel) = 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el = nDel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Form_AfterDelConfirm(Status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i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 = 0 To nDel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OneRow DelSKU(i), DelQuantity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el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719-1EAF-4D59-BDC0-4FD8D5EE54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1542960"/>
            <a:ext cx="5753160" cy="3943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 Sales Ta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44197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8520" y="59436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igure 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19920" y="45720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E3F-526F-49FD-8063-6247B0C723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Cod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20574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DeleteOneRow(ByVal SKU As String, ByVal Qty As 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= "UPDATE Inventory SET QuantityOnHand = QuantityOnHand + "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Qty &amp; " WHERE SKU='" &amp; SKU &amp; "'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CommandText =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832-8823-4869-9302-9C082115A8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2057400"/>
            <a:ext cx="62481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oldSKU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KU event code as descri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in the code before the Execut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 by changing an SKU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sql line before it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delete code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multiple changes to validate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D88-ECB4-47E3-8670-F3C56D472A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3865320" cy="4114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s for Discou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6483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638320" y="48006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54F-63CB-432F-BC03-19E8AA186C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600200" y="1681200"/>
            <a:ext cx="5638680" cy="34956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38760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629400" y="40384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1DF-4ADF-45A9-9167-E0E3244EAF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2133720"/>
            <a:ext cx="533376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Discount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ext boxes and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Rental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open the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open code as in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CF5-33F6-4BB4-A748-09AED569EC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048120" y="1743120"/>
            <a:ext cx="4038480" cy="244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Discoun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133720"/>
            <a:ext cx="175284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 and Amount are filled in by code on  the Rent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962520"/>
            <a:ext cx="17528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default value is set to =N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3623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89548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362320" y="2819160"/>
            <a:ext cx="1447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4454640"/>
            <a:ext cx="3962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unbound form built from design view with no Record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A80-FD1C-4C2A-92E4-49A802FC17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2209680"/>
            <a:ext cx="5181840" cy="1371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Rental Discount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button click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FC9-7127-4903-AA70-2F91D71538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ntal Form Code: Discount Butt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3716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cmdDiscount_Cli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rror GoTo Err_cmdDiscount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tDocName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tLinkCriteria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ocName = "GiveRentDiscou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stDocName, , , stLink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!GiveRentDiscount!txtRentID = 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!GiveRentDiscount!txtDiscountAmount = SubTotal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_cmdDiscount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_cmdDiscount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gBox Err.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Exit_cmdDiscount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84F-CF17-4DBB-962D-3CC407FC8E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905120"/>
            <a:ext cx="83818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cmdDiscount_Cli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SQL1 As String, SQL2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1 = "UPDATE RentItem SET RepairCharges=0 WHERE RentID=" &amp; txtRent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2 = "INSERT INTO RentalDiscount (RentID, DiscountDate, DiscountAmount, Reason)"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VALUES (" &amp; txtRentID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#" &amp; txtDiscountDate &amp; "#"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" &amp; txtDiscountAmount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'" &amp; txtReason &amp; "'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AEA-1383-478A-ADE4-059EC9904F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Code Continu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600200"/>
            <a:ext cx="7772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rror GoTo Err_Discount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Begin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Commit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lMessage.Caption = "Changes recorded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_DiscountTra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Rollback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lMessage.Caption = Err.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me Exi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59E-263B-4F03-BE9F-7E54815942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286000"/>
            <a:ext cx="4419360" cy="2057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top add: Option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function Compute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ebug/Compile to fi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440-ABAE-44FE-B3B0-59922242AA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1981080"/>
            <a:ext cx="617220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 and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SaleWeek: Val(Format([SaleDate],”ww”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Value: [QuantitySold]*[SalePric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0EF-2685-41D6-B8DB-80481F2AAE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971720" y="1857240"/>
            <a:ext cx="5200560" cy="3143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Cursor: Weekly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93920" y="5110200"/>
            <a:ext cx="3149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(Format([SaleDate],”ww”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733920" y="389052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BC4-3BAD-47D5-AE3D-6151A2D204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617220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named txt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nd step through the code as it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E83-758A-4FD6-91C5-2990D273A2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rm to Compute Average Incre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705040" y="2338560"/>
            <a:ext cx="3733920" cy="21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520-CAE5-45C9-A796-6E700DCD3C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de to Compute Average Incre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129528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= "SELECT SaleWeek, [Value] FROM qryWeeklySal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Open SQL, CurrentProject.Connection, adOpenStatic, adLockRead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avg1 As Double, n As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prior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Until rst.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prior &gt; 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= avg1 + (rst("Value") - prior) / p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= rst("Valu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Move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txtAverage = avg1 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3048120"/>
            <a:ext cx="3581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QL statement 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7242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65760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he first week because there is no pri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47760" y="3962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38680" y="44956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percent change and keep a running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419720" y="4419720"/>
            <a:ext cx="1218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19920" y="5334120"/>
            <a:ext cx="2895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current value and move to the nex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124080" y="5257800"/>
            <a:ext cx="2895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854-DE1B-4C2C-9B7F-CAA0773660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ys: Create Sales and Items (barcod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8120" y="18651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D card is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8120" y="22654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7040" y="2665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78120" y="306540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 item, update QOH and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9200" y="3465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until done (payment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4600" y="2895480"/>
            <a:ext cx="622080" cy="762120"/>
          </a:xfrm>
          <a:custGeom>
            <a:avLst/>
            <a:gdLst/>
            <a:ahLst/>
            <a:rect l="l" t="t" r="r" b="b"/>
            <a:pathLst>
              <a:path w="392" h="480">
                <a:moveTo>
                  <a:pt x="392" y="480"/>
                </a:moveTo>
                <a:cubicBezTo>
                  <a:pt x="204" y="424"/>
                  <a:pt x="16" y="368"/>
                  <a:pt x="8" y="288"/>
                </a:cubicBezTo>
                <a:cubicBezTo>
                  <a:pt x="0" y="208"/>
                  <a:pt x="172" y="104"/>
                  <a:pt x="3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40600" y="2286000"/>
            <a:ext cx="1297800" cy="36828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40960" y="3048120"/>
            <a:ext cx="3024360" cy="36828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ID, SKU,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B58-4794-48E3-B9B6-002A3D5F6D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1828800"/>
            <a:ext cx="579132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oxes for CustomerID, EmployeeID, SKU, and txtSaleID as the generate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mmand button and add the indic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t the top of the code and step through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503-596C-491A-8FF0-1179EB372C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3600360" cy="2305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1943280"/>
            <a:ext cx="342900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s and SKU would be scanned, but to test code, set defaul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038480" y="255276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255276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191120" y="255276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B1C-7B1F-499C-83ED-EEF9BA42E6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38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Sale As String, sqlItem As String, sqlSaleItem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Sale As ADODB.Recordset, rstModel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SaleItem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Sale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Model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SaleItem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Sale = "SELECT SaleID, CustomerID, EmployeeID, SaleDate FROM Sa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Item = "SELECT ModelID, ListPrice FROM Inventory INNER JOIN “ &amp;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 ON Inventory.ModelID = ItemModel.ModelID “ &amp;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'" &amp; SKU &amp; "'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SaleItem = "SELECT SaleID, SKU, SalePrice, QuantitySold FROM SaleIte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cnn As ADODB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nn = CurrentProject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E1B-374B-44C6-97D5-71B3DBA83A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1600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Get the List Price for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Model.Open sqlmodel, cnn, adOpenStatic, adLockRead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ListPrice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Price = rstModel("ListPric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Model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Open the Sale table and create a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Open sqlSale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aleID As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Add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SaleDate") =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CustomerID") =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EmployeeID") = 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ID = rstSale("SaleID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AC7-9DC7-47EA-AAD2-E1EC94B4F9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38400" y="1428840"/>
            <a:ext cx="683892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ccess Code Mo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7052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66680" y="38671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581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29200" y="19620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066680" y="3561840"/>
            <a:ext cx="2667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508644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105520" y="462924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122-6D29-4BF3-A061-A14ECF7B72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9051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Add the SKU to the SaleItem table using the new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Open sqlSaleItem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tSaleItem("SaleID") =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SKU") =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SalePrice") =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QuantitySold"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tSaleID =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B1F-FDC2-48F2-B590-48B9935075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1905120"/>
            <a:ext cx="5562720" cy="1904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 to select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enter a new ZIP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utton and add the indicated code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5A6-A4BE-4AF9-8531-A7CC6F22387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3924360" cy="21812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k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342900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 to select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657600" y="32004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E48-CD33-4F43-9AB3-C598187A393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2057400"/>
            <a:ext cx="624852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ustomerLocks form as a datasheet into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 ZIP Code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the new form and run it for the same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 and press the Tab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CA3-FB5F-4F11-A30F-8DBF5196C9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Lock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062160" y="2138400"/>
            <a:ext cx="3019680" cy="258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308-C07A-4E61-91D2-7976A85809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629080" y="1371600"/>
            <a:ext cx="3924000" cy="47530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timistic Lock on th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2895480"/>
            <a:ext cx="2692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ZIP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32004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1981080"/>
            <a:ext cx="2692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customer, enter a ZIP code and chang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952520" y="22096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876920" y="23623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95252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373392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back here and Tab out of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5867280" y="41144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50292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 that value wa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590920" y="50292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AD0-FD7D-46A0-BAA1-029243A485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1981080"/>
            <a:ext cx="54864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view on the change form and add the specified error-handl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ustomerLocks form in Design view and set the Record Locks property to Edited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bo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 ZIP Code in Customer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ew ZIP Code in the change form for the sam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BC4-069E-41A9-9309-E027CCCF3D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886120" y="1523880"/>
            <a:ext cx="3286080" cy="453888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ssimistic Lock on For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3962520"/>
            <a:ext cx="2692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ZIP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1981080"/>
            <a:ext cx="2692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customer, enter a ZIP code and chang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00400" y="4191120"/>
            <a:ext cx="2133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800600" y="22856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800600" y="24382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2438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3352680"/>
            <a:ext cx="19051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 is not made and the error is trapped because the row i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5257800" y="3733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A54-FB16-4055-AABF-CD019538B4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andle Optimistic Locks i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160020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yUp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Open SQL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("ZIP") = New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_cmdNewZipCode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_cmdNewZipCode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MsgBox(Err.Description, vbRetryCancel) = vbCancel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Exit_cmdNewZipCode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Re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Retry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BDC-436B-4617-BBB8-EDC36B4D56A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981080"/>
            <a:ext cx="6553440" cy="24386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SalesTax box and select the Build Code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nte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line: SalesTax = ComputeSalesTax(Sub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alesTax box to test th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E8C-7025-41F2-978A-16A868E638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195960" cy="4443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 Event Code to the Sales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4952880"/>
            <a:ext cx="1904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Buil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25744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281952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Ente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0960" y="266652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81120" y="304812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392112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the new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181120" y="3962520"/>
            <a:ext cx="16765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6DF-B4E1-4AC3-B269-E4D9C41DA6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81000" y="1663560"/>
            <a:ext cx="6486480" cy="4051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72428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 break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86000" y="4723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2952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8 to step through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267080" y="15238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5105520"/>
            <a:ext cx="26668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 the cursor over a variable to see its curr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962520" y="48002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D0A-E3C4-4BB9-808E-4571BE3918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2133720"/>
            <a:ext cx="50292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form properties and modify the Record Source query to add the QuantityOnHan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Field Lis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QuantityOnHand onto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improve th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92B-AEAE-46D4-B795-3183909975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1833480"/>
            <a:ext cx="5572080" cy="4262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ing QuantityOnHand to Sub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66688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s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29718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81080" y="22093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60020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query to add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866920" y="19051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403848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QOH from Field List box on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48520" y="38098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800600" y="434340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6CF-1E38-428A-B5F1-D2FC94A337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8:40Z</dcterms:modified>
  <cp:revision>60</cp:revision>
  <dc:subject/>
  <dc:title>All Powder Board and Ski</dc:title>
</cp:coreProperties>
</file>