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B87-4CE7-4B36-883E-33883B91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36B-2542-4F56-B1EF-B4F39AB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0D8-FB20-4E63-9870-8EF4E405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227-414A-46A3-8704-CC155585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ED9-06AB-45D1-B834-AB994B08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343-788F-4FC6-950B-1C4B546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C78-DC74-48EC-AC66-ADD12F9A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DC1F-C5C9-4870-BDB7-6D1512D6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A220-55BF-4C21-922D-3B944F25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613C-0DE3-4BFF-A130-ADC7571B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F533-ED0A-4906-AB79-ED1FA58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656-A8FD-4A9A-9CB6-50CCEEA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87EF-09F4-449E-B43C-2427F67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2F8-D734-47D7-89F9-DA26829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9DFC-7895-44C3-8768-8178AE41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FD52-BB18-48C6-827F-897F35CE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EB4B-7E72-4127-8DED-32420F1F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F15-9C4F-4392-B706-A683D04F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B9D-C8C9-4A29-987F-9A785573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1DC-A62B-4CBC-AC81-5F90DCC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809-B48A-41D8-A7D5-379C6BF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0AA-B951-4CF6-8D84-8F2E2C1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0B7-A26B-407D-A6ED-F96EB6D9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0F6-AECD-40C8-8BD9-1A1C957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003-A064-425B-9187-1B4720E85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EFD8-E7F8-437F-B29D-7571A05AE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074-8C08-4903-9775-B0D9A07B3F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00040" y="1425600"/>
            <a:ext cx="5838840" cy="2908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95680" y="2209680"/>
            <a:ext cx="3352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and pric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24280" y="2590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38680" y="25909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0040" y="4419720"/>
            <a:ext cx="5562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 conditions must hold, so only one row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0040" y="4876920"/>
            <a:ext cx="599148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736-A443-4675-8774-2DC924103A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52520" y="1162080"/>
            <a:ext cx="5962680" cy="3270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2200320"/>
            <a:ext cx="3809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riteria row for re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57640" y="25812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52520" y="4486320"/>
            <a:ext cx="5962680" cy="16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FC9-BA8C-4C06-895E-D10DC7F4C2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Ver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22280"/>
            <a:ext cx="8153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Color, ItemModel.ItemMaterial, ItemModel.Style, ItemModel.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ItemModel.Color)="Yellow") AND ((ItemModel.ItemMaterial)="Composite") AND ((ItemModel.Style)="Jump") AND ((ItemModel.ListPrice)&lt;300)) OR (((ItemModel.Category)="Ski") AND ((ItemModel.Color)="Red") AND ((ItemModel.ItemMaterial)="Composite") AND ((ItemModel.Style)="Jump") AND ((ItemModel.ListPrice)&lt;40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416480"/>
            <a:ext cx="80773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Ski" AND ItemMaterial="Composite" AND Style="Jump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 ( Color="Yellow" AND ListPrice&lt;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(Color="Red" AND ListPrice&lt;400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399-7160-4CE4-B28F-CD60B0543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00360" y="1447920"/>
            <a:ext cx="4752720" cy="269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19810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9810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33920" y="2362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3623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45244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65C-8689-4F81-BE45-1315B0C359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905120"/>
            <a:ext cx="7391520" cy="30477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, SaleDate, CustomerID, and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s for Cash 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Show Table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1AA-8D7F-4920-9E37-33C3010123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734080" cy="3029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3880" y="3886200"/>
            <a:ext cx="5724720" cy="2219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133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14800" y="2514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23920" y="2514600"/>
            <a:ext cx="381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E6F-A307-4A0B-811C-BF93FB5FE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200988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aleID, Sale.SaleDate, Sale.CustomerID, Customer.LastName, Customer.FirstName, Sale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Sale.SaleDate Between #5/1/2004# And #5/31/2004# AND Sale.PaymentMethod="Cas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657-4EC2-4B31-981F-27E4AD720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128680"/>
          <a:ext cx="6933960" cy="1699920"/>
        </p:xfrm>
        <a:graphic>
          <a:graphicData uri="http://schemas.openxmlformats.org/drawingml/2006/table">
            <a:tbl>
              <a:tblPr/>
              <a:tblGrid>
                <a:gridCol w="3112920"/>
                <a:gridCol w="382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“Atomic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1/1/2004 AND 2/29/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“Sk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49760" y="2286000"/>
            <a:ext cx="2934000" cy="2073240"/>
          </a:xfrm>
          <a:custGeom>
            <a:avLst/>
            <a:gdLst/>
            <a:ahLst/>
            <a:rect l="l" t="t" r="r" b="b"/>
            <a:pathLst>
              <a:path w="1848" h="1306">
                <a:moveTo>
                  <a:pt x="968" y="0"/>
                </a:moveTo>
                <a:cubicBezTo>
                  <a:pt x="1088" y="79"/>
                  <a:pt x="1588" y="308"/>
                  <a:pt x="1688" y="476"/>
                </a:cubicBezTo>
                <a:cubicBezTo>
                  <a:pt x="1788" y="644"/>
                  <a:pt x="1848" y="873"/>
                  <a:pt x="1567" y="1011"/>
                </a:cubicBezTo>
                <a:cubicBezTo>
                  <a:pt x="1286" y="1149"/>
                  <a:pt x="326" y="1245"/>
                  <a:pt x="0" y="13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819520"/>
            <a:ext cx="2298960" cy="2361960"/>
          </a:xfrm>
          <a:custGeom>
            <a:avLst/>
            <a:gdLst/>
            <a:ahLst/>
            <a:rect l="l" t="t" r="r" b="b"/>
            <a:pathLst>
              <a:path w="1448" h="1488">
                <a:moveTo>
                  <a:pt x="672" y="0"/>
                </a:moveTo>
                <a:cubicBezTo>
                  <a:pt x="908" y="136"/>
                  <a:pt x="1153" y="266"/>
                  <a:pt x="1248" y="432"/>
                </a:cubicBezTo>
                <a:cubicBezTo>
                  <a:pt x="1343" y="598"/>
                  <a:pt x="1448" y="821"/>
                  <a:pt x="1240" y="997"/>
                </a:cubicBezTo>
                <a:cubicBezTo>
                  <a:pt x="1032" y="1173"/>
                  <a:pt x="258" y="1386"/>
                  <a:pt x="0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0E4-3FD7-4239-A4CB-2EC96C680B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48760" cy="2919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143000" y="4495680"/>
            <a:ext cx="6553080" cy="9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94F-0946-4F74-92D5-9351A5C865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Many Table Joi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0512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ItemModel.Category, Manufacturer.Name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nufacturer INNER JOIN (ItemModel INNER JOIN (Inventory INNER JOIN ((Customer INNER JOIN Sale ON Customer.CustomerID = Sale.CustomerID) INNER JOIN SaleItem ON Sale.SaleID = SaleItem.SaleID) ON Inventory.SKU = SaleItem.SKU) ON ItemModel.ModelID = Inventory.ModelID) ON Manufacturer.ManufacturerID = ItemModel.Manufactur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Manufacturer.Name)="Atomic") AND ((Sale.SaleDate) Between #1/1/2004# And #2/29/2004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9F4-B322-40D9-97D6-03C9B0556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8A9-8B01-4029-A877-4F0348E32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1981080"/>
            <a:ext cx="579096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Category, ItemMaterial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Profit: [ListPrice]-[Co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DE8-E4EC-40A7-BEB1-C834253D75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5029200" cy="2855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25960" y="2514600"/>
            <a:ext cx="3575160" cy="3591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2743200"/>
            <a:ext cx="762120" cy="3200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ItemMaterial, ListPri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Price-Cost AS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ategory, ListPric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286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1E1-E650-449D-91A7-628CD307CE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1447920"/>
            <a:ext cx="579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days, months, years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38E-8D3C-4E5F-9CCA-DB56699915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2505240"/>
            <a:ext cx="4019400" cy="3590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2819520"/>
            <a:ext cx="838080" cy="304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29000" y="1709640"/>
            <a:ext cx="5048280" cy="27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9A7-157D-4FD6-8D81-BA3F061E1B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057400"/>
            <a:ext cx="716256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LateDate: [SaleDate]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new column as LateMonth: DateAdd(“m”,1,[SaleDat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4E3-B6CC-4B1A-A637-BA00047F00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857920" cy="302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eAdd and DateDiff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18288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one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22096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429000" y="3898800"/>
            <a:ext cx="4524480" cy="250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8120" y="220968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81120" y="220968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E17-7169-46F7-A2C0-67F13EB547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05120"/>
            <a:ext cx="586764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Where” for Total row i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“CA” as a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C79-A17D-43F5-81D3-4904CCEA4E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589040"/>
            <a:ext cx="6324840" cy="4735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5112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593360" y="3733920"/>
            <a:ext cx="2133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89360" y="31240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s button adds the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2360" y="4419720"/>
            <a:ext cx="2361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117960" y="47242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2895480"/>
            <a:ext cx="190476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,33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14C-F567-4B02-9FCD-BCC1C4B710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90512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1FC-EB2E-4EC3-9367-7F6C70F5C6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1981080"/>
            <a:ext cx="525780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513-EF80-4F71-8FFB-C3F38B5E6A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286000"/>
            <a:ext cx="533412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File/Get External Data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to the appropriate csv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mma de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box to include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table matches the file, check the box to read into an exis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076-BBEB-4217-BFA6-C96A2B800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4648320" cy="3448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4638600" cy="3029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76560" y="28954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980720" y="2819520"/>
            <a:ext cx="3962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19810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produces subtotals for all values in the specifi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DEF-2B6F-4361-89EA-D29F5FEA9B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2860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hipState,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ale.ShipS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ECE-775C-459B-8344-28B0E6316F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3124080"/>
            <a:ext cx="129564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96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64832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[QuantitySold]*[SalePrice]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58136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9B4-E35E-4BE4-97B6-8522C66DFE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1771560"/>
            <a:ext cx="462888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e/Get External Data/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4290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files include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19520" y="3124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82880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 delimited is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209680"/>
            <a:ext cx="2590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72428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columns are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373356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733560"/>
            <a:ext cx="2362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D6A-3F38-449F-93D4-531782C8A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3600" y="1531800"/>
            <a:ext cx="5033880" cy="4106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rt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1240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27672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0574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ab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562720" y="20570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90960" y="22860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fields/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62320" y="3886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2578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7400" y="43430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057400" y="2819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765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or view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2057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09680" y="2057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DE2-402B-472D-90C5-DFE4F186E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286000"/>
            <a:ext cx="586728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 for Category, ListPrice, WeightMax, Color,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nditions for Board, ListPrice, and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984-9D2B-4280-945E-855BC1669C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625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isplay snowboards with a list price under $300 and max weight over 150 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34340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ListPrice, ItemModel.WeightMax, ItemModel.Color, ItemModel.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Board") AND ((ItemModel.ListPrice)&lt;300) AND ((ItemModel.WeightMax)&gt;15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14800" cy="220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4828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679-62B0-48EB-9FDF-EBFD773156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209680"/>
            <a:ext cx="48006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Category, Color, ItemMaterial, Style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eques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A96-143B-4346-83C3-1496D089E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000480" cy="2981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9360" y="1407960"/>
            <a:ext cx="34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for jum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or Yellow ma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skis must be under $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kis must be under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581280"/>
            <a:ext cx="2667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819520" y="39625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96252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202-0E6C-4D09-B862-7F2DBC3C6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7:31Z</dcterms:modified>
  <cp:revision>32</cp:revision>
  <dc:subject/>
  <dc:title>All Powder Board and Ski</dc:title>
</cp:coreProperties>
</file>