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5A81-C323-4D75-8F77-E1C032E9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4F2-4977-4780-99D8-392C06DF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54D-A08F-4C41-8232-9841BF3D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E80-645B-442F-9859-03AE0BFE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2A9B-930F-4BC0-8B35-1D1F7943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62AD-88FC-4C36-A3AF-277BD0A3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0B01-0D6B-4A13-B574-8C3B7A69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9667-216B-4A0B-900C-A7E9A0E5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B34D-BFB9-4209-B910-723048AE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3DDC-4F18-4F3D-A447-94CD37A9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C2E7-FDFD-4F8F-B10E-8CBF224A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4E6-EDFF-4389-A7FB-6E06DFF5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BE40-501F-4CDD-B29E-9C88B1F5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B75F-0E2D-4776-B1FD-B665A121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3246-9913-44E2-A92F-40E95F20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323A-4F9C-4EFE-A43F-19A6EF8E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5E94-92D6-42F3-9115-18DC5466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836C-BDC1-4C3F-99AF-D3471328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3C8-C15F-45D4-AFD5-21196239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C2B-1FF5-4FF8-8AE5-CEB4E009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80A6-A5E7-470B-B47D-035BCD07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8D5-726C-4DEE-8035-492D539C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854-372F-4AC2-88F8-EB9ABA0A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743D-1054-415E-88F8-3300D0A3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8E3E-E31E-4135-BC09-86570287BB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5F43-3C79-481C-B46F-52DB7B9C2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9: Data Warehouses and Data 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FEEC-C066-452A-8F2D-56AA680AE5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sert Model Data into ItemMod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05740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ItemModel (ModelID, ManufacturerID, Category, Color, ModelYear, Graphics, ItemMaterial, ListPrice, Style, SkillLevel, WeightMax, WaistWidth, BindingSty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qryOldModels.ModelID, qryOldModels.ManufacturerID, qryOldModels.Category, qryOldModels.Color, qryOldModels.ModelYear, qryOldModels.Graphics, qryOldModels.ItemMaterial, qryOldModels.ListPrice, qryOldModels.Style, qryOldModels.SkillLevel, qryOldModels.WeightMax, qryOldModels.WaistWidth, qryOldModels.Binding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qryOldMode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22F-B3AA-4001-92B1-96950F9E17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SKU Data into 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2845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Inventory (ModelID, SKU, Size, QuantityOnH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qryOldInventory.ModelID, qryOldInventory.SKU, qryOldInventory.Siz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As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qryOldInvento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3886200"/>
            <a:ext cx="32763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e use of the column alias to force a zero value for QuantityOnHand for each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114440" y="32000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619-4A5A-489C-9B71-87AF6EAAAD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Sales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828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s (SaleID, SaleDate, ShipState, ShipZIP, PaymentMeth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Sales.SaleID, OldSales.SaleDate, OldSales.ShipState, OldSales.ShipZIP, OldSales.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368520"/>
            <a:ext cx="32767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if you have added data to your Sales table, your existing SaleID values might conflict with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3368520"/>
            <a:ext cx="32763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solve the problem by adding a number to these values so they are all larger than your highes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8006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s (SaleID, SaleDate, ShipState, ShipZIP, PaymentMeth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Sales.Sale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ldSales.SaleDate, OldSales.ShipState, OldSales.ShipZIP, OldSales.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6B3-95AC-4FE4-9CEA-21435D9BA0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SaleItem Ro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057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Item (SaleID, SKU, QuantitySold, 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Sales.Sale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ldSales.SKU, OldSales.QuantitySold, OldSales.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3809880"/>
            <a:ext cx="327636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transformed the SaleID in the prior step for the Sale data, you must do the exact same calculation for SaleID in the SaleItem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876920" y="266652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98B-A146-42AC-90B6-0AB0F2EBB9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1905120"/>
            <a:ext cx="6553080" cy="21333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Sale, SaleItem, Inventory, ItemModel,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ShipState, PaymentMethod, SaleMonth with a format of “yyyy-mm”, and Value = QuantitySold*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Val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query and sav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05F7-8D97-4044-9E9F-AC8ED095F2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67520" cy="3048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for Pivot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5334120"/>
            <a:ext cx="3810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all desired sale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676520" y="39625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5369040"/>
            <a:ext cx="2286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Value as quantity times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162920" y="3581280"/>
            <a:ext cx="3045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4572000"/>
            <a:ext cx="2743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SaleDate as year and month: yyyy-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05520" y="3581280"/>
            <a:ext cx="152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676520" y="3962520"/>
            <a:ext cx="14475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ABA-0B4A-4589-AC69-1F97D224E0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ivotTable Form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57680" y="2128680"/>
            <a:ext cx="3429000" cy="26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0B25-E254-4409-8273-13719B3337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1828800"/>
            <a:ext cx="6400800" cy="388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Insert/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utoForm: Pivo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saved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SaleMonth and drop it on the column fields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Category and ShipState fields and drop them on the row fields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Value field and drop it in the middle Detai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other fields and drop them at the top as filter fields for futur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oll the main grid to the f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the Value field in the Totals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D61-4F3A-4B70-95F9-82A32B50F7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47880" y="1752480"/>
            <a:ext cx="7143840" cy="39942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ivotTable Scre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236232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columns (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159000"/>
            <a:ext cx="21333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rows (State, Categ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47242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Value 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562720" y="3047760"/>
            <a:ext cx="17524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200040" y="23623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4495680" y="3504960"/>
            <a:ext cx="2819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133360" y="30481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243828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ther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52388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486400" y="4876920"/>
            <a:ext cx="1828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114800" y="4114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101-3FF0-4CF7-9EA5-55F9105718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981080"/>
            <a:ext cx="7010640" cy="3276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quarterly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first month and right click on the third month to highlight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and select the Group/Group Items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on the new cell SaleMonth1 and change its Caption property to 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on the Group1 cell and set its caption to 2001-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the process for all 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similar process to group the fou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Collapse option to reduce the grid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46B-27A0-4770-A0B8-386DF64071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ired Sales Cube Dimens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18288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(sh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ding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Ma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Materi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stWid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5864-409D-4920-989C-F619B9F700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47960" y="2187720"/>
            <a:ext cx="6815160" cy="3603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ivot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590920"/>
            <a:ext cx="144792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o select all columns and choose  Hide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905120" y="2819160"/>
            <a:ext cx="12189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D76-B105-4CEB-9729-8EB32E0BD2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ivotTable Grou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677280" cy="40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A5A-8C61-4613-8931-F393C3E484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1828800"/>
            <a:ext cx="647712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Excel 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ata/PivotTable and Pivot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External data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Get Data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 to your database and select the query built in the previou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ivotTable with the SaleMonth field as rows, the Category field as columns and Value as the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BB8-DB31-4121-A199-95F44E1329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1752480"/>
            <a:ext cx="678168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on the PivotTable and select the PivotChart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ivotChart worksheet remove all categories except Boards, Skis, Boots, and 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o set the Chart Type as a Lin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each series and Add Tren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linear trend and forecast it for 3 periods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roperties to improve the chart’s 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F76-FF08-4022-B986-EF0D7D36A8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2133720"/>
            <a:ext cx="5181840" cy="2286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Data Analysis Add-Ins are installed in Excel (Tools/Add-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ools/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-Test Two-sample with unequal vari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the Board and Ski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6042-735B-4370-BAA2-43FDDEA2EC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ime Series Analysis: Exc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66800" y="1523880"/>
            <a:ext cx="7610400" cy="473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F56-9495-4F95-A6F6-E861CB60A9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1828800"/>
            <a:ext cx="5562720" cy="3352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have Microsoft Map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 new Excel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ivotTable with rows for ShipState and columns for Board, Boots, Clothes, and S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econd worksheet that copies the main data and titles from the PivotTable without the first title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MapPoin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wizard instructions to add a North American map with pie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72A-2FE7-4DBE-ABD6-897315BE9C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61920" y="1447920"/>
            <a:ext cx="5133960" cy="477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IS: Microsoft MapPoi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243828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votTable places the data into rows and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5562720"/>
            <a:ext cx="3504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ynamic copy of this sheet is used to remove the top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19520" y="609588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3428640" y="25905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F374-A226-4A5C-B797-3BAD85449E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pPoint Data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886200" cy="39211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388620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BCE-B644-4AA5-9168-2DDC19BC88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IS Analysis of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00120" y="1371600"/>
            <a:ext cx="5967360" cy="494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4DC-EADC-4ACF-B4D8-F860B55271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arly Data: Spreadshee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6172200" cy="3399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6334200" cy="348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F7B-BEE4-4543-B368-AC15C6CD5B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1752480"/>
            <a:ext cx="7010640" cy="3353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database command File/Get External Data/Import to read the demographic spreadshee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query to combine the sales data by state with the demograph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and paste the three columns of data into a new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xcel, choose Tools/Data Analysis/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Value column as the Y-range and the population and income columns as the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top row as label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AC0-BF93-4DBC-8F49-1659388342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by State for Regres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541008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some states are missing from the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814400" y="1905120"/>
            <a:ext cx="5515200" cy="304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CF6-68E1-4A70-803B-B6F796AF547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28760" y="1371600"/>
            <a:ext cx="5010120" cy="49197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gression Set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572000"/>
            <a:ext cx="3276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ould include the label row but be sure to check the box to show you include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057400" y="365760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C4BE-9033-4749-91E1-0761E7CD15D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780240" cy="27813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gression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2057400"/>
            <a:ext cx="2743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high R-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0400" y="220968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5029200"/>
            <a:ext cx="3048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is a significant predictor, incom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419360" y="46483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952880" y="4648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E82-EC19-4D67-A7CD-1050AB0CB7B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1981080"/>
            <a:ext cx="4800600" cy="19814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File/Get External data/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Sales spreadsheet into a new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Rental data into another new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entries for CustomerID and EmployeeID equal to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5410-8497-49C0-9C0A-F7B09D4BDC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Customer and Employe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636560"/>
            <a:ext cx="763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 and EmployeeID are missing from the ol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relying on blank cell values, create a new customer called “Walk-in” and a new employee called “Employe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down the ID numbers generated for these anonymous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use SQL, you can assign a value of zero to these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429000"/>
            <a:ext cx="5715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Customer (CustomerID, La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0,'Walk-in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4343400"/>
            <a:ext cx="5791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Employee (EmployeeID, La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0,'Staff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478-2946-4F5B-84D3-381E6CB4F4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tract Model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449568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ldSales.ModelID, OldSales.ManufacturerID, OldSales.Category, OldSales.Color, OldSales.ModelYear, OldSales.Graphics, OldSales.ItemMaterial, OldSales.ListPrice, OldSales.Style, OldSales.SkillLevel, OldSales.WeightMax, OldSales.WaistWidth, OldSales.Binding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067440" cy="292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6FE-DE15-4C27-A9B3-DEDDAE4C99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2057400"/>
            <a:ext cx="5486400" cy="1905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ISTINCT data from the new sales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ISTINCT data from the new renta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the two queries with a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EDB-D918-4B15-ABDC-61F4DFBBFA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ION Query for Mod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828800"/>
            <a:ext cx="6324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ManufacturerID, Categor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ManufacturerID, Categor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906-B1EA-4666-89EB-08B6885996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905120"/>
            <a:ext cx="6629400" cy="3352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that retrieves DISTINCT values from the saved UNION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at it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n INSERT INTO statement above the SELECT statement to copy the data to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similar process to add SKU, ModelID, and Size to the Inventor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a similar process to copy the Sales, Rental, SalesItem, and RentalItems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993-3BA4-4A89-88A2-55D991C79C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2T16:09:01Z</dcterms:modified>
  <cp:revision>70</cp:revision>
  <dc:subject/>
  <dc:title>All Powder Board and Ski</dc:title>
</cp:coreProperties>
</file>