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10B-ABF3-45A0-A96E-D57B0B7A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BC9-E388-40CC-9081-A2F8AB65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E09-A858-4344-8FC9-CFAA3A80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F61-3D8A-415D-9B1C-5927F1E6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5127-3CF1-409B-9E73-DA944F26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386D-1E04-484B-BB06-E461ADEB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8959-7266-4C8A-A878-2264E31F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44EC-CD9D-4EDF-87C9-B3AF6379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5326-AE56-4E3D-83C7-677E169A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D72D-855E-4BF8-A8AF-0DCE476C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1A1D-6FE8-47FC-909B-CFF6B60A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50E-DA64-4C69-8D13-A3E3C726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3E52-1DCA-4E8C-85C5-2A84D62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1566-C3D4-4BB8-87F5-FEBEAA5E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6FA2-6E3C-45B9-A224-844AE4E0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CA64-BBBA-47DC-BB30-7C1298F2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2EF0-6D51-46A5-91AA-54383765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710-2219-485A-B575-CBAD0773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736-C28A-4DA4-842F-AFA0FD95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54E-8045-4B62-948F-90714358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A9C-9D37-453A-9548-F587F1D9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887-68A6-4CD3-87CA-A92D3DE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87A-84C8-44EA-8CE7-30BE9A8C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345-8DF0-45BC-9936-7F1762B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8F8E-5B5C-4F1D-AFBF-3F78B8F8B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438E-5785-43A9-AD8C-EA872C70F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: Form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8AE4-DC7D-4BF5-AD64-24BBAF438E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Gri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00320" y="2100240"/>
            <a:ext cx="47433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355-3C09-4C79-ADFE-AA72754E6A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2209680"/>
            <a:ext cx="4648320" cy="2133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SkiBoard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Datasheet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114-7148-45F4-A1BB-D9C39D432F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4629240" cy="3495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rid Form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9920" y="358128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heet style is simpler than Ta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13372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style has more desig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251460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723920" y="3123720"/>
            <a:ext cx="1295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F18-1CA2-460B-82A7-1AE338D802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828800"/>
            <a:ext cx="6629400" cy="3809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form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box for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lookup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ProductCatego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Category and CategoryDescription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lumn wid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ategor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value into the Categor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the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tab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1D8-D820-44B5-AE40-50CF61C8B3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43200" y="1916280"/>
            <a:ext cx="5395680" cy="4103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 a Combo Bo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502920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819520" y="48006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274320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477120" y="312408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14800" y="3124080"/>
            <a:ext cx="27432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624-E56A-45BD-84E9-B1E3838BA6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628880" cy="32482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bo Box Ro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5029200"/>
            <a:ext cx="2590920" cy="11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Board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5410080"/>
            <a:ext cx="251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hi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2286000"/>
            <a:ext cx="21337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266688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276720"/>
            <a:ext cx="12193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4114800"/>
            <a:ext cx="3289320" cy="1828800"/>
          </a:xfrm>
          <a:custGeom>
            <a:avLst/>
            <a:gdLst/>
            <a:ahLst/>
            <a:rect l="l" t="t" r="r" b="b"/>
            <a:pathLst>
              <a:path w="2072" h="1152">
                <a:moveTo>
                  <a:pt x="1200" y="0"/>
                </a:moveTo>
                <a:cubicBezTo>
                  <a:pt x="1636" y="192"/>
                  <a:pt x="2072" y="384"/>
                  <a:pt x="1872" y="576"/>
                </a:cubicBezTo>
                <a:cubicBezTo>
                  <a:pt x="1672" y="768"/>
                  <a:pt x="836" y="960"/>
                  <a:pt x="0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55960" y="17524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34840" y="5141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458-85D2-4A08-BAC7-594A7FBA95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66680" y="1492200"/>
            <a:ext cx="5853240" cy="4451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bo Box Run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96064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562720" y="311292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372276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867280" y="39513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502920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sen value is transferred t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343400" y="3733560"/>
            <a:ext cx="380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2EB-F16E-45B7-BD30-44B7B2C20B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1828800"/>
            <a:ext cx="624852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table,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able use name, phone, and e-mai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table, use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table, all columns except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odel table, use Category, ModelID, and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wizard and 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6C1-C8CE-4B45-962C-F69B553242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/Subform by Sa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57560" y="1681200"/>
            <a:ext cx="4628880" cy="34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008-B96D-49C0-A4BF-AA11B7B8AD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19520" y="1833480"/>
            <a:ext cx="5562360" cy="3191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6668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438280" y="281916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2895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28954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82880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layout and s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5257800"/>
            <a:ext cx="2819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price by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876920" y="4191120"/>
            <a:ext cx="1752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095880" y="487692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766-EFE1-45BE-B085-ED2D84D6CA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429000" y="1739880"/>
          <a:ext cx="3886200" cy="1460520"/>
        </p:xfrm>
        <a:graphic>
          <a:graphicData uri="http://schemas.openxmlformats.org/drawingml/2006/table">
            <a:tbl>
              <a:tblPr/>
              <a:tblGrid>
                <a:gridCol w="727200"/>
                <a:gridCol w="1992240"/>
                <a:gridCol w="1166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33520" y="1676520"/>
            <a:ext cx="22860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9200" y="1828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5440" y="2246400"/>
            <a:ext cx="12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478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93364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219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505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8200" y="1371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Board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3809880"/>
            <a:ext cx="49528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61800" y="3846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00" y="4205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5960" y="42051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05320" y="4572000"/>
          <a:ext cx="4701960" cy="1187280"/>
        </p:xfrm>
        <a:graphic>
          <a:graphicData uri="http://schemas.openxmlformats.org/drawingml/2006/table">
            <a:tbl>
              <a:tblPr/>
              <a:tblGrid>
                <a:gridCol w="857160"/>
                <a:gridCol w="1326960"/>
                <a:gridCol w="704880"/>
                <a:gridCol w="1035360"/>
                <a:gridCol w="7776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748440" y="4227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92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2560" y="4952880"/>
            <a:ext cx="111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AF3-EBDC-44C2-B163-F58E379F8F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1905120"/>
            <a:ext cx="4800600" cy="23619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CustomerID, EmployeeID, and PaymentMethod with combo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Row Source property of the combo boxes to set a 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ab order and ru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400-2DD2-43FB-8E4F-D5F36E6411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Sale Form Improv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9760" y="1523880"/>
            <a:ext cx="6324480" cy="46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A7F-FF46-475A-848A-AF4DD01425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805040" y="1461960"/>
            <a:ext cx="5533920" cy="3934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st of the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449568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th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25780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0B1-BEAF-436F-8C6E-46D0410FD3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1828800"/>
            <a:ext cx="678168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ub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combo box for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compute Value=QuantitySold*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the footer to compute the subtotal: =Sum(QuantitySold*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ab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sub form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main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ubtotal text box and use the expression builder to copy the subtotal value from the subfrom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58C-45F7-49D1-92B1-BF3F902DFA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524400" y="2209680"/>
            <a:ext cx="3867120" cy="3019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pression Builder to Copy Subtot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09800" y="300672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19480" y="3159000"/>
            <a:ext cx="4381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14972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76720" y="38448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529272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e subtota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00400" y="46065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144792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to copy the subtota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800600" y="18288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B4C-A3C4-4F50-9839-30205948BA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695600" y="1457280"/>
            <a:ext cx="575280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958-7B65-4E35-A433-675ABCF39C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1828800"/>
            <a:ext cx="4953240" cy="28954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able, use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table, use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table, use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group br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Summary Option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otals for the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wizard and switch to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88B-B011-4855-8DE4-28B88C1213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izing Form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19320" y="1876320"/>
            <a:ext cx="6419880" cy="4219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819520" y="157176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286000" y="19526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19526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2257560"/>
            <a:ext cx="1143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263844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2562120"/>
            <a:ext cx="2133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5BF-C58D-4E31-A34D-ED3C600EF9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1981080"/>
            <a:ext cx="5333760" cy="2362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copy of the Customer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sign View, add a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Customer title onto the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background color of the header to ye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651-9EE7-4A46-B813-CEC9A2A76A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009800" y="2066760"/>
            <a:ext cx="4628880" cy="34959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the Customer Sales Repor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523880"/>
            <a:ext cx="6858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columns from the Customer, Sale, and SaleItem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25909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32767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39625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028840" y="27432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028840" y="30481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952520" y="33523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5EC-96C5-4896-8EEF-99623C1D36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953240" cy="3228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Main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88620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029200" y="40384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33412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962520" y="4876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22096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952880" y="2438280"/>
            <a:ext cx="1447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51460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523880" y="251424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680-684E-49D0-ABD6-578BEC8813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1828800"/>
            <a:ext cx="4953240" cy="28954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D7E-9273-475F-9BE4-E5D9C4F20F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4629240" cy="3495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Summary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3120" y="4114800"/>
            <a:ext cx="2133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is button to calculate subtotals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086080" y="44956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E9C-EC1E-4F41-93B9-82739C327C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371680" y="1762200"/>
            <a:ext cx="4400640" cy="333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ABE-7565-49B8-B0C0-00384A875C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90800" y="1447920"/>
            <a:ext cx="3495600" cy="46479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24480" y="25192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32050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38908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5105520" y="22096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29200" y="27432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952880" y="25146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952880" y="34290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9528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952880" y="4114800"/>
            <a:ext cx="1371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A7F-620A-40E3-920C-4AB56DCDF5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572000" cy="46389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2048040"/>
            <a:ext cx="19047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733840"/>
            <a:ext cx="19047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3267000"/>
            <a:ext cx="19047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227664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296244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3495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3876840"/>
            <a:ext cx="12193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textbox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400440" y="42577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6933960" y="2962440"/>
            <a:ext cx="533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392-DCAE-4F12-9418-E9E5DB47C9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1828800"/>
            <a:ext cx="5029200" cy="2819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some unnecessary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items around to improve th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in the Detail section called Value to compute [QuantitySold]*[Sale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urrency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um calculations to be Sum([QuantitySold]*[Sale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clean up th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9F6-E07B-4AA0-A42E-C1D3442CFCF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895480" y="1708200"/>
            <a:ext cx="5133960" cy="42354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26708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7400" y="44956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464832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172200" y="4571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487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48769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5B2-1D40-4FEB-90A0-82B444BC13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Report (One Page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402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756-826A-4EA3-8490-C9F0B69733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1981080"/>
            <a:ext cx="5334120" cy="26672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to total sales by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based o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Customer group, set the Keep Together property to Whol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BD1-D8C5-4176-BA91-098E9FF2FF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Totals Without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2057400"/>
            <a:ext cx="784872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Customer.LastName, Customer.FirstName, Customer.Phone, Customer.EMail, Sale.SaleID, Sale.SaleDate, Sale.ShipCity, Sale.ShipState, Sum([SalePrice]*[QuantitySold]) AS [Valu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Customer INNER JOIN Sale ON Customer.CustomerID = Sale.CustomerID)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Customer.CustomerID, Customer.LastName, Customer.FirstName, Customer.Phone, Customer.EMail, Sale.SaleID, Sale.SaleDate, Sale.ShipCity, Sale.Ship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ustomer.LastName, Customer.First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571-6714-4238-B304-EE63F9F6F5A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2057400"/>
            <a:ext cx="464832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ll columns to the right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olumnar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name for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D8F-A487-4211-AC7A-61AD65507C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Tot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46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131-6692-478D-B601-B361AEEB33D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1828800"/>
            <a:ext cx="6858000" cy="3352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imple report based on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ale sub-report from the Sale and SaleItem tables, grouping it by Sale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Rental sub-report from the Rental and RentalItem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Customer report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d drop the two sub-reports onto the Detail section of the Customer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roperties of the sub-reports to set the Link Child and Link Master Fields to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CBE-AEC6-45C3-A2A6-3D7F054C669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981080" y="1606680"/>
            <a:ext cx="5181840" cy="44892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report: Sales and 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3276720"/>
            <a:ext cx="1295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repor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365760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05120" y="2971440"/>
            <a:ext cx="2666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2438280"/>
            <a:ext cx="137160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main customer report (master) to subreport (chi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095880" y="3276720"/>
            <a:ext cx="10670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172200" y="32767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207-9856-447A-9C85-00CA02695B4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report Displ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86040" y="1476360"/>
            <a:ext cx="3386160" cy="454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223-E8C6-4587-9250-065BD5D6F1A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1981080"/>
            <a:ext cx="5715000" cy="26672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properties to remove the scroll bars and navigati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 to open other forms (Form Operations/Open Form)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lors and graphics to make the form app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all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419-8E7F-4B91-AA9B-31B0922FCEF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610000" y="1863720"/>
            <a:ext cx="5848200" cy="35244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a Switchboar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2168640"/>
            <a:ext cx="14475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09680" y="2473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3006720"/>
            <a:ext cx="14475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209680" y="338760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354024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38480" y="536904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orms or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419720" y="3921120"/>
            <a:ext cx="7617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419720" y="4073040"/>
            <a:ext cx="838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924-9E16-46DA-9EBA-97EF4008710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1905120"/>
            <a:ext cx="4952880" cy="30477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View/Toolbars/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oolbars tab create a new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Commands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main form icon onto the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ustomers menu option and drag the customer forms and reports on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Help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7E7-B05B-465E-B0D2-AFA9F6D3E81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19440" y="1771560"/>
            <a:ext cx="3666960" cy="34862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Toolbars and Menu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220968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257440" y="25146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2437920" y="2285640"/>
            <a:ext cx="3962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E19-0999-457E-9A2B-A1A7253315D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781280" y="1452600"/>
            <a:ext cx="4467240" cy="44053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olbars and Menu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2819520"/>
            <a:ext cx="14475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mmands onto the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4952880" y="31237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657600" y="3429000"/>
            <a:ext cx="2819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895120" y="3429000"/>
            <a:ext cx="3581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CC0-E099-4E74-B178-1966C363879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" y="1600200"/>
            <a:ext cx="7238880" cy="3733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t least three HTML help files for the All Powder forms using an HTML editor or Wor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, download and install the HTML Help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project in the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HTM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HTML files to add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mapping file with a text editor and add it to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ject options to build the TOC and inde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and test the 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database forms and add the help file name and Cont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press the F1 key to test the 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2F4-2F2F-4213-97EA-4AD8346DBC7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33680" y="1681200"/>
            <a:ext cx="4629240" cy="3495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Form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51460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259092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/transf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647960" y="2971800"/>
            <a:ext cx="1447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486040" y="29718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6668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24C-ABA5-48F6-AF02-F0BD308A8D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3807360"/>
            <a:ext cx="1600200" cy="162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70240" y="2059200"/>
            <a:ext cx="1701720" cy="78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Powder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1520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4923000"/>
            <a:ext cx="266724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File: AllPowder.c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Context ID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50240" y="3205080"/>
            <a:ext cx="1157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pi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opi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pi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opi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pi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Topic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486400" y="2590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562720" y="34286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86400" y="39625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75040" y="1225440"/>
            <a:ext cx="4749840" cy="4683240"/>
          </a:xfrm>
          <a:custGeom>
            <a:avLst/>
            <a:gdLst/>
            <a:ahLst/>
            <a:rect l="l" t="t" r="r" b="b"/>
            <a:pathLst>
              <a:path w="2992" h="2950">
                <a:moveTo>
                  <a:pt x="1554" y="340"/>
                </a:moveTo>
                <a:cubicBezTo>
                  <a:pt x="1154" y="445"/>
                  <a:pt x="621" y="717"/>
                  <a:pt x="375" y="996"/>
                </a:cubicBezTo>
                <a:cubicBezTo>
                  <a:pt x="129" y="1275"/>
                  <a:pt x="0" y="1707"/>
                  <a:pt x="79" y="2012"/>
                </a:cubicBezTo>
                <a:cubicBezTo>
                  <a:pt x="158" y="2317"/>
                  <a:pt x="415" y="2740"/>
                  <a:pt x="847" y="2828"/>
                </a:cubicBezTo>
                <a:cubicBezTo>
                  <a:pt x="1279" y="2916"/>
                  <a:pt x="2350" y="2950"/>
                  <a:pt x="2671" y="2540"/>
                </a:cubicBezTo>
                <a:cubicBezTo>
                  <a:pt x="2992" y="2130"/>
                  <a:pt x="2959" y="734"/>
                  <a:pt x="2773" y="367"/>
                </a:cubicBezTo>
                <a:cubicBezTo>
                  <a:pt x="2587" y="0"/>
                  <a:pt x="1933" y="237"/>
                  <a:pt x="1554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209680" y="2819160"/>
            <a:ext cx="12193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94000" y="19051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114800" y="22860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5FF-AB0C-44F9-BF56-E17D0B48A69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1371600"/>
            <a:ext cx="71629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Object type="application/x-oleobject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d="clsid:1e2a7bd0-dab9-11d0-b93a-00c04fc99f9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Content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Introduction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Star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Managemen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OBJECT&gt;&lt;HTML&gt;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rel="stylesheet" type="text/css" href="Styles.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EAD&gt;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1&gt;Introduction to the All Powder Board and Ski Shop&lt;/H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&gt;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&lt;IMG SRC='BoardLogo1.gif' border='0'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All Powder Board and Ski Shop sells and rents snowboards and skis for all levels of riders and skiers.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R&gt;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2&gt;The Board and Ski Shop&lt;/H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L&gt;&lt;LI&gt;&lt;A HREF=’Customers.html'&gt;Customers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&gt;&lt;A HREF=’Sales.html'&gt;Sales 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UL&gt;&lt;/BODY&gt;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53E-CB60-4CEC-96F2-F1648C3D2F3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pics Map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81080" y="205740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AllPow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Custo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27D-AD4E-4D9A-BCEB-291AB5F4E46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Compiler and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077840" y="1600200"/>
            <a:ext cx="698652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222-A50C-4EA7-936C-8A772F2456D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33440" y="1542960"/>
            <a:ext cx="4624560" cy="4552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File on Access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413388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572000" y="436248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497196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343040" y="520056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63C-CD63-4407-AE16-647AF717C71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52480" y="1166760"/>
            <a:ext cx="5562720" cy="5081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Design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19051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box to ad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29400" y="22860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4114800"/>
            <a:ext cx="1981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to control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866920" y="419076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4038480"/>
            <a:ext cx="12956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o open contro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47920" y="3352680"/>
            <a:ext cx="19047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2610000"/>
            <a:ext cx="12956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o open for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447920" y="27432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1143000"/>
            <a:ext cx="12956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esign or display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1600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8580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Lis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724280" y="10666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BD3-D4DB-426B-8F50-903056C46A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0" y="2876400"/>
            <a:ext cx="3095640" cy="2381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38080" y="2876400"/>
            <a:ext cx="3095640" cy="2381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Source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01600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Source =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6400" y="52578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4360" y="52578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29360" y="201600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ource = CustomerI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742840" y="266688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372000" y="266688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609-2CC7-4396-9C59-694575906C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1905120"/>
            <a:ext cx="525780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Customer form to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label as a form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mand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cord Operation/Delete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mand button to insert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Tab Order and verif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9B1-10BE-425B-952F-AC86654352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ing Command Butt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57560" y="1909800"/>
            <a:ext cx="4628880" cy="30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88F-24E6-400E-9D4E-EEE2F1B395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23:16:00Z</dcterms:modified>
  <cp:revision>51</cp:revision>
  <dc:subject/>
  <dc:title>All Powder Board and Ski</dc:title>
</cp:coreProperties>
</file>