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DF9-AD9D-4839-83DC-3269C755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BC4B-0CD1-4D6E-ACF5-E0BA5956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D01-0BD1-4D8A-8684-3426B19C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670-EB2A-4BA7-862E-755B1AE7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6019-52FD-44BE-8606-C14094B5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95CA-4522-47BB-B407-E9867FB8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C968-752F-44F6-950E-DC7130F6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7D70-2A69-4F61-B82C-2414B01D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B430-AAC3-461E-91B2-FF06D832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DD60-95F2-4337-A1E8-E278873F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945F-D042-45EE-A78E-E7948942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D60-BCCA-46E5-9EF9-B944FC52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9B71-D4ED-4CFC-9858-5A716418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FA2A-FCEC-4261-994A-41BFE6A2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9F78-90EE-4285-BA14-504227B5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722B-19BE-4818-90DD-1888F914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BA4C-48E0-468E-861D-2F9D6B8F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0D9-7A0E-4258-924D-9961568A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F808-9CF0-4007-ACF9-0D5398F4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049-7CB7-437D-AE73-1C6C0292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0555-8F79-40B8-9434-13468B70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73B-67E9-4DEE-A5D4-F54F0C5E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81E-2539-4FB3-8C9F-D4448AAE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A14-A308-4516-8D39-282F005B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8B8D-8C52-4517-B546-2E4DD20A56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AD7B-BE06-4247-AF99-ED0243000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indowsupdate.microsoft.com/" TargetMode="External"/><Relationship Id="rId2" Type="http://schemas.openxmlformats.org/officeDocument/2006/relationships/hyperlink" Target="http://windowsupdate.microsoft.com/" TargetMode="External"/><Relationship Id="rId3" Type="http://schemas.openxmlformats.org/officeDocument/2006/relationships/hyperlink" Target="http://office.microsoft.com/productupdates" TargetMode="External"/><Relationship Id="rId4" Type="http://schemas.openxmlformats.org/officeDocument/2006/relationships/hyperlink" Target="http://office.microsoft.com/productupdates" TargetMode="External"/><Relationship Id="rId5" Type="http://schemas.openxmlformats.org/officeDocument/2006/relationships/hyperlink" Target="http://www.microsoft.com/data/download.htm" TargetMode="External"/><Relationship Id="rId6" Type="http://schemas.openxmlformats.org/officeDocument/2006/relationships/hyperlink" Target="http://www.microsoft.com/data/download.htm" TargetMode="Externa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easibil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09480" y="1600200"/>
          <a:ext cx="7925040" cy="4019400"/>
        </p:xfrm>
        <a:graphic>
          <a:graphicData uri="http://schemas.openxmlformats.org/drawingml/2006/table">
            <a:tbl>
              <a:tblPr/>
              <a:tblGrid>
                <a:gridCol w="3191040"/>
                <a:gridCol w="982440"/>
                <a:gridCol w="2332080"/>
                <a:gridCol w="1419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ual discount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life/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e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BMS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d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easibility-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346040"/>
          <a:ext cx="7925040" cy="5359320"/>
        </p:xfrm>
        <a:graphic>
          <a:graphicData uri="http://schemas.openxmlformats.org/drawingml/2006/table">
            <a:tbl>
              <a:tblPr/>
              <a:tblGrid>
                <a:gridCol w="3191040"/>
                <a:gridCol w="982440"/>
                <a:gridCol w="2332080"/>
                <a:gridCol w="1419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on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grades/an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l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Sav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ter inventory 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wer cle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teg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reased 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 Presen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1905120"/>
            <a:ext cx="5181480" cy="1143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feasibility plan for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MS Upd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windowsupdate.microsof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office.microsoft.com/product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ccess component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5"/>
              </a:rPr>
              <a:t>http://www.microsoft.com/data/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6"/>
              </a:rPr>
              <a:t>download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the highest numbered MDAC R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: Create a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614680" y="1628640"/>
            <a:ext cx="39146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: Add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0200" y="2562120"/>
            <a:ext cx="77436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1905120"/>
            <a:ext cx="5334120" cy="2666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ccess and create the new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form with the Form Wiz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Customer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ll of the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default column lay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orm by entering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: Create a Simp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5576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7925040" cy="449100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owbo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g 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phic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 Pric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e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re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g 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phic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 Pric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ss country-sk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ss country-tra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ma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m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e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wnhill/r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oots and Bindin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362320"/>
            <a:ext cx="731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ot-Binding Compat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uf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fg. 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ard/Sk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inding/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l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76720" y="3200400"/>
          <a:ext cx="1752480" cy="158436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1600200"/>
          <a:ext cx="7925040" cy="432900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sp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Ma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r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ipping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/Fema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/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/Date of Bir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y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/Use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it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c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of 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600200"/>
          <a:ext cx="7925040" cy="443700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Rental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tal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cted Retu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Ma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r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ipping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/Fema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/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/Date of Bir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y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Dat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ed 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of Pay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600200"/>
          <a:ext cx="7924320" cy="4419000"/>
        </p:xfrm>
        <a:graphic>
          <a:graphicData uri="http://schemas.openxmlformats.org/drawingml/2006/table">
            <a:tbl>
              <a:tblPr/>
              <a:tblGrid>
                <a:gridCol w="7924320"/>
              </a:tblGrid>
              <a:tr h="44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oject Title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Sales System for Boards and Ski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ustomer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All Powder Board and Ski Shop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Contact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Ka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oal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oject Description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Form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Report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ead Developer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stimated Development Time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stimated Development Cost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ate Prepared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905120"/>
            <a:ext cx="5181480" cy="1523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information about skis and snowboards on 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cessary, install and upgrade the DB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Pla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1600200"/>
          <a:ext cx="7925040" cy="448956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45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fine the project and obtain approval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alyze the user needs and identify all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Desig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termine the tables and relationship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the tables and load basic dat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queries needed for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Build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transaction elemen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fine security and access control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dditional Featu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data warehouse to analyze data a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andle distributed database elements a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Implemen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nvert and load dat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Train user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oad testing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revie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1905120"/>
            <a:ext cx="5181480" cy="1143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in the project milestone dates based on your school cale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2T16:06:21Z</dcterms:modified>
  <cp:revision>5</cp:revision>
  <dc:subject/>
  <dc:title>All Powder Board and Ski</dc:title>
</cp:coreProperties>
</file>