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132-5C34-4869-8C2E-9DD9F937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C5A-67CB-43CF-BD79-BFE5151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905-93C5-416B-915F-234297EE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925-90AE-45C2-AF2F-3EE2C2C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575-1FBD-42ED-9F7F-A631AD65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2223-B312-4267-9078-20ABF71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BA23-311B-4DCA-9F23-FE260B6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60B2-FBDF-4673-8345-35AE8DD6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76BF-C14F-4CC1-8D16-8881A5B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E61-DC1C-4186-A8FD-967AA0FE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B75-88F5-401A-BDB2-D63D9BD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234-D0C6-4BDC-B0E3-08727FF9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A552-8D61-4089-A2CD-A5D37431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9E06-AAAB-40BE-B459-5A54688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85C-3572-4E9E-8D06-176B20B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E07-DFD9-4F8C-AAD2-FE96A51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2E82-4009-4D65-9F8C-246E84D8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D7E-2DCC-4C4B-AC25-9C213F6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0F4-7A8F-4797-8AB0-0231145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B73-D806-46F0-BFA3-F8153A9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517-4546-4B0D-9CC1-2038A7E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967-D8A6-48AF-8D19-48AADA3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0A8-40BF-4B78-BD66-AD2F7C4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D01-A80E-4A61-8E82-1E760C0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831-214B-4AEF-BF18-CEF809C16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FB3-FF1E-47A7-BE1B-27D4FC2DA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: Physical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9FAB-F312-4DD3-A78B-B19A0452A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6280" y="1709640"/>
            <a:ext cx="6391440" cy="3438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: Manual Data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95288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able to old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8769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57400" y="4572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E75-8807-4909-AB55-3BC1FFBBF6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7400"/>
            <a:ext cx="54100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py of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it with all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ItemModel table in the main database, remove the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inked table in the main database to connect to the old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NION query that retrieves all rows of data for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65E-91E9-4731-A5F1-DB027639B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icrosoft Access File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497720" cy="3591000"/>
        </p:xfrm>
        <a:graphic>
          <a:graphicData uri="http://schemas.openxmlformats.org/drawingml/2006/table">
            <a:tbl>
              <a:tblPr/>
              <a:tblGrid>
                <a:gridCol w="1395360"/>
                <a:gridCol w="610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database file to hold data, forms, and repo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s lock data to prevent multi-user collis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ped down MDB file that removes source code and prevents users from editing forms and repo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group file that contains user and group login information. The default is System.MD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file that contains code to connect to a SQL Server datab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ADF-CCB4-46E0-B8FC-5B6B30A87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et Engine Registry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5720" y="1600200"/>
            <a:ext cx="79725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67F-04CF-42A8-929C-7CB1A8744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905120"/>
            <a:ext cx="7162920" cy="1676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registry editor with Start/Run/rege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Local Machine keys to find the entries for the Jet eng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Threads value from 3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ome queries and forms to see if performanc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823-D892-4062-A839-C4BA4850A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6-06-22T20:21:09Z</dcterms:modified>
  <cp:revision>85</cp:revision>
  <dc:subject/>
  <dc:title>All Powder Board and Ski</dc:title>
</cp:coreProperties>
</file>