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DCC-0F31-4E01-AEE7-D45E6FAF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454-B24C-425B-9E09-33362701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839-FDF7-4BF1-8142-2D9D95AB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372-4E65-4D90-9BA5-64BFD682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F75D-DBE9-4CF6-9D5B-90278880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E968-33B3-4292-B7C1-4923904E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66A1-2C40-435B-A029-1A0C8136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59DB-AC22-476E-80CA-7E6243EF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8D16-E30B-4682-B10C-3B01E077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9B6B-9C8D-45EB-B509-0DC9F4E4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21A2-6273-4407-888A-448A38A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6A2-F25C-42FF-9DD5-206F7C2F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090B-02BD-441E-A192-5C4DC89E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93AB-CF1D-49CA-94D3-F8CB78D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400B-3395-4053-BEA8-84321A69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7A43-99D4-4B29-AED4-ABE52ECA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06E4-7A7B-429A-A7D4-5E0EFFFA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1ED-55BB-491D-A1BD-9C9404F3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64E-A619-4694-8CB5-39D93796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431-57DF-4471-899C-48701920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AF4-955F-4E94-843D-3FDF0EE4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C93-8E98-4CED-9BFE-59778CC0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702-5A43-44E4-8419-BB68D14A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BB0-0468-48F1-ABBA-6E4BCEEC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615D-5EDA-4F91-82F2-005C1AEA6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F949-80DC-4313-86C2-49588BAB6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Databas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362320"/>
            <a:ext cx="6172200" cy="2057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Gender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rule: “Female” Or “Male” Or “Unidentifi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text: Please enter Female, Male, or Un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24080" y="1492200"/>
            <a:ext cx="4800600" cy="4527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8195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4197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518652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9718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57200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666880" y="51055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2362320"/>
            <a:ext cx="5257800" cy="2590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Gender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Lookup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Control: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ource Type: Valu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ource: “Female”;”Male”;”Unidentifi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atasheet view and te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38400" y="1271520"/>
            <a:ext cx="5114880" cy="4824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mple Lookup Li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8195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88620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29718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403848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4197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45720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952880"/>
            <a:ext cx="2057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in quotes and separated by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666880" y="46483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32004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85840" y="33526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1562040"/>
            <a:ext cx="8229600" cy="4000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41911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172200" y="36572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19112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umber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676520" y="36576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752120" y="3505320"/>
            <a:ext cx="3812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362320"/>
            <a:ext cx="518148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/Relationships (or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ll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and resize them to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 key columns on foreig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integrity and cascad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ll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48120" y="1521000"/>
            <a:ext cx="5333760" cy="4574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e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4876920"/>
            <a:ext cx="1981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181120" y="4495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74320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all thre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29718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5238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17524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3886200"/>
            <a:ext cx="2666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lumn and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41148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41148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274320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both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266720" y="289512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952880" y="28195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523880"/>
            <a:ext cx="7238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ustomer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ustomer PRIMARY KEY 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Relationship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46052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Rental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Rental PRIMARY KEY (Ren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RentalCustomer FOREIGN KEY 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Customer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ON DELETE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ON UPDATE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ON DELETE AND ON UPDATE are not supported with Access 2002, but hopefully will be supported with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imating Database Siz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600200"/>
            <a:ext cx="4495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bytes per 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er week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s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dded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06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Assum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752480"/>
            <a:ext cx="5029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customers per week for 25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kills per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ntals per customer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items per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of customers bu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tems pe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odels pe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tems (sizes) p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2286000"/>
            <a:ext cx="457200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able names as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 for: Bytes, Rows,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bytes per table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the number of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table and overall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 Siz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62120" y="1447920"/>
          <a:ext cx="75438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5438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ying Key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5000" y="144792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certain about which columns to 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m down and evaluate the business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6668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order, can there ever be more than one custom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Custome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businesses, only one customer per order, so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customer, can there ever be more than one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OrderID, otherwise, do not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usinesses hope to get more than one order from a custom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OrderID must be key. Underline it. Since OrderID is the only k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olumns belong in the Order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6386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Orde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stomerID, …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utoNumb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16560" y="251928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6560" y="301608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8400" y="354960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2400" y="455436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073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ider what happens if you (incorrectly) try to place Style and SkillLevel in the Customer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2286000"/>
            <a:ext cx="106704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lnTo>
                  <a:pt x="192" y="0"/>
                </a:lnTo>
                <a:lnTo>
                  <a:pt x="192" y="432"/>
                </a:lnTo>
                <a:lnTo>
                  <a:pt x="672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2860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240" y="624"/>
                </a:lnTo>
                <a:lnTo>
                  <a:pt x="24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581280"/>
            <a:ext cx="838080" cy="7621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240" y="0"/>
                </a:lnTo>
                <a:lnTo>
                  <a:pt x="24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362320"/>
            <a:ext cx="457200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ustomer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he 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8120" y="1536840"/>
            <a:ext cx="4800600" cy="4527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Tables in Acces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2096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362320" y="205704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362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304812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800240" y="2971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3657600"/>
            <a:ext cx="1676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ata typ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648320" y="3886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2767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62320" y="30481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38400" y="1630440"/>
            <a:ext cx="4734000" cy="4465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Types: Sub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3623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274320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0384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: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514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24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426708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7:13Z</dcterms:modified>
  <cp:revision>20</cp:revision>
  <dc:subject/>
  <dc:title>All Powder Board and Ski</dc:title>
</cp:coreProperties>
</file>