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7D0A-CFA8-4C24-BBF1-40DF9388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7CB-6C83-4526-B40A-19E6E31B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B991-ACC6-4D0C-B77E-BA9E4FDE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FE7-78BA-4AB5-B884-E520B6C4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9F12-0A4B-4A8F-A061-4E13467F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AC3D-B9EB-4E13-A85D-15C40218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E1C7-D51A-4878-9204-8D1F3C0C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0325-B4A9-461D-91B0-CBCC054A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8537-576A-4C6F-A288-BAC6ACE3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A8C5-5BB8-4BD5-A659-1C84D889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E26A-AB44-4ABD-BD97-5626D1F6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B36-E8A5-4DED-8F3C-D6888700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6751-08A6-41DB-B2CF-BA4D63AF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2994-3A6E-4E35-8FEB-427CC2B5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7D71-7717-4B87-9A70-0532248C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0A43-FA34-4FE5-9C8A-0681A201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769E-7D58-47D6-B895-A642041A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F157-AE80-40B2-8852-6325F830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DCF-47FF-4143-B277-09E099EE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BC3-4BD3-40F7-8669-9C6EA0B4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0E89-CA99-4012-A2C0-8C1DD95F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0B7-BA19-4D91-90C1-DB16C9E3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008-4D40-470B-A8D8-9AC4C1E5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A66-08DE-4E63-8EB7-E80EC247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F477-0720-4133-904B-B8E113883C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A3AC-28FC-4784-BCD0-DCDD407B4F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80F0-94FE-4FBB-942A-F1CF6A9B44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6: Forms an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44A7-692F-49B3-ADF0-E2E6861492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Grid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1701720" y="1835280"/>
            <a:ext cx="574056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7202-5A65-451A-B5F4-5B0033EB90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286000" y="2209680"/>
            <a:ext cx="4648320" cy="21337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rm with th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SkiBoard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Datasheet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2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4572000" cy="3419640"/>
          </a:xfrm>
          <a:prstGeom prst="rect">
            <a:avLst/>
          </a:prstGeom>
          <a:ln w="0">
            <a:noFill/>
          </a:ln>
        </p:spPr>
      </p:pic>
      <p:sp>
        <p:nvSpPr>
          <p:cNvPr id="17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1D74-7F25-48A2-A6F6-4FD12245FC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rid Form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019920" y="3581280"/>
            <a:ext cx="2361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heet style is simpler than Tab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019920" y="2133720"/>
            <a:ext cx="2361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r style has more design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 flipH="1">
            <a:off x="4343040" y="2514600"/>
            <a:ext cx="1676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 flipH="1" flipV="1">
            <a:off x="4723920" y="3123720"/>
            <a:ext cx="12956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9DBF-4885-4FB3-971D-04A844A9AB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143000" y="1828800"/>
            <a:ext cx="6629400" cy="38098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form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box for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irst lookup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ProductCategor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Category and CategoryDescription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lumn wid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ategory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value into the Category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the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tab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the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769080" cy="462420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5910-B6ED-4347-803F-D716B2E69C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d a Combo Bo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523880" y="4648320"/>
            <a:ext cx="2362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 flipV="1">
            <a:off x="3886200" y="44197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343400" y="297180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 flipH="1">
            <a:off x="4114440" y="335268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4343400" y="1981080"/>
            <a:ext cx="304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8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4584600" cy="318312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BDAD-9F46-4AC0-B0D4-93517A668C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bo Box Ro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2971800" y="5029200"/>
            <a:ext cx="2590920" cy="11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Board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3048120" y="5410080"/>
            <a:ext cx="2514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3828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63828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hi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6400800" y="2286000"/>
            <a:ext cx="21337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477120" y="2666880"/>
            <a:ext cx="1676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t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4038480" y="3276720"/>
            <a:ext cx="114300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3"/>
          <p:cNvSpPr/>
          <p:nvPr/>
        </p:nvSpPr>
        <p:spPr>
          <a:xfrm>
            <a:off x="5181480" y="4114800"/>
            <a:ext cx="328932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6555960" y="17524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6234840" y="51418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4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208560" cy="383076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AC19-B7A6-4CFC-A6D5-E1F1F3730E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bo Box Runti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6477120" y="296064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 flipH="1">
            <a:off x="5562720" y="311292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629400" y="480060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5867280" y="39513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209680" y="5029200"/>
            <a:ext cx="2133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sen value is transferred t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 flipV="1">
            <a:off x="4343400" y="3733560"/>
            <a:ext cx="3808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3FEF-E785-4614-8D5D-E385F0CF17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371600" y="1828800"/>
            <a:ext cx="6248520" cy="24382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rm with th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table, al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table use name, phone, and e-mai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table, use th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table, all columns except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Model table, use Category, ModelID, and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the wizard and 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58A0-B797-4A78-9E27-747F6F75C7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/Subform by Sa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0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20704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1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5181480" cy="428652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626E-2B47-40BF-8EB2-59AE264A9A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380880" y="266688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9"/>
          <p:cNvSpPr/>
          <p:nvPr/>
        </p:nvSpPr>
        <p:spPr>
          <a:xfrm flipV="1">
            <a:off x="2438280" y="274284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 flipV="1">
            <a:off x="2438280" y="2819160"/>
            <a:ext cx="12956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2438280" y="2895480"/>
            <a:ext cx="19814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380880" y="182880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 layout and si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1905120" y="5257800"/>
            <a:ext cx="2819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price by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5410080" y="4724280"/>
            <a:ext cx="2210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V="1">
            <a:off x="4724280" y="457200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"/>
          <p:cNvSpPr/>
          <p:nvPr/>
        </p:nvSpPr>
        <p:spPr>
          <a:xfrm flipH="1">
            <a:off x="5791320" y="5105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FC77-2394-4149-BB7E-C38879926C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 Typ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29000" y="1739880"/>
          <a:ext cx="3886200" cy="1463760"/>
        </p:xfrm>
        <a:graphic>
          <a:graphicData uri="http://schemas.openxmlformats.org/drawingml/2006/table">
            <a:tbl>
              <a:tblPr/>
              <a:tblGrid>
                <a:gridCol w="727200"/>
                <a:gridCol w="1992240"/>
                <a:gridCol w="1166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yle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4"/>
          <p:cNvSpPr/>
          <p:nvPr/>
        </p:nvSpPr>
        <p:spPr>
          <a:xfrm>
            <a:off x="533520" y="1676520"/>
            <a:ext cx="22860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069200" y="18288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95440" y="2246400"/>
            <a:ext cx="12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905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905120" y="26478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905120" y="293364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1905120" y="3219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905120" y="3505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4498200" y="13716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Board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3"/>
          <p:cNvSpPr/>
          <p:nvPr/>
        </p:nvSpPr>
        <p:spPr>
          <a:xfrm>
            <a:off x="3429000" y="3809880"/>
            <a:ext cx="49528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4"/>
          <p:cNvSpPr/>
          <p:nvPr/>
        </p:nvSpPr>
        <p:spPr>
          <a:xfrm>
            <a:off x="5761800" y="38466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5"/>
          <p:cNvSpPr/>
          <p:nvPr/>
        </p:nvSpPr>
        <p:spPr>
          <a:xfrm>
            <a:off x="3492000" y="42051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5565960" y="42051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505320" y="4572000"/>
          <a:ext cx="4701960" cy="1189080"/>
        </p:xfrm>
        <a:graphic>
          <a:graphicData uri="http://schemas.openxmlformats.org/drawingml/2006/table">
            <a:tbl>
              <a:tblPr/>
              <a:tblGrid>
                <a:gridCol w="857160"/>
                <a:gridCol w="1326960"/>
                <a:gridCol w="704880"/>
                <a:gridCol w="1035360"/>
                <a:gridCol w="777600"/>
              </a:tblGrid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97"/>
          <p:cNvSpPr/>
          <p:nvPr/>
        </p:nvSpPr>
        <p:spPr>
          <a:xfrm>
            <a:off x="748440" y="4227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8"/>
          <p:cNvSpPr/>
          <p:nvPr/>
        </p:nvSpPr>
        <p:spPr>
          <a:xfrm>
            <a:off x="7621920" y="2133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9"/>
          <p:cNvSpPr/>
          <p:nvPr/>
        </p:nvSpPr>
        <p:spPr>
          <a:xfrm>
            <a:off x="2212560" y="4952880"/>
            <a:ext cx="1118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i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ub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C741-4394-4F5D-998F-630D9AE08D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057400" y="1905120"/>
            <a:ext cx="4800600" cy="236196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CustomerID, EmployeeID, and PaymentMethod with combo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Row Source property of the combo boxes to set a 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ab order and run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232E-A39D-432B-B08D-413CD90D0B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Sale Form Improve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9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858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2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5972040" cy="4716360"/>
          </a:xfrm>
          <a:prstGeom prst="rect">
            <a:avLst/>
          </a:prstGeom>
          <a:ln w="0">
            <a:noFill/>
          </a:ln>
        </p:spPr>
      </p:pic>
      <p:sp>
        <p:nvSpPr>
          <p:cNvPr id="23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67C0-44EF-4BF5-8803-CDCF217C21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st of the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248520" y="4495680"/>
            <a:ext cx="2209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the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 flipH="1">
            <a:off x="5562360" y="46483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5334120" y="144792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date pi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 flipH="1">
            <a:off x="3809880" y="18288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85CE-DCBC-46E7-A774-2B25B24DB7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143000" y="1828800"/>
            <a:ext cx="6781680" cy="36576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ub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combo box for the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to compute Value=QuantitySold*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to the footer to compute the subtotal: =Sum(QuantitySold*Sale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ab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sub form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main form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subtotal text box and use the expression builder to copy the subtotal value from the subfrom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7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4557600" cy="351144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A433-D5FA-4E3D-9088-F0365B05BE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pression Builder to Copy Subtot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1009800" y="3006720"/>
            <a:ext cx="2209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al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3219480" y="3159000"/>
            <a:ext cx="4381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066680" y="4149720"/>
            <a:ext cx="2210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sub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 flipV="1">
            <a:off x="3276720" y="38448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990720" y="5292720"/>
            <a:ext cx="220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 the subtota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 flipV="1">
            <a:off x="3200400" y="4648320"/>
            <a:ext cx="1981080" cy="10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5334120" y="1447920"/>
            <a:ext cx="220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 to copy the subtotal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4876920" y="18288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1203-EDF6-4523-BDD7-B6E4FB54F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56272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B68C-31ED-42B0-9F14-B6DE7032BF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981080" y="1828800"/>
            <a:ext cx="4953240" cy="28954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report with th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table, use al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table, use al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table, use al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e group br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Summary Options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otals for the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the wizard and switch to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3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5333760" cy="368604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E6E5-1DD7-40CD-B44A-D0935BDCD1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izing Form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2819520" y="157176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7"/>
          <p:cNvSpPr/>
          <p:nvPr/>
        </p:nvSpPr>
        <p:spPr>
          <a:xfrm flipH="1">
            <a:off x="2286000" y="19526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3200400" y="1952640"/>
            <a:ext cx="2590920" cy="4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458E-C3D7-448D-864C-427BF69384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905120" y="1981080"/>
            <a:ext cx="5333760" cy="23623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copy of the Customer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background color of the header to yel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7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4575240" cy="3422520"/>
          </a:xfrm>
          <a:prstGeom prst="rect">
            <a:avLst/>
          </a:prstGeom>
          <a:ln w="0">
            <a:noFill/>
          </a:ln>
        </p:spPr>
      </p:pic>
      <p:sp>
        <p:nvSpPr>
          <p:cNvPr id="2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6F77-9EB8-4512-9D0F-5DE46EE79E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e the Customer Sales Repor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609480" y="1523880"/>
            <a:ext cx="6858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ll columns from the Customer, Sale, and SaleItem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6095880" y="25909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6095880" y="32767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095880" y="39625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1"/>
          <p:cNvSpPr/>
          <p:nvPr/>
        </p:nvSpPr>
        <p:spPr>
          <a:xfrm flipH="1" flipV="1">
            <a:off x="5028840" y="274320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2"/>
          <p:cNvSpPr/>
          <p:nvPr/>
        </p:nvSpPr>
        <p:spPr>
          <a:xfrm flipH="1" flipV="1">
            <a:off x="5028840" y="30481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3"/>
          <p:cNvSpPr/>
          <p:nvPr/>
        </p:nvSpPr>
        <p:spPr>
          <a:xfrm flipH="1" flipV="1">
            <a:off x="4952520" y="33523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6" descr=""/>
          <p:cNvPicPr/>
          <p:nvPr/>
        </p:nvPicPr>
        <p:blipFill>
          <a:blip r:embed="rId1"/>
          <a:stretch/>
        </p:blipFill>
        <p:spPr>
          <a:xfrm>
            <a:off x="1143000" y="1386000"/>
            <a:ext cx="6705720" cy="470988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DDF7-553D-457C-80F4-6E09FA79ED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Main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715000" y="419112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4952880" y="45720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257800" y="5410080"/>
            <a:ext cx="2209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 flipH="1">
            <a:off x="3809880" y="5562720"/>
            <a:ext cx="1447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5029200" y="2590920"/>
            <a:ext cx="1219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4419360" y="28195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1295280" y="2895480"/>
            <a:ext cx="1067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V="1">
            <a:off x="2362320" y="28951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1794-B12E-4518-8D32-3DC962350F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1981080" y="1828800"/>
            <a:ext cx="4953240" cy="28954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report with the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table, use all colum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table, use all colum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table, use all colum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e group brea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Summary Options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otals for the Quant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the wizard and switch to design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0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496040" cy="3362400"/>
          </a:xfrm>
          <a:prstGeom prst="rect">
            <a:avLst/>
          </a:prstGeom>
          <a:ln w="0">
            <a:noFill/>
          </a:ln>
        </p:spPr>
      </p:pic>
      <p:sp>
        <p:nvSpPr>
          <p:cNvPr id="2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850C-7E3B-40B6-AB25-D6235BFF70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ort Summary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153120" y="4114800"/>
            <a:ext cx="2133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is button to calculate subtotals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 flipH="1" flipV="1">
            <a:off x="5086080" y="44956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8C61-4DA4-4494-A44F-ACEDDF0865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7498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8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5346720" cy="424800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DB7F-2D44-464D-A195-6D7363629D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6324480" y="25192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6324480" y="32050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6324480" y="38908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 flipH="1" flipV="1">
            <a:off x="5790960" y="25142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 flipH="1">
            <a:off x="4876560" y="274320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 flipH="1" flipV="1">
            <a:off x="5029200" y="266652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 flipH="1">
            <a:off x="5105520" y="3429000"/>
            <a:ext cx="121896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4"/>
          <p:cNvSpPr/>
          <p:nvPr/>
        </p:nvSpPr>
        <p:spPr>
          <a:xfrm flipH="1">
            <a:off x="495288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8" descr=""/>
          <p:cNvPicPr/>
          <p:nvPr/>
        </p:nvPicPr>
        <p:blipFill>
          <a:blip r:embed="rId1"/>
          <a:stretch/>
        </p:blipFill>
        <p:spPr>
          <a:xfrm>
            <a:off x="600120" y="1600200"/>
            <a:ext cx="77817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B15F-0682-4BD7-AA37-21C49A2FEB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ort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886200" y="22096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886200" y="31240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3886200" y="42670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0"/>
          <p:cNvSpPr/>
          <p:nvPr/>
        </p:nvSpPr>
        <p:spPr>
          <a:xfrm flipH="1">
            <a:off x="3505320" y="236232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1"/>
          <p:cNvSpPr/>
          <p:nvPr/>
        </p:nvSpPr>
        <p:spPr>
          <a:xfrm flipH="1">
            <a:off x="3276360" y="32767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2"/>
          <p:cNvSpPr/>
          <p:nvPr/>
        </p:nvSpPr>
        <p:spPr>
          <a:xfrm flipH="1" flipV="1">
            <a:off x="3657240" y="4114800"/>
            <a:ext cx="22860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7467480" y="3876840"/>
            <a:ext cx="12193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textbox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 flipH="1" flipV="1">
            <a:off x="3809880" y="4038120"/>
            <a:ext cx="365760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5"/>
          <p:cNvSpPr/>
          <p:nvPr/>
        </p:nvSpPr>
        <p:spPr>
          <a:xfrm flipV="1">
            <a:off x="7467480" y="2666520"/>
            <a:ext cx="228600" cy="159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34A4-C424-460E-8654-D6FAB23BD8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1905120" y="1828800"/>
            <a:ext cx="5029200" cy="28195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items around to improve the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in the Detail section called Value to compute [QuantitySold]*[SalePric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urrency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Sum calculations to be Sum([QuantitySold]*[SalePric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Record Source to add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clean up the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14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5154480" cy="4495680"/>
          </a:xfrm>
          <a:prstGeom prst="rect">
            <a:avLst/>
          </a:prstGeom>
          <a:ln w="0">
            <a:noFill/>
          </a:ln>
        </p:spPr>
      </p:pic>
      <p:sp>
        <p:nvSpPr>
          <p:cNvPr id="3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1E47-2AB5-42E6-892E-61A195990A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3352680" y="5334120"/>
            <a:ext cx="1524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 flipV="1">
            <a:off x="2590920" y="52574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5638680" y="4495680"/>
            <a:ext cx="1524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5181480" y="4800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"/>
          <p:cNvSpPr/>
          <p:nvPr/>
        </p:nvSpPr>
        <p:spPr>
          <a:xfrm flipH="1" flipV="1">
            <a:off x="5181480" y="47242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5638680" y="480060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498C-7818-4E94-A4A8-10152BD65C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Report (One Page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8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46609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FEB9-4B5A-412C-96CB-716DFB94FF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1752480" y="1981080"/>
            <a:ext cx="5334120" cy="26672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to total sales by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report based o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Customer group, set the Keep Together property to Whol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9607-977B-4AE5-B5FE-10E0A805DE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Totals Without I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685800" y="2057400"/>
            <a:ext cx="784872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CustomerID, Customer.LastName, Customer.FirstName, Customer.Phone, Customer.EMail, Sale.SaleID, Sale.SaleDate, Sale.ShipCity, Sale.ShipState, Sum([SalePrice]*[QuantitySold]) AS [Valu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(Customer INNER JOIN Sale ON Customer.CustomerID = Sale.CustomerID) INNER JOIN SaleItem ON Sale.SaleID = 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Customer.CustomerID, Customer.LastName, Customer.FirstName, Customer.Phone, Customer.EMail, Sale.SaleID, Sale.SaleDate, Sale.ShipCity, Sale.Ship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 Customer.LastName, Customer.First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9FF4-F141-4FA7-BF9D-FD240D687A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209680" y="2057400"/>
            <a:ext cx="4648320" cy="22860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/Forms/More Forms/Form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ll columns to the right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Columnar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a name for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5347-C29A-4BEA-8C50-8296F06115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Total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11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486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BF67-3332-4D74-AE9B-39CCB62A07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143000" y="1828800"/>
            <a:ext cx="6858000" cy="33526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imple tabular report based on the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ale sub-report from the Sale and SaleItem tables, grouping it by Sale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Rental sub-report from the Rental and RentalItem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Customer report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and drop the two sub-reports onto the Detail section of the Customer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roperties of the sub-reports to set the Link Child and Link Master Fields to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4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810560" cy="4038480"/>
          </a:xfrm>
          <a:prstGeom prst="rect">
            <a:avLst/>
          </a:prstGeom>
          <a:ln w="0">
            <a:noFill/>
          </a:ln>
        </p:spPr>
      </p:pic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CDA9-8507-4BD4-BB14-25DBDB13FA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report: Sales and Ren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4191120" y="3429000"/>
            <a:ext cx="1371600" cy="1739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main customer report (master) to subreport (chi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0"/>
          <p:cNvSpPr/>
          <p:nvPr/>
        </p:nvSpPr>
        <p:spPr>
          <a:xfrm flipH="1" flipV="1">
            <a:off x="4266720" y="31237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1"/>
          <p:cNvSpPr/>
          <p:nvPr/>
        </p:nvSpPr>
        <p:spPr>
          <a:xfrm flipV="1">
            <a:off x="4952880" y="27428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512B-C606-46B1-BCD8-66F7FEEA19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report Displ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12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5388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4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4902480" cy="3666960"/>
          </a:xfrm>
          <a:prstGeom prst="rect">
            <a:avLst/>
          </a:prstGeom>
          <a:ln w="0">
            <a:noFill/>
          </a:ln>
        </p:spPr>
      </p:pic>
      <p:sp>
        <p:nvSpPr>
          <p:cNvPr id="12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EC72-33CD-418D-A943-33FEDF7726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 Form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57200" y="251460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5029200" y="2590920"/>
            <a:ext cx="2362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/transfer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 flipH="1">
            <a:off x="4267080" y="297180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 flipH="1">
            <a:off x="5105160" y="297180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2057400" y="26668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2" descr=""/>
          <p:cNvPicPr/>
          <p:nvPr/>
        </p:nvPicPr>
        <p:blipFill>
          <a:blip r:embed="rId1"/>
          <a:stretch/>
        </p:blipFill>
        <p:spPr>
          <a:xfrm>
            <a:off x="1828800" y="2163600"/>
            <a:ext cx="5867280" cy="4008600"/>
          </a:xfrm>
          <a:prstGeom prst="rect">
            <a:avLst/>
          </a:prstGeom>
          <a:ln w="0">
            <a:noFill/>
          </a:ln>
        </p:spPr>
      </p:pic>
      <p:sp>
        <p:nvSpPr>
          <p:cNvPr id="1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4F46-3B0F-4297-B005-4EEE6AC1B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 Design 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4572000" y="147780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box to add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 flipH="1">
            <a:off x="5486400" y="21636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343400" y="5516640"/>
            <a:ext cx="1676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 to control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 flipV="1">
            <a:off x="5029200" y="483048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 flipV="1">
            <a:off x="2286000" y="3306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457200" y="1782720"/>
            <a:ext cx="129528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design, layout, or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>
            <a:off x="1752480" y="22399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6705720" y="140184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 Lis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9"/>
          <p:cNvSpPr/>
          <p:nvPr/>
        </p:nvSpPr>
        <p:spPr>
          <a:xfrm flipH="1">
            <a:off x="6705720" y="17827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990720" y="3535200"/>
            <a:ext cx="12952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 open form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2" descr=""/>
          <p:cNvPicPr/>
          <p:nvPr/>
        </p:nvPicPr>
        <p:blipFill>
          <a:blip r:embed="rId1"/>
          <a:stretch/>
        </p:blipFill>
        <p:spPr>
          <a:xfrm>
            <a:off x="4191120" y="2362320"/>
            <a:ext cx="2900160" cy="2819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2438640" cy="2797200"/>
          </a:xfrm>
          <a:prstGeom prst="rect">
            <a:avLst/>
          </a:prstGeom>
          <a:ln w="0">
            <a:noFill/>
          </a:ln>
        </p:spPr>
      </p:pic>
      <p:sp>
        <p:nvSpPr>
          <p:cNvPr id="15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FC3D-2DAF-4146-B50B-B18BD24B50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Source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1308600" y="525780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data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4359240" y="52578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data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4495680" y="1523880"/>
            <a:ext cx="2362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Source = CustomerI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 flipH="1">
            <a:off x="3200400" y="2133720"/>
            <a:ext cx="380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 flipH="1">
            <a:off x="6248520" y="2174760"/>
            <a:ext cx="380880" cy="125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1447920" y="1523880"/>
            <a:ext cx="220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Source =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9F49-0335-4D6F-8280-18153FBEEE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981080" y="1905120"/>
            <a:ext cx="5257800" cy="24382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Customer form to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mmand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Record Operation/Delete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command button to insert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the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/Tab Order and verify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23AF-DBF3-44A4-B231-086D8246EC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ding Command Butt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2989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20T05:00:06Z</dcterms:modified>
  <cp:revision>86</cp:revision>
  <dc:subject/>
  <dc:title>All Powder Board and Ski</dc:title>
</cp:coreProperties>
</file>