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12C-5E25-4CBA-AADF-8FDA8F6C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FB5-B9C6-4568-8FA1-0AB5500F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713-EF3E-46A1-87FD-493D4BD9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7F9-7A22-48B2-9912-6EB2E2CF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AC03-8787-44E5-A8D9-590754AB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7EAF-855A-456E-8CA7-16795B0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E6F8-AE45-4DAB-A0CB-AE5B51E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7BFB-D942-4D21-BABF-9E57C37A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7681-1CB4-4613-8E63-E4074E8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2D87-F7A1-4192-90B1-560DA2F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D129-7BB9-4487-857F-68C4C86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1CB-871E-4EFF-B56B-9986E910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32F-7F9F-4783-B149-7AAFBEE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9041-A677-479C-90BD-DBABD68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662-46C2-4F8E-9297-77DDF13A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EFF5-58A8-444A-A773-4D0EACF8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054-D5AC-4291-A432-B96D82AC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F50-BBDC-4195-BFEC-9FB5C248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7CA-427D-421C-AE13-7214A07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825-AB1B-4318-A298-88813125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928-B7CF-45DA-B208-A4254DE5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7E7-DBFF-4E5C-B496-8533170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DA5-DFE2-4162-9DF1-090252AF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34E-9D93-4565-9C0C-A9988C0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3B7C-C6D3-46ED-B6C9-87459AF5E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8835-CF5E-4F13-A37E-E8E5F3C50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447920" y="2362320"/>
            <a:ext cx="6172200" cy="2057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rule: “Female” Or “Male” Or “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text: Please enter Female, Male, or Un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7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952880" cy="4141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44197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371600" y="518652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2666880" y="2971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2666880" y="457200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 flipV="1">
            <a:off x="2666880" y="51055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057400" y="2362320"/>
            <a:ext cx="5257800" cy="25905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ender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Control: 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 Type: 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ource: “Female”;”Male”;”Unidentifi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datasheet view and 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0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46876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mple Lookup Li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09480" y="28195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09480" y="38862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666880" y="2971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1981080" y="40384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09480" y="44197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1981080" y="4572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609480" y="49528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in quotes and separated by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2666880" y="46483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486400" y="32004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H="1">
            <a:off x="3885840" y="3352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790128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800600" y="41911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6172200" y="3657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133720" y="419112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umber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 flipV="1">
            <a:off x="2133720" y="35812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H="1" flipV="1">
            <a:off x="2209320" y="3428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-valued Fiel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919760" cy="3746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5867280" y="1600200"/>
            <a:ext cx="243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employees can participate in many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s are selected through a list of checkboxes that were created with a multi-valued Lookup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ly, Access stores the SaleID, EmployeeID pairs in a hidden system table to avoid the problems of violating 1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133720" y="2362320"/>
            <a:ext cx="5181480" cy="2514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/Relationships (or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l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nd resize them to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key columns on foreig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integrity and cascad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l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8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6195960" cy="4419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638680" y="2209680"/>
            <a:ext cx="1981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133720" y="495288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all thre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2057400" y="274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 and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2514600" y="39625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both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20"/>
          <p:cNvCxnSpPr>
            <a:stCxn id="180" idx="1"/>
          </p:cNvCxnSpPr>
          <p:nvPr/>
        </p:nvCxnSpPr>
        <p:spPr>
          <a:xfrm flipH="1">
            <a:off x="5181120" y="2396160"/>
            <a:ext cx="45792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5" name="Straight Arrow Connector 22"/>
          <p:cNvCxnSpPr>
            <a:stCxn id="182" idx="3"/>
          </p:cNvCxnSpPr>
          <p:nvPr/>
        </p:nvCxnSpPr>
        <p:spPr>
          <a:xfrm>
            <a:off x="3657240" y="3067200"/>
            <a:ext cx="305640" cy="5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6" name="Straight Arrow Connector 24"/>
          <p:cNvCxnSpPr>
            <a:stCxn id="183" idx="3"/>
          </p:cNvCxnSpPr>
          <p:nvPr/>
        </p:nvCxnSpPr>
        <p:spPr>
          <a:xfrm>
            <a:off x="4114800" y="4287960"/>
            <a:ext cx="91512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7" name="Straight Arrow Connector 26"/>
          <p:cNvCxnSpPr>
            <a:stCxn id="181" idx="3"/>
          </p:cNvCxnSpPr>
          <p:nvPr/>
        </p:nvCxnSpPr>
        <p:spPr>
          <a:xfrm flipV="1">
            <a:off x="4572000" y="5028480"/>
            <a:ext cx="45792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57200" y="1523880"/>
            <a:ext cx="723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5896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Relationship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800" y="14605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Rental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Rental PRIMARY KEY 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RentalCustomer FOREIGN KEY 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Customer(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DELE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ON UPDA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ON DELETE AND ON UPDATE are not supported with Access 2002, but hopefully will be supported with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762120" y="1600200"/>
            <a:ext cx="4495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286000" y="2286000"/>
            <a:ext cx="4572000" cy="2438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able names as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s for: Bytes, Rows,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bytes per tabl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number of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table and overall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Object 198"/>
          <p:cNvGraphicFramePr/>
          <p:nvPr/>
        </p:nvGraphicFramePr>
        <p:xfrm>
          <a:off x="762120" y="1447920"/>
          <a:ext cx="75438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1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5438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toNumb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1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911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3"/>
          <p:cNvSpPr/>
          <p:nvPr/>
        </p:nvSpPr>
        <p:spPr>
          <a:xfrm>
            <a:off x="2666880" y="2286000"/>
            <a:ext cx="10670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4"/>
          <p:cNvSpPr/>
          <p:nvPr/>
        </p:nvSpPr>
        <p:spPr>
          <a:xfrm>
            <a:off x="5562720" y="2286000"/>
            <a:ext cx="838080" cy="99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5"/>
          <p:cNvSpPr/>
          <p:nvPr/>
        </p:nvSpPr>
        <p:spPr>
          <a:xfrm>
            <a:off x="5562720" y="3581280"/>
            <a:ext cx="83808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0" y="2362320"/>
            <a:ext cx="4572000" cy="22096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ustomer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he 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5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657680" cy="4191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ables in Acces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800" y="220968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 flipV="1">
            <a:off x="2362320" y="2133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362320" y="236232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867280" y="30481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H="1" flipV="1">
            <a:off x="5105520" y="297144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867280" y="365760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typ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 flipH="1">
            <a:off x="4952880" y="3886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85800" y="3276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V="1">
            <a:off x="2362320" y="30481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8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95720" cy="4495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Types: Sub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57200" y="23623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562720" y="27432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57200" y="403848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: 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362320" y="25146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480024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362320" y="42670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5T00:08:04Z</dcterms:modified>
  <cp:revision>33</cp:revision>
  <dc:subject/>
  <dc:title>All Powder Board and Ski</dc:title>
</cp:coreProperties>
</file>