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1AC-C44A-4AC0-B6BC-BA1C9554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AFB-7C5A-42E5-938B-D0846F6D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0AC-AF7F-42C6-8012-57D4CBCC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FAC-1EF9-45A7-B6CB-DCD4A198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845F-BC49-4CB6-AC99-13072005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857C-BAA6-4678-8DA2-911896AB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4A64-CD59-48B0-9B15-61D1C663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E997-6ECC-4436-A680-992D070E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532E-8E07-4A61-B422-DF483E6D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2D4C-D602-423D-AA6F-111015BF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7951-5F23-443F-A45F-087056C3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255-2700-4024-BF18-87EDA6F6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6D89-5CF5-4301-9CCD-3674D8C2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1F5A-B8AC-45C6-9B56-FE02478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1396-5891-43FA-87B8-F7C77F2B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C8B2-FE13-4706-9746-2A9B5176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7FC9-601E-4C1E-9F20-8AF8B482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A6B-6D25-4159-8571-185E2847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6CE-5B4A-47F3-BF0B-7CE80B1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1D9-B11C-4E5C-9367-5E1E3949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6F1-1ACE-4458-8483-EE9B2172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FDD-B86C-4BBA-9FB7-ABF46F80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E57-B7CC-44B4-A2A5-5C3748E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1AD-37C8-448C-B59D-50A1ECF3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63E6-733D-4E52-A481-522752B27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360A-8D1C-4892-839D-132340A72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6B1C-6549-4965-8997-A2E36D7C5E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Access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2: Physical Data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562720" cy="446256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4327-F7F0-41D4-8FC3-9D897D50F0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: Manual Data Par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3352680" y="4876920"/>
            <a:ext cx="17528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able to old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4724280" y="403848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3"/>
          <p:cNvSpPr/>
          <p:nvPr/>
        </p:nvSpPr>
        <p:spPr>
          <a:xfrm flipH="1">
            <a:off x="2590920" y="525780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FA16-4A3A-4104-A99F-6302C2F79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828800" y="2057400"/>
            <a:ext cx="5410080" cy="29718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blank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py of the ItemModel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it with all data before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ItemModel table in the main database, remove the data before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linked table in the main database to connect to the olde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NION query that retrieves all rows of data for the ItemModel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1D19-3855-413E-B60F-91F3BD8D2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icrosoft Access File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600200"/>
          <a:ext cx="7497720" cy="3924360"/>
        </p:xfrm>
        <a:graphic>
          <a:graphicData uri="http://schemas.openxmlformats.org/drawingml/2006/table">
            <a:tbl>
              <a:tblPr/>
              <a:tblGrid>
                <a:gridCol w="1176480"/>
                <a:gridCol w="1176480"/>
                <a:gridCol w="514476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uf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 Suf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database file to hold data, forms, and repor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C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s lock data to prevent multi-user collis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pped down MDB file that removes source code and prevents users from editing forms and repor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late file. Download the Access Extensions to create template files from your datab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-time version that prevents changes to forms and reports. You can restore it by renaming the extens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group file that contains user and group login information. The default is System.MDW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file that contains code to connect to a SQL Server datab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C240-0EAD-45E9-9559-9EE4EC756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et Engine Registry Sett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2" descr=""/>
          <p:cNvPicPr/>
          <p:nvPr/>
        </p:nvPicPr>
        <p:blipFill>
          <a:blip r:embed="rId1"/>
          <a:stretch/>
        </p:blipFill>
        <p:spPr>
          <a:xfrm>
            <a:off x="981000" y="1495440"/>
            <a:ext cx="7182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80D0-EB99-464E-9160-0C65ADE74F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14400" y="1905120"/>
            <a:ext cx="7162920" cy="167616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registry editor with Start/Run/rege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Local Machine keys to find the entries for the Jet eng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Threads value from 3 t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some queries and forms to see if performanc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11-24T17:48:11Z</dcterms:modified>
  <cp:revision>87</cp:revision>
  <dc:subject/>
  <dc:title>All Powder Board and Ski</dc:title>
</cp:coreProperties>
</file>