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E24-6A35-487E-B64C-B58F48F8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4E68-1104-4CBF-BFAE-9DF5A410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DC4-E3BA-4D97-9F74-88DD4BA6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BCE-F338-4446-B422-DB0D060C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0F53-A72B-4F50-815B-F124E291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5E9F-8144-42AF-9621-0CFC4A6C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593E-9EB1-4FBC-8031-CD2C0508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D147-B006-4943-9BAF-15812C54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FBD8-6C06-4FDD-98D9-C2D30BA6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3D9A-1E06-4ADA-BA56-062DD62F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D95D-E13F-44EA-817B-2C4B0E79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72F-2986-41A0-ABF4-C1106E72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8698-43D4-4175-B56D-0B15D881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CB47-B888-422D-8547-D26578F0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0AFA-56D1-4873-9FFB-58406116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0E60-325D-4B61-BA58-0420246A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A5AD-64E7-4910-B1F9-28B6BBBE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587-2A06-4854-943C-DBEC7BCA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15C-6C49-4CF9-984E-B8E55406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C03-A6C9-4995-B1BB-17F0A058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BCE-CBF8-4500-885E-A8D7E179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AB4-A984-430A-8E07-30E05EA2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A7E-FF06-46B9-8CDB-054AE56F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0E8-35E4-44AA-9581-8ABADA08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95FB-9014-4898-81F1-27967606B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9436-4DDE-4114-B2EC-C11297419F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9A44-CF3F-4B9D-AC86-2FE50DB126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: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B915-C3D1-439A-A9CB-F08523AA5A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 Vers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33520" y="1322280"/>
            <a:ext cx="81532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ItemModel.Category, ItemModel.Color, ItemModel.ItemMaterial, ItemModel.Style, ItemModel.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ItemModel.Category)="Ski") AND ((ItemModel.Color)="Yellow") AND ((ItemModel.ItemMaterial)="Composite") AND ((ItemModel.Style)="Jump") AND ((ItemModel.ListPrice)&lt;300)) OR (((ItemModel.Category)="Ski") AND ((ItemModel.Color)="Red") AND ((ItemModel.ItemMaterial)="Composite") AND ((ItemModel.Style)="Jump") AND ((ItemModel.ListPrice)&lt;40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09480" y="4416480"/>
            <a:ext cx="80773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ategory, Color, ItemMaterial, Style,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Category="Ski" AND ItemMaterial="Composite" AND Style="Jump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( ( Color="Yellow" AND ListPrice&lt;3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(Color="Red" AND ListPrice&lt;400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8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4717800" cy="29718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E3A4-3C31-42A4-AC1B-7160B21724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 Query: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048120" y="198108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in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4800600" y="198108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 flipH="1">
            <a:off x="3733920" y="2362320"/>
            <a:ext cx="3808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5105520" y="236232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9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47242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AC6A-F653-4352-8414-177CC61FC5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838080" y="1905120"/>
            <a:ext cx="7391520" cy="30477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SaleID, SaleDate, CustomerID, and 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s for Cash sales in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Query/Show Table (or but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lumns: LastName, 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the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0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172200" cy="3238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1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6400800" cy="198108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879B-B009-4E72-B9BE-004A6C9737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 Tables: Sale + Custom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4191120" y="243828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ing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 flipH="1">
            <a:off x="4343400" y="281952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 flipH="1">
            <a:off x="4952520" y="2819520"/>
            <a:ext cx="381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CD38-5DA9-4209-939D-846595D5F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: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3520" y="2009880"/>
            <a:ext cx="7848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.SaleID, Sale.SaleDate, Sale.CustomerID, Customer.LastName, Customer.FirstName, Sale.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Customer INNER JOIN Sale ON Customer.CustomerID = 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Sale.SaleDate Between #5/1/2006# And #5/31/2006# AND Sale.PaymentMethod="Cash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5BB6-3D56-4AAE-8E35-2D59A4B379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uilding a More Complex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14400" y="1523880"/>
            <a:ext cx="6553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ustomers bought Atomic skis in January or Februa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2128680"/>
          <a:ext cx="6934320" cy="1700280"/>
        </p:xfrm>
        <a:graphic>
          <a:graphicData uri="http://schemas.openxmlformats.org/drawingml/2006/table">
            <a:tbl>
              <a:tblPr/>
              <a:tblGrid>
                <a:gridCol w="3112920"/>
                <a:gridCol w="3821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want to se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names, Sale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know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facturer name, SaleDate range, Category is 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tables are involv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are they join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… Sale … ItemModel, 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31"/>
          <p:cNvSpPr/>
          <p:nvPr/>
        </p:nvSpPr>
        <p:spPr>
          <a:xfrm>
            <a:off x="914400" y="41860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, FirstName,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, …, Sale, …, ItemModel,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Manufacturer.Name=“Atomic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ale.SaleDate BETWEEN 1/1/2006 AND 2/28/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emModel.Category = “Sk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2"/>
          <p:cNvSpPr/>
          <p:nvPr/>
        </p:nvSpPr>
        <p:spPr>
          <a:xfrm>
            <a:off x="5549760" y="2286000"/>
            <a:ext cx="2934000" cy="207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3"/>
          <p:cNvSpPr/>
          <p:nvPr/>
        </p:nvSpPr>
        <p:spPr>
          <a:xfrm>
            <a:off x="6324480" y="2819520"/>
            <a:ext cx="2298960" cy="2361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5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451560" cy="4197240"/>
          </a:xfrm>
          <a:prstGeom prst="rect">
            <a:avLst/>
          </a:prstGeom>
          <a:ln w="0">
            <a:noFill/>
          </a:ln>
        </p:spPr>
      </p:pic>
      <p:sp>
        <p:nvSpPr>
          <p:cNvPr id="18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026A-6CF8-48BC-B7F8-744DCF97B5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: Man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6" descr=""/>
          <p:cNvPicPr/>
          <p:nvPr/>
        </p:nvPicPr>
        <p:blipFill>
          <a:blip r:embed="rId2"/>
          <a:stretch/>
        </p:blipFill>
        <p:spPr>
          <a:xfrm>
            <a:off x="1066680" y="5029200"/>
            <a:ext cx="68691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8F71-D129-4AA0-9C54-7B992F33B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Many Table Joi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457200" y="1905120"/>
            <a:ext cx="8153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.LastName, Customer.FirstName, ItemModel.Category, Manufacturer.Name, Sale.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anufacturer INNER JOIN (ItemModel INNER JOIN (Inventory INNER JOIN ((Customer INNER JOIN Sale ON Customer.CustomerID = Sale.CustomerID) INNER JOIN SaleItem ON Sale.SaleID = SaleItem.SaleID) ON Inventory.SKU = SaleItem.SKU) ON ItemModel.ModelID = Inventory.ModelID) ON Manufacturer.ManufacturerID = ItemModel.Manufactur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ItemModel.Category)="Ski") AND ((Manufacturer.Name)="Atomic") AND ((Sale.SaleDate) Between #1/1/2006# And #2/29/2006#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8991-E9A0-4129-B86A-1823F3E102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676520" y="1981080"/>
            <a:ext cx="5790960" cy="19814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Category, ItemMaterial, and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column as Profit: [ListPrice]-[Co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343400" cy="3054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4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4005000" cy="321300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9A9B-79F7-4FBA-B75B-59D9A91937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lcul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3048120" y="190512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7772400" y="2743200"/>
            <a:ext cx="685800" cy="2971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53352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ategory, ItemMaterial, ListPric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Price-Cost AS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BY Category, ListPrice DES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 flipH="1">
            <a:off x="3809880" y="228600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4419720" y="2286000"/>
            <a:ext cx="3429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88A7-8995-4DA9-BAEA-1DC8F5636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mar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871560" y="1828800"/>
            <a:ext cx="7399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C7D3-4F54-4406-A088-BEB708504C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mon Func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523880" y="1447920"/>
            <a:ext cx="5791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ow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/number of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ub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leading and trailing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pp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A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days, months, years to a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D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two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detailed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at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ine, all common tri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 drop decima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5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711600" cy="373392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BFF9-F5E0-4861-B93B-FFA6309A25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at Fun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666880" y="2590920"/>
            <a:ext cx="838440" cy="3124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4" descr=""/>
          <p:cNvPicPr/>
          <p:nvPr/>
        </p:nvPicPr>
        <p:blipFill>
          <a:blip r:embed="rId2"/>
          <a:stretch/>
        </p:blipFill>
        <p:spPr>
          <a:xfrm>
            <a:off x="3581280" y="1371600"/>
            <a:ext cx="49532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A66E-136F-4E20-8B44-3E4A62A2B3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990720" y="2057400"/>
            <a:ext cx="7162560" cy="2286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SaleID and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column as LateDate: [SaleDate]+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new column as LateMonth: DateAdd(“m”,1,[SaleDate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0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486400" cy="307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1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3426120" cy="2743200"/>
          </a:xfrm>
          <a:prstGeom prst="rect">
            <a:avLst/>
          </a:prstGeom>
          <a:ln w="0">
            <a:noFill/>
          </a:ln>
        </p:spPr>
      </p:pic>
      <p:sp>
        <p:nvSpPr>
          <p:cNvPr id="21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2517-38B6-41CE-93E1-5715E26B2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eAdd and DateDiff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5410080" y="1828800"/>
            <a:ext cx="2743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 + one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2514600" y="182880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 + 3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3048120" y="22096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3"/>
          <p:cNvSpPr/>
          <p:nvPr/>
        </p:nvSpPr>
        <p:spPr>
          <a:xfrm>
            <a:off x="3048120" y="2209680"/>
            <a:ext cx="22860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4"/>
          <p:cNvSpPr/>
          <p:nvPr/>
        </p:nvSpPr>
        <p:spPr>
          <a:xfrm flipH="1">
            <a:off x="5181120" y="2209680"/>
            <a:ext cx="12956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6477120" y="2209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D564-43BE-4BB8-BA43-E9A718905E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752480" y="1905120"/>
            <a:ext cx="5867640" cy="27432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ShipState and 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/Totals (or Totals but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“Where” for Total row i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“CA” as a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“Sum” for SalesTax Total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7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620120" cy="4981320"/>
          </a:xfrm>
          <a:prstGeom prst="rect">
            <a:avLst/>
          </a:prstGeom>
          <a:ln w="0">
            <a:noFill/>
          </a:ln>
        </p:spPr>
      </p:pic>
      <p:sp>
        <p:nvSpPr>
          <p:cNvPr id="22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3A84-E313-4FB9-B847-EA60D1EBF9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: S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 flipV="1">
            <a:off x="5867280" y="2209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123720" y="327672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343400" y="2666880"/>
            <a:ext cx="2362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s button adds the Total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5257800" y="4495680"/>
            <a:ext cx="2362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 flipH="1">
            <a:off x="4724280" y="4724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715000" y="3429000"/>
            <a:ext cx="1905120" cy="785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Of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5,33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427C-13F3-4E21-BFE2-7174F83729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S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990720" y="1905120"/>
            <a:ext cx="586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um(Sale.SalesTax) AS SumOf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.ShipState="C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2925-001A-4260-B981-DDB2B4846B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2057400" y="1981080"/>
            <a:ext cx="5257800" cy="23623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: ShipState and 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/Totals (or Totals but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“Sum” for SalesTax Total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7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880160" cy="3809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4089240" cy="3176640"/>
          </a:xfrm>
          <a:prstGeom prst="rect">
            <a:avLst/>
          </a:prstGeom>
          <a:ln w="0">
            <a:noFill/>
          </a:ln>
        </p:spPr>
      </p:pic>
      <p:sp>
        <p:nvSpPr>
          <p:cNvPr id="23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5A68-9587-4456-BBDD-6903DD6220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: Group B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 flipH="1">
            <a:off x="4876560" y="289548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 flipH="1">
            <a:off x="1980720" y="2819520"/>
            <a:ext cx="3962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5410080" y="1981080"/>
            <a:ext cx="26672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produces subtotals for all values in the specifi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AAAD-9D82-4544-9C3F-EEF6093B61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Group B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762120" y="228600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.ShipState, Sum(Sale.SalesTax) AS SumOf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Sale.ShipSt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7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6262560" cy="454356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8E9B-68AD-4A68-9F91-80FA25A8A4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arting a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7200" y="312408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2057400" y="3276720"/>
            <a:ext cx="19051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934320" y="205740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tabl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 flipV="1">
            <a:off x="5562720" y="205704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 flipH="1">
            <a:off x="5790960" y="22860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33520" y="403848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fields/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2362320" y="4267080"/>
            <a:ext cx="1981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533520" y="52578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057400" y="541008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V="1">
            <a:off x="2057400" y="3200400"/>
            <a:ext cx="1905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457200" y="213372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SQL or view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3"/>
          <p:cNvSpPr/>
          <p:nvPr/>
        </p:nvSpPr>
        <p:spPr>
          <a:xfrm flipV="1">
            <a:off x="2209680" y="22856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4"/>
          <p:cNvSpPr/>
          <p:nvPr/>
        </p:nvSpPr>
        <p:spPr>
          <a:xfrm flipV="1">
            <a:off x="2209680" y="2057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F6B7-8C70-44A5-BC8A-9C410E1F9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tal Sales Value in Color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867280" y="3124080"/>
            <a:ext cx="1295640" cy="785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,96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990720" y="4751280"/>
            <a:ext cx="7391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um([QuantitySold]*[SalePrice]) AS Sale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 INNER JOIN SaleItem ON Sale.SaleID = 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.ShipState="CO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43434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540E-1FEF-4032-AB8D-435E2EE4A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600200" y="2286000"/>
            <a:ext cx="5867280" cy="2286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reate/Query/Query Design to start a new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olumns for Category, ListPrice, WeightMax, Color, and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conditions for Board, ListPrice, and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12E9-56A4-4C3A-B575-4AB068A76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mple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33520" y="3625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Display snowboards with a list price under $300 and max weight over 150 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33520" y="4343400"/>
            <a:ext cx="8001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ItemModel.Category, ItemModel.ListPrice, ItemModel.WeightMax, ItemModel.Color, ItemModel.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((ItemModel.Category)="Board") AND ((ItemModel.ListPrice)&lt;300) AND ((ItemModel.WeightMax)&gt;15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733560" cy="2246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35812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24D1-0BC5-48D1-804D-DE6F135D85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057400" y="2209680"/>
            <a:ext cx="4800600" cy="27432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lumns: Category, Color, ItemMaterial, Style, and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equested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5" descr=""/>
          <p:cNvPicPr/>
          <p:nvPr/>
        </p:nvPicPr>
        <p:blipFill>
          <a:blip r:embed="rId1"/>
          <a:stretch/>
        </p:blipFill>
        <p:spPr>
          <a:xfrm>
            <a:off x="1905120" y="3111480"/>
            <a:ext cx="5333760" cy="283212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0888-9FFC-42BF-8952-FF9703523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Complex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69360" y="1407960"/>
            <a:ext cx="346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for jum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te mate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or Yellow main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skis must be under $3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skis must be under $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581280" y="3581280"/>
            <a:ext cx="2667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mai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H="1">
            <a:off x="2819520" y="3962520"/>
            <a:ext cx="17524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4572000" y="3962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4572000" y="396252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5165640" cy="27432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E793-63F8-47F3-B0C4-43AAA58A92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lor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695680" y="2209680"/>
            <a:ext cx="3352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and price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2924280" y="25909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3838680" y="2590920"/>
            <a:ext cx="16002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400040" y="4419720"/>
            <a:ext cx="5562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5 conditions must hold, so only one row m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7" descr=""/>
          <p:cNvPicPr/>
          <p:nvPr/>
        </p:nvPicPr>
        <p:blipFill>
          <a:blip r:embed="rId2"/>
          <a:stretch/>
        </p:blipFill>
        <p:spPr>
          <a:xfrm>
            <a:off x="1371600" y="4890960"/>
            <a:ext cx="46483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6" descr=""/>
          <p:cNvPicPr/>
          <p:nvPr/>
        </p:nvPicPr>
        <p:blipFill>
          <a:blip r:embed="rId1"/>
          <a:stretch/>
        </p:blipFill>
        <p:spPr>
          <a:xfrm>
            <a:off x="1301760" y="1106640"/>
            <a:ext cx="6083280" cy="331308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6"/>
          <p:cNvSpPr/>
          <p:nvPr/>
        </p:nvSpPr>
        <p:spPr>
          <a:xfrm>
            <a:off x="6527880" y="6248520"/>
            <a:ext cx="218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693E-C38D-44D8-B484-9F6C2E8083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080" y="22860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ltiple Condi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525760" y="2200320"/>
            <a:ext cx="3902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Criteria row for red s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 flipH="1">
            <a:off x="3246480" y="2581200"/>
            <a:ext cx="9367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7" descr=""/>
          <p:cNvPicPr/>
          <p:nvPr/>
        </p:nvPicPr>
        <p:blipFill>
          <a:blip r:embed="rId2"/>
          <a:stretch/>
        </p:blipFill>
        <p:spPr>
          <a:xfrm>
            <a:off x="1311120" y="4446720"/>
            <a:ext cx="52261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26T00:24:12Z</dcterms:modified>
  <cp:revision>50</cp:revision>
  <dc:subject/>
  <dc:title>All Powder Board and Ski</dc:title>
</cp:coreProperties>
</file>