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B0D-B4F6-4EB6-93B9-57BC072C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D75-83E3-4F5C-A907-125143A5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8B8-FFD7-4809-8EEA-3A66B330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CEE-9D3D-4814-ABEA-99FC065C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53B6-46E6-40D0-BE78-AD7B1BFB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4FEC-C76A-4DF9-80B8-F48B3992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B187-D3B3-4921-8D8F-B13AF3E7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8F81-028F-4ACF-9558-A341459B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63F6-9850-4B3E-8AF5-A1BD1019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B3F1-31F5-428B-A026-64B3A739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CE24-5865-4867-9E48-C6031B1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797-68C6-4FA0-8F66-8D9F0175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47C5-D08F-4827-8C9C-550F515F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AB79-FA2A-4085-9C52-5886B2C9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A5B2-5AF6-41CF-B4AB-0089CBD3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D1EB-1B4D-4943-93A2-3C363199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9ED5-F3C4-4076-ADD8-3531B650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10B-6433-41D5-9819-BA338DC3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D47-522A-45C4-B390-8690F645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B49-4F1E-47E8-BFD1-51D58AC7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9B4-332F-4021-8C3D-3CA9421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A62-C39E-4CFE-822F-2B1AE8F6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316-9932-4308-935C-2C34D4F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BA1-5C89-47EC-960F-6F23007A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104F-4092-4165-83DB-0AB9907CF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E2C-39BF-4EB7-9BEA-61E53E2C3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7707-70C4-4A3F-8EB2-7BD9E1E9A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: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BDA0-1275-4D28-9E7A-46291908F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752480" y="1905120"/>
            <a:ext cx="5791320" cy="32763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table with columns: RibbonName (text) and RibbonXML (mem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it as USysRibb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row of data: Name=Home, XML=Figure 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and restart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de in Module1 to handl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BA Editor use Tools/References to add Microsoft Office 12 Object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Office Button to assign the new ribb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and restart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E662-DEEC-437B-8B7E-E6EFCEB2D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3807360"/>
            <a:ext cx="1600200" cy="162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370240" y="2059200"/>
            <a:ext cx="1701720" cy="78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Powder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609588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609588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609588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731520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731520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731520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838080" y="4923000"/>
            <a:ext cx="266724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File: AllPowder.c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Context ID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4350240" y="3205080"/>
            <a:ext cx="1157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pi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pi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pi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opi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pi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Topic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556272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5486400" y="3962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1"/>
          <p:cNvSpPr/>
          <p:nvPr/>
        </p:nvSpPr>
        <p:spPr>
          <a:xfrm>
            <a:off x="3875040" y="1225440"/>
            <a:ext cx="4749840" cy="468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 flipV="1">
            <a:off x="2209680" y="2819160"/>
            <a:ext cx="1219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4194000" y="19051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 flipH="1">
            <a:off x="4114800" y="2286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E500-FF6F-4B5D-9C1A-A8FD94915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838080" y="1371600"/>
            <a:ext cx="71629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Object type="application/x-oleobjec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d="clsid:1e2a7bd0-dab9-11d0-b93a-00c04fc99f9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Content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Introduction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Star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Managemen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OBJECT&gt;&lt;HTML&gt;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1&gt;Introduction to the All Powder Board and Ski Shop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&gt;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&lt;IMG SRC='BoardLogo1.gif' border='0'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All Powder Board and Ski Shop sells and rents snowboards and skis for all levels of riders and skiers.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2&gt;The Board and Ski Shop&lt;/H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L&gt;&lt;LI&gt;&lt;A HREF=’Customers.html'&gt;Customers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&gt;&lt;A HREF=’Sales.html'&gt;Sales 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UL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2E82-51D1-48A2-8C39-A44730F13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914400" y="1600200"/>
            <a:ext cx="7238880" cy="37339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t least three HTML help files for the All Powder forms using an HTML editor or 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download and install the HTML Help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project in the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HTM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HTML files to add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mapping file with a text editor and add it to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roject options to build the TOC and inde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and test the 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database forms and add the help file name and Cont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press the F1 key to test the 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5AA2-D87E-482B-9E50-177898AD6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pics Ma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981080" y="20574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AllPow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Custo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EDCF-1A14-4280-9333-6396F7F5F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Compiler and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1077840" y="1600200"/>
            <a:ext cx="6986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7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705720" cy="451008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E18F-F2DD-49FB-89A4-E915D10A1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File on Access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114800" y="43434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V="1">
            <a:off x="5562720" y="419076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962520" y="487692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V="1">
            <a:off x="5638680" y="43430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7314-5E4E-45EA-94D2-BBE8C4A0B1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ploying Applic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j0285135"/>
          <p:cNvPicPr/>
          <p:nvPr/>
        </p:nvPicPr>
        <p:blipFill>
          <a:blip r:embed="rId1"/>
          <a:stretch/>
        </p:blipFill>
        <p:spPr>
          <a:xfrm>
            <a:off x="762120" y="1752480"/>
            <a:ext cx="1795320" cy="2727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G1D"/>
          <p:cNvPicPr/>
          <p:nvPr/>
        </p:nvPicPr>
        <p:blipFill>
          <a:blip r:embed="rId2"/>
          <a:stretch/>
        </p:blipFill>
        <p:spPr>
          <a:xfrm>
            <a:off x="4952880" y="2209680"/>
            <a:ext cx="1503360" cy="12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98760" y="4608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727880" y="34290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>
            <a:off x="2514600" y="3209760"/>
            <a:ext cx="2779560" cy="103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2899080" y="4191120"/>
            <a:ext cx="274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 to trans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.mdb or Name.m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files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files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17EC-7763-4A2C-96B1-43353D3E2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447920" y="1905120"/>
            <a:ext cx="5562360" cy="19810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your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mdb and chm files to a second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desktop shortcut to th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application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the Access runtime, use its installation software to build an installation file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9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2819520" cy="2306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8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200400" cy="2616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7" descr=""/>
          <p:cNvPicPr/>
          <p:nvPr/>
        </p:nvPicPr>
        <p:blipFill>
          <a:blip r:embed="rId3"/>
          <a:stretch/>
        </p:blipFill>
        <p:spPr>
          <a:xfrm>
            <a:off x="3809880" y="3733920"/>
            <a:ext cx="2971800" cy="22446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97" name="Picture 116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2583000" cy="2619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43BF-B24C-429B-9A23-2169E481B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pplication El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8"/>
          <p:cNvSpPr/>
          <p:nvPr/>
        </p:nvSpPr>
        <p:spPr>
          <a:xfrm>
            <a:off x="2743200" y="152388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9"/>
          <p:cNvSpPr/>
          <p:nvPr/>
        </p:nvSpPr>
        <p:spPr>
          <a:xfrm>
            <a:off x="3048120" y="2743200"/>
            <a:ext cx="13716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form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0"/>
          <p:cNvSpPr/>
          <p:nvPr/>
        </p:nvSpPr>
        <p:spPr>
          <a:xfrm>
            <a:off x="4114800" y="1143000"/>
            <a:ext cx="762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1"/>
          <p:cNvSpPr/>
          <p:nvPr/>
        </p:nvSpPr>
        <p:spPr>
          <a:xfrm flipH="1">
            <a:off x="205704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2"/>
          <p:cNvSpPr/>
          <p:nvPr/>
        </p:nvSpPr>
        <p:spPr>
          <a:xfrm>
            <a:off x="1600200" y="2819520"/>
            <a:ext cx="2209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4"/>
          <p:cNvSpPr/>
          <p:nvPr/>
        </p:nvSpPr>
        <p:spPr>
          <a:xfrm>
            <a:off x="1523880" y="137160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5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651280" cy="362736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7BBD-9FB0-4F78-9507-355579D03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mplat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895480" y="3048120"/>
            <a:ext cx="685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5257800" y="3048120"/>
            <a:ext cx="838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3048120" y="449568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V="1">
            <a:off x="2286000" y="304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 flipH="1" flipV="1">
            <a:off x="3124080" y="26665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V="1">
            <a:off x="5638680" y="2666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3048120" y="48718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77AF-8E4F-48FF-9EA3-153A5CEA6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Form with Templ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8006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60C3-AF63-4BFA-9AAE-CA6BA25AF3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05120" y="2057400"/>
            <a:ext cx="5181480" cy="26668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in Desig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ogo and sample ti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close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abel that can be used to display messages to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message label’s Visible property to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the template form to the Customer form and save it as Custom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5100840" cy="37623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888-BA5A-4FF4-BA13-7B933D25E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a Switchboar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43000" y="220968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blank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2590920" y="25909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553080" y="2743200"/>
            <a:ext cx="1447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H="1" flipV="1">
            <a:off x="5334120" y="2209320"/>
            <a:ext cx="1218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4571640" y="304812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038480" y="536904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ms or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4419720" y="4419360"/>
            <a:ext cx="30456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419720" y="4419360"/>
            <a:ext cx="114300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FB94-6C08-41B7-827F-FBFCF4815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600200" y="1981080"/>
            <a:ext cx="5715000" cy="26672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properties to remove the scroll bars and naviga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mmand buttons to open other forms (Form Operations/Open Form)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lors and graphics to make the form app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all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BF8B-C7C6-4D60-B363-5C39A9A20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Custom Ribbons: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838080" y="1371600"/>
            <a:ext cx="7162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UI xmlns="http://schemas.microsoft.com/office/2006/01/customui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ribbon startFromScratch="tru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d="tabMain"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="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group id="grpSales" label="Sale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d="cmdHome"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="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Action="</a:t>
            </a:r>
            <a:r>
              <a:rPr b="1" lang="en-US" sz="1600" spc="-1" strike="noStrike">
                <a:solidFill>
                  <a:srgbClr val="3d3dd7"/>
                </a:solidFill>
                <a:latin typeface="Arial"/>
              </a:rPr>
              <a:t>GoToStartu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size="larg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Mso="OpenStartPage" supertip="Return to home page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d="cmdSales"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="Enter a Sal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Mso="AccessFormModalDialog" size="larg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Action="</a:t>
            </a:r>
            <a:r>
              <a:rPr b="1" lang="en-US" sz="1600" spc="-1" strike="noStrike">
                <a:solidFill>
                  <a:srgbClr val="3d3dd7"/>
                </a:solidFill>
                <a:latin typeface="Arial"/>
              </a:rPr>
              <a:t>OpenNewSalesFo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d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Rent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="Enter a Rental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Mso="AccessFormModalDialog" size="larg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Action="</a:t>
            </a:r>
            <a:r>
              <a:rPr b="1" lang="en-US" sz="1600" spc="-1" strike="noStrike">
                <a:solidFill>
                  <a:srgbClr val="3d3dd7"/>
                </a:solidFill>
                <a:latin typeface="Arial"/>
              </a:rPr>
              <a:t>OpenNewRentalsFo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grou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ribb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customU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1790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0818-1516-4951-92F0-3E3D9CEC6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vation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685800" y="1828800"/>
            <a:ext cx="7467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Use Tools/References to add the Microsoft Office 12 Object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oStart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ntrol As IRibbon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md.OpenForm "AAMai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NewSale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ntrol As IRibbon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md.OpenForm "Sale", acNormal, , , acFor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NewRental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ntrol As IRibbon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md.OpenForm "Rental", acNormal, , , acFor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2T00:07:44Z</dcterms:modified>
  <cp:revision>65</cp:revision>
  <dc:subject/>
  <dc:title>All Powder Board and Ski</dc:title>
</cp:coreProperties>
</file>