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209-8843-45FF-87C0-576AE2D8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2B8-DAF4-4EF5-99DC-E7C2DA79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29B-191B-4CD8-B61F-E3A6AAA3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06A-72BC-46C3-AD86-95293FCF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0C3F-EC97-4280-9A36-DCE15D16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344B-CC7F-4B6F-9E12-29058124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3C1-3B09-442F-BF35-7256E299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2A52-5BDF-4813-8898-8D2A2E1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76EA-7784-4488-AD61-3F239BD1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013-75E0-47A1-B0A4-1758B50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456-1F49-4AD8-9915-B94615A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90A-82D5-4293-A6EF-1F770B0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9838-FF14-415A-B047-5873AB5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483-A6F4-476E-965E-7AC1EDA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21EF-154B-44F2-BC14-26E6A3D7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50E3-A582-43C9-9EA7-A9933EE0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4960-AA30-4FDC-B9B7-63E5083E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035-AC6C-423B-AE58-1A43EF0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FE4-FE09-4EDD-8A8C-722EC52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CC9-F317-49D8-9C94-71F5449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348-FAC9-41BB-9329-9C86E987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68F-7D41-4807-9162-0423B74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778-A941-44CF-B38F-449F428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E7B-48C0-48F7-B5E7-8A4810C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5FA2-0D60-474F-8C60-4A6F21AE8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8B0-619E-4947-BCA9-6B63BC337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D9D-71DC-4418-A87B-7C170F7DD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F74-57AC-4162-970D-6C6B827BD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0880" y="487692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(Rental.RentDate = Sale.SaleDate) AND (Rental.CustomerID = Sale.Customer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42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100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462-6E59-4693-BBE5-559DEF414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057400" y="1905120"/>
            <a:ext cx="5105520" cy="3200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join from Rental to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join from Sale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is new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option to include all 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E16A-DE2B-4399-908B-F167D68F0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 flipH="1">
            <a:off x="1143000" y="41911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0880" y="4309920"/>
            <a:ext cx="8763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Customer INNER JOIN Sale ON Customer.CustomerID = Sale.CustomerID) LEFT JOIN Rental ON Sale.CustomerID = Rental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90920" y="3616200"/>
            <a:ext cx="1904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Properties: Left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3429000" y="254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V="1">
            <a:off x="4191120" y="3429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2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684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6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832280" cy="445752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78A-5628-4CEB-BFF5-014E7964B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2590920"/>
            <a:ext cx="259092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ho purchased items without renting anything have missing (Null) values for the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 flipH="1" flipV="1">
            <a:off x="4495680" y="25146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H="1" flipV="1">
            <a:off x="4495680" y="28954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 flipV="1">
            <a:off x="4572000" y="312372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4495680" y="3505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A5D9-3797-4CBB-A8E5-D9736EB33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57400" y="2057400"/>
            <a:ext cx="4876920" cy="3048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and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CustomerID (use SQL):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FE8-65DA-4959-A088-BB82EFE2A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4724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.CustomerID Not In 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ustomer.LastName, Customer.First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400640" cy="31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25905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A1B-FCF7-44D6-B817-E19B9D752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43000" y="1752480"/>
            <a:ext cx="6934320" cy="3276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 and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QuantityOnHand and sort it in de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ID, CategoryName, LowLimit, High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it as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A56-6008-4E6C-BA4C-696080904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41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3733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CE0-2E97-4FAA-B645-FEB02D96B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1803240" y="2495520"/>
            <a:ext cx="5537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01A-633A-4259-8DD6-7A2D44639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81080" y="1981080"/>
            <a:ext cx="5257800" cy="22100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ModelsOnHand and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view add the inequality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0321-A6D2-41CD-95D5-CDEE9F721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152960" cy="23191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A71-98A5-421A-9C6F-ADEB70246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9480" y="4629240"/>
            <a:ext cx="79250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odelsOnHand.ModelID, ModelsOnHand.SumOfQuantityOnHand, SalesCategory.CategoryID, SalesCategory.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odelsOnHand INNER JOIN SalesCategory ON (ModelsOnHand.SumOfQuantityOnHand&gt;=SalesCategory.LowLimit) AND (ModelsOnHand.SumOfQuantityOnHand&lt;SalesCategory.HighLimi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838080" y="3657600"/>
            <a:ext cx="3276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in cannot be displayed in design view and must be entered by hand in SQ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 flipV="1">
            <a:off x="1905120" y="2362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523880" y="45720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9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325260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B38-AFCE-46F7-96F6-E26B9B385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0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495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82D-BD5F-46B4-A501-281E011AF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295280" y="1828800"/>
            <a:ext cx="6553440" cy="3429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January sale date in criteri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entir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word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to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DD6-4ED2-48C9-BEE5-938669E94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051520" y="1749600"/>
            <a:ext cx="35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04920" y="3962520"/>
            <a:ext cx="853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Jan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1/1/2006# And #1/31/2006#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"Mar"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Sale.SaleDate) Between #3/1/2006# And #3/31/2006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14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027-6CA2-4E64-8269-7CA186EA6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600200" y="1752480"/>
            <a:ext cx="548640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Category,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to sum 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“Where” and criteria for RentDate to Between [Start Date] And [End Da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7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991200" cy="364824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7C7-058C-4380-9F21-AB11CF27D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2793960" cy="160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2057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CC5B-6BBB-46AA-AD3E-0723D88BB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981080" y="1981080"/>
            <a:ext cx="4876920" cy="1905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D36-64AE-4C03-892E-08A420629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0948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481-ACF2-4B2D-8CB8-5944EE6B1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609480" y="1905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142-90E9-48DF-BB69-89A334C25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676520" y="1905120"/>
            <a:ext cx="5867280" cy="2590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select any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INSERT command: INSERT INTO Customer (LastName, FirstName, City, Gender) 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533412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3AF-BF37-4F02-8D0D-C32143469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43840" y="46846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26859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F8F9-951E-43B5-AC8A-720BE67CE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85800" y="1981080"/>
            <a:ext cx="693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1B31-FA9C-4A0A-AF99-E7C547D771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71A-6053-400A-BC62-EA04A9BDF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23880" y="1905120"/>
            <a:ext cx="594360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ategory, ModelYear,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Category=”Board”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Cost set Update To: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7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019560" cy="421308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778-AB46-4570-926A-4690C9DCF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648320" y="302580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/ Upda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 flipV="1">
            <a:off x="3047760" y="1828800"/>
            <a:ext cx="1523880" cy="14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3352320" y="3254400"/>
            <a:ext cx="12193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334120" y="42670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7"/>
          <p:cNvSpPr/>
          <p:nvPr/>
        </p:nvSpPr>
        <p:spPr>
          <a:xfrm flipH="1" flipV="1">
            <a:off x="4952520" y="4114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1447920" y="548640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temModel SET Cost = Round([Cost]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Board") AND (ModelYear=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1828800" y="228600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H="1" flipV="1">
            <a:off x="1828440" y="1905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34AB-6E73-4460-BBC8-E4061FD0F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09680" y="2057400"/>
            <a:ext cx="426744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ID, LName, F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: ID&gt;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Dele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7DAA-ECC9-4E38-BB50-66725B5AC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47920" y="4572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D &gt;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673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942E-DAE1-4364-99A8-2B271138E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A987-2ABB-455E-BEDE-1844AFA94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05120" y="2057400"/>
            <a:ext cx="50292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Customer, Sale,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CustomerID, LastName, FirstName, SalesValue: [QuantitySold]*[Sale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SalesValue, Group By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query as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tals and select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755A-4F7E-43F8-A4BA-16F0A4641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19051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vg(CustomerSales.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5841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4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19047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45F3-E6A9-470C-8CCA-AAA6CF6B3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0200" y="2133720"/>
            <a:ext cx="586728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: CustomerSales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 for SalesValue (enter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BC6B-49CC-4124-BB73-12A58D2DC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120" y="4753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.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sValue &gt; 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SalesValu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053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80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374-C32A-4301-84BB-DDA1DDD14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80880" y="49528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ntal.RentDate, Rental.CustomerID, Sale.CustomerID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Sale ON Rental.CustomerID = Sale.Custome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407988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2"/>
          <a:stretch/>
        </p:blipFill>
        <p:spPr>
          <a:xfrm>
            <a:off x="4510080" y="1600200"/>
            <a:ext cx="410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B51-B8B6-40B9-86B9-95D55B844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81080" y="1828800"/>
            <a:ext cx="518184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Rental an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tables on RentDate=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9T02:25:15Z</dcterms:modified>
  <cp:revision>64</cp:revision>
  <dc:subject/>
  <dc:title>All Powder Board and Ski</dc:title>
</cp:coreProperties>
</file>