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58D-4E15-4193-930C-9A1C438B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938-FCC1-400A-A6D2-49FE0267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760-8CF8-4D9C-A385-D1BC77D4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AF7-5908-47C8-8AB0-EB68A3CD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C1B8-3D7D-4171-850A-F0F19035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29B5-59F5-44D0-B5AA-B50042D2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1C0C-3A49-4C11-BB17-FCEDEB46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2A9-9C56-4489-8707-F471A602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4B1A-23EE-47DF-AA65-EBE14C98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23DA-1B16-44C4-BC50-89EDBDBA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DADB-662B-493D-96BC-1E28EE9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4AB-65F0-4274-8ABC-A2013FF5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ACFE-3F38-405B-907D-EA0003A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E81F-5FA1-48F6-8559-448E8B7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11B-DAC1-41F1-9616-86B6E13D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7B80-929A-4EC8-998F-4042C3A7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F09-B8DF-4B75-B029-1EC5D37F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9F7-59A9-4581-9275-8EC8EB7C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9CC-C1B2-4235-AEA1-1FB1256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FA0-84D0-431D-90F0-E0CB663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5E5-5660-4709-A8DB-3927DC1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D65-E278-47EF-A665-9170940D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2EA-338D-41A6-89D2-D5FBBE5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03A-8CE9-48C1-80DB-8BF2CBE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3486-B545-4191-89F2-C3496DA30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FF1D-2938-47FD-9044-E05682431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ndowsupdate.microsoft.com/" TargetMode="External"/><Relationship Id="rId2" Type="http://schemas.openxmlformats.org/officeDocument/2006/relationships/hyperlink" Target="http://office.microsoft.com/productupdates" TargetMode="External"/><Relationship Id="rId3" Type="http://schemas.openxmlformats.org/officeDocument/2006/relationships/hyperlink" Target="http://www.microsoft.com/data/download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7925040" cy="402264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346040"/>
          <a:ext cx="7925040" cy="536436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feasibility plan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indowsupdate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office.microsoft.com/product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ccess componen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www.microsoft.com/data/downloa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highest numbered MDAC R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052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Add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861840" y="2948040"/>
            <a:ext cx="74203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600200" y="1905120"/>
            <a:ext cx="5334120" cy="2666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ccess and create the ne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m with the Form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ustome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ll of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efault column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by enter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8817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7984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7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1417680"/>
                          <a:tab algn="l" pos="1874880"/>
                          <a:tab algn="l" pos="2160720"/>
                          <a:tab algn="l" pos="2560680"/>
                          <a:tab algn="l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5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00200" y="1905120"/>
            <a:ext cx="5181480" cy="15238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information about skis and snowboards on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install and upgrade the DB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49568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600200" y="1905120"/>
            <a:ext cx="5181480" cy="11430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project milestone dates based on your school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17T22:04:00Z</dcterms:modified>
  <cp:revision>6</cp:revision>
  <dc:subject/>
  <dc:title>All Powder Board and Ski</dc:title>
</cp:coreProperties>
</file>