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B7B-14A9-469D-BAF0-7ECA159C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2E4-67AA-4FEA-A218-10EF30C6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D18-4043-49A7-9094-F2852B18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B22-1666-465F-93DF-85F5ECF2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CD91-D59E-485D-AE0D-D5BBA698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1F5-D3C1-4851-82AC-AD19F05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022A-6BE0-4937-8BFF-563787F7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572D-D677-4D45-96B0-33CEF003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882-2886-4ADA-B488-59F8EAAF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1918-09B9-40BC-AD10-71F4034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8CC-C434-487F-AD33-0EE6E729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61C-24D2-407D-A7C6-15D34A4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8E4-ADFC-4E22-8192-274E388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4C09-F3C8-4F75-A9FF-5F535F8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52A8-ADC4-49BF-BABC-6F1FF24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C153-744B-4678-AA4E-A7F785F2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8912-4013-4D97-8CE6-94709364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73D-F170-4A5C-BC82-BDB09949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F4D-6124-42A6-8457-32C336B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8B2-4F34-4633-9115-47EB9BD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945-2316-4B87-817E-AA836264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A37-D1EB-4952-8745-CB2366F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A09-5C6A-406C-B21C-4E5CB61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AAE-611F-4BFB-B751-ED8BD45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A323-6A95-4C9A-84AB-5EDD09058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A65-699B-4236-9F26-F792F69D6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4936-ECDB-4600-8636-9A4AE1623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A597-1811-486E-BE11-9D64DB14E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33520" y="20574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qryOldModels.Color, qryOldModels.ModelYear, qryOldModels.Graphics, qryOldModels.ItemMaterial, qryOldModels.ListPrice, qryOldModels.Style, qryOldModels.SkillLevel, qryOldModels.WeightMax, qryOldModels.WaistWidth, qryOldModel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5B8F-34AF-43DA-8079-3C1689C2D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85800" y="2284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962520" y="388620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H="1" flipV="1">
            <a:off x="4114440" y="3200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7197-A0AA-4B43-8180-817F5FE37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1828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14400" y="336852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48320" y="336852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4800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s (SaleID, SaleDate, ShipState, ShipZIP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aleDate, OldSales.ShipState, OldSales.ShipZIP, OldSales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36DA-89D9-4902-8C68-A5ED90D6F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s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s.SKU, OldSales.QuantitySold, OldSales.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B3AC-6864-45B7-B630-B8DF42EA2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43000" y="1905120"/>
            <a:ext cx="6553080" cy="21333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, SaleItem, Inventory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hipState, PaymentMethod, SaleMonth with a format of “yyyy-mm”, and Value = 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58280" cy="341604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C8FE-4AA0-432B-8B7B-64E8E3469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5334120"/>
            <a:ext cx="3810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ll desired sale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1676520" y="39625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105520" y="541008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Value as quantity time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 flipH="1" flipV="1">
            <a:off x="6477120" y="3622680"/>
            <a:ext cx="3045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3581280" y="457200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SaleDate as year and month: yyyy-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H="1" flipV="1">
            <a:off x="4419360" y="35812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V="1">
            <a:off x="1676520" y="396252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E403-C230-4B83-AEDD-25E95F391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71600" y="1828800"/>
            <a:ext cx="6400800" cy="3886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qryMonthlyPivot in the Navigation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bbon, find Create/Forms/More Forms/Pivo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aleMonth and drop it on the column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ategory and ShipState fields and drop them on the row field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Value field and drop it in the middle Detai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other fields and drop them at the top as filter fields for fut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the main grid to the f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he Value field in the Totals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0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34320" cy="484344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5A19-AEC9-46D0-AEFC-CDDBE1EED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419720" y="23623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columns (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048120" y="3352680"/>
            <a:ext cx="2133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rows (State, 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657600" y="4724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Valu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5562720" y="30477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H="1" flipV="1">
            <a:off x="3809880" y="27432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5181120" y="35812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H="1" flipV="1">
            <a:off x="251460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990720" y="25146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th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236232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 flipH="1">
            <a:off x="5486400" y="38862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V="1">
            <a:off x="411480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C4FF-0F09-4449-90E8-5981DBE54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66680" y="1981080"/>
            <a:ext cx="7010640" cy="3276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quarterl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first month and right click on the third month to highligh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select the Group/Group Item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new cell SaleMonth1 and change its Caption property to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he Group1 cell and set its caption to 2001-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he process for all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group the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lapse option to reduce the gri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85468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4C9-9888-48BD-9E6D-71F945D76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600200" y="2514600"/>
            <a:ext cx="14479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o select all columns and choose  Hid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V="1">
            <a:off x="3048120" y="2895480"/>
            <a:ext cx="1218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F04-F5C6-4BE5-9517-2369051CB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BF4-FAEE-4F31-A69C-20E6198BE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votTable 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755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EC14-80B6-46FC-8050-55F14F51D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295280" y="1828800"/>
            <a:ext cx="647712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Excel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nsert/Pivo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ernal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Choose Connection bu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 to your database and select the query built in the previou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the SaleMonth field as rows, the Category field as columns and Value as the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CDF-5679-401C-8466-D0D7CE180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19320" y="1752480"/>
            <a:ext cx="678168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ivotChart option in the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lin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ivotChart worksheet remove all categories except Boards, Skis, Boots, 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each series and Add Tren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linear trend and forecast it for 3 periods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perties to improve the chart’s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5E89-25FC-4965-9DB3-8C04DBCE9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Exc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1671-CFD1-4BFE-A64B-774C0839D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981080" y="2133720"/>
            <a:ext cx="518184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Data Analysis Add-Ins are installed in Excel (Tools/Add-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ools/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-Test Two-sample with unequal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Board and Ski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426-74D6-484C-B39A-17C860873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981080" y="1828800"/>
            <a:ext cx="5562720" cy="3352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Microsoft Map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 new Excel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votTable with rows for ShipState and columns for Board, Boots, Clothes, an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econd worksheet that copies the main data and titles from the PivotTable without the first titl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MapPoi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wizard instructions to add a North American map with pi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88F-324D-4447-8467-AFBAB39EA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"/>
          <p:cNvPicPr/>
          <p:nvPr/>
        </p:nvPicPr>
        <p:blipFill>
          <a:blip r:embed="rId1"/>
          <a:stretch/>
        </p:blipFill>
        <p:spPr>
          <a:xfrm>
            <a:off x="961920" y="1447920"/>
            <a:ext cx="5133960" cy="4770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114800" y="24382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votTable places the data into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733920" y="5562720"/>
            <a:ext cx="3504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ynamic copy of this sheet is used to remove the top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 flipV="1">
            <a:off x="2819520" y="60958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3428640" y="2590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2EE-EB3C-4DAB-9295-705CEFEAA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886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7AB7-4281-4011-A578-5963BAA1AE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5967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8465-78C7-4AF6-98C1-E63CF4EE1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66680" y="1752480"/>
            <a:ext cx="7010640" cy="33530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base command File/Get External Data/Import to read the demographic spreadshee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query to combine the sales data by state with the demograph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and paste the three columns of data into a new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cel, choose Tools/Data Analysis/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Value column as the Y-range and the population and income columns as the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top row as label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594-4208-4F37-B885-920EDD270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480960" y="1461960"/>
            <a:ext cx="6784920" cy="32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6499080" cy="3124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843840" y="5562720"/>
            <a:ext cx="76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o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Slide 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e AllPowder2007-09-Data if you need to sav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C63-E196-4D76-9B9B-487BF05D5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by State for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666880" y="54100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some states are missing from th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8420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95680" cy="426744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7A8-CE2E-445A-9F37-C7C8EE1F7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3772080" cy="3311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914400" y="45720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include the label row but be sure to check the box to show you includ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2057400" y="36576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096240" cy="3726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BA00-76D0-403B-930F-2376359F1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213372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high R-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3048120" y="22860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057400" y="563868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s a significant predictor, incom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 flipV="1">
            <a:off x="3047760" y="5257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3581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E91E-9572-47A3-B856-7A4453A94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14600" y="1981080"/>
            <a:ext cx="4800600" cy="1981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External Data/Import/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Sales spreadsheet into a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Rental data into another 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entries for CustomerID and EmployeeID equal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5013-09BA-4D01-9645-DA824AD82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41DC-4C01-4208-ADD0-1574DC2D0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143000" y="38862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ldSales.ModelID, OldSales.ManufacturerID, OldSales.Category, OldSales.Color, OldSales.ModelYear, OldSales.Graphics, OldSales.ItemMaterial, OldSales.ListPrice, OldSales.Style, OldSales.SkillLevel, OldSales.WeightMax, OldSales.WaistWidth, OldSales.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46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6F4-D4A4-4B01-87DE-149C94E61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76520" y="2057400"/>
            <a:ext cx="5486400" cy="1905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sale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ISTINCT data from the new rent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two queries with a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299-779C-459C-AE84-221A194DB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B4F7-BFCB-4DC7-9767-A2E6E883E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066680" y="1905120"/>
            <a:ext cx="6629400" cy="3352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i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 similar process to copy the Sales, Rental, SalesItem, and RentalItems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3T02:05:34Z</dcterms:modified>
  <cp:revision>99</cp:revision>
  <dc:subject/>
  <dc:title>All Powder Board and Ski</dc:title>
</cp:coreProperties>
</file>