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3A9-5D71-48EC-A7E9-A195750E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8FB-2309-434F-B55C-54B76981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F70-7995-4135-9D2B-7075D039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929-A741-4E9F-9538-060304B7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0A5-C227-4D36-9BA3-56B3AF8B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210B-13D2-4250-A30F-85C99B5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27C-BB92-4C90-9EC6-00A8CB1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AB5-A1A3-40D6-A623-0027576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120-E61E-4D8B-AF76-791D365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43D-B568-4403-AB36-E155893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BF2-B8E6-4D9A-9DB9-D6A76E4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A49-000E-45AE-BF88-9ED2037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EC7-F448-4E85-9B4F-513110A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C6C9-BD33-4082-A6B5-2E09436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4BB-B63B-4D32-BF20-8872DDA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675-C976-4B3D-B128-7624AA76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9461-F00D-49D0-8DEF-28E6DC02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112-A892-4DD6-9639-C6B65C1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FDD-22AB-4A82-94F0-09C90972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196-6EFE-4982-B82C-1C07BDC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4DD-745D-495B-BB0F-3815124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8C9-D4C2-46AD-A6A7-440527A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F2D-5EC2-4882-81FD-4D519BA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21D-6A9E-41CD-80B9-25E03BA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C95F-A41B-4CB2-A635-395EBEAA2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EF7-430C-4EFC-87AA-A127902FC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600200" y="2286000"/>
            <a:ext cx="5867280" cy="2590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2"/>
          <p:cNvSpPr/>
          <p:nvPr/>
        </p:nvSpPr>
        <p:spPr>
          <a:xfrm>
            <a:off x="3276720" y="1855800"/>
            <a:ext cx="1828800" cy="977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828800" y="2438280"/>
            <a:ext cx="579132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2224080" y="1995480"/>
            <a:ext cx="3948120" cy="47772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5"/>
          <p:cNvSpPr/>
          <p:nvPr/>
        </p:nvSpPr>
        <p:spPr>
          <a:xfrm>
            <a:off x="4952880" y="2895480"/>
            <a:ext cx="1219320" cy="19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>
            <a:off x="2209680" y="2895480"/>
            <a:ext cx="1143000" cy="228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Ski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Ski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Ski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Ski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0" descr="Ski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1" descr="Ski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2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1905120" y="4800600"/>
            <a:ext cx="12952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1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133720" y="2514600"/>
            <a:ext cx="4800600" cy="2362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3"/>
          <p:cNvSpPr/>
          <p:nvPr/>
        </p:nvSpPr>
        <p:spPr>
          <a:xfrm>
            <a:off x="2666880" y="2286000"/>
            <a:ext cx="10670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"/>
          <p:cNvSpPr/>
          <p:nvPr/>
        </p:nvSpPr>
        <p:spPr>
          <a:xfrm>
            <a:off x="5562720" y="2286000"/>
            <a:ext cx="838080" cy="99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5"/>
          <p:cNvSpPr/>
          <p:nvPr/>
        </p:nvSpPr>
        <p:spPr>
          <a:xfrm>
            <a:off x="5562720" y="3581280"/>
            <a:ext cx="83808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 Data Types (Domain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925040" cy="4937400"/>
        </p:xfrm>
        <a:graphic>
          <a:graphicData uri="http://schemas.openxmlformats.org/drawingml/2006/table">
            <a:tbl>
              <a:tblPr/>
              <a:tblGrid>
                <a:gridCol w="1836720"/>
                <a:gridCol w="2229120"/>
                <a:gridCol w="2830320"/>
                <a:gridCol w="1028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 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Long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: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1 E 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/- 900.0000  tr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00 – 12/31/9999 (1 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 O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iga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+/- 2 b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743200" y="2133720"/>
            <a:ext cx="16002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09680" y="2590920"/>
            <a:ext cx="4800600" cy="16761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748320" cy="4307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2666880" y="26668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666880" y="35812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26668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7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3490920" cy="3862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38680" y="342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38680" y="422604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3733560" y="373392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H="1">
            <a:off x="3352680" y="44956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638680" y="2362320"/>
            <a:ext cx="22100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country or state to narrow the school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5"/>
          <p:cNvCxnSpPr>
            <a:stCxn id="134" idx="1"/>
          </p:cNvCxnSpPr>
          <p:nvPr/>
        </p:nvCxnSpPr>
        <p:spPr>
          <a:xfrm flipH="1">
            <a:off x="3733200" y="2823120"/>
            <a:ext cx="190548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0" y="2286000"/>
            <a:ext cx="4572000" cy="2286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7T21:53:15Z</dcterms:modified>
  <cp:revision>17</cp:revision>
  <dc:subject/>
  <dc:title>All Powder Board and Ski</dc:title>
</cp:coreProperties>
</file>