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897-879A-481D-8886-FB18FB27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342-22E9-45BA-B1D9-3ABE8AF3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038-2086-486C-AAA3-DB6B045E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31A-0DCE-4564-A707-738D463F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DF01-97C0-4F35-B724-C4A8CF13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FE3-8EAB-4FD2-81A3-ABCED03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1D7C-0E29-468D-9FBC-86343793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FE0F-59C7-43D3-9126-FE0339E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892-9889-4C74-A57C-08D098F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5E0-019E-4676-86B3-507B1CD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4C51-2E9F-4CB1-B92C-1A60DE1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92E-6555-4D38-82FC-B7BB437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C54-A881-4645-9F36-E4D3B1A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2845-93C9-48CB-926F-4EB08EA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3D09-C09E-496F-82F1-31468398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9011-89A2-4786-9441-0857D72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2997-408E-4495-8968-17F4F344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007-F0DC-44B5-95F5-49F36AC1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52E-A1EC-42B7-81DB-2A04A6E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C55-9585-4E9D-8C09-C10EBA3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495-D3B4-463F-96CC-BC12F0E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EF1-A08B-4926-83A6-AA3AC33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926-17DC-4C6F-A4FC-4F514D3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CDE-1A93-49D0-933A-2DB07AC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BE8-9031-4D5F-BC6A-D80F6AF22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9DA-9BB1-4D81-A4DC-B4319696A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9EF-2786-45C7-9FCA-3FE29FECE4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5120"/>
            <a:ext cx="6400800" cy="3733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rigger option for the Custome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mart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HEN-NEW-FORM-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de line: Execute_que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nd save ever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1CE-7E99-4FF0-85F5-633603AF6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08600" cy="4419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05120" y="4648320"/>
            <a:ext cx="3124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Smart triggers, New form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590560" y="2743200"/>
            <a:ext cx="9903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5812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ne line: 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03812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13372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572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6E5-08F8-4340-B0C0-C880DC0410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447920"/>
            <a:ext cx="678168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Trigger option for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mart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EN-NEW-FORM-IN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de line: 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save every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88E-70D3-41BF-976A-46E8A622E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st of Values (LOV): Record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65360" y="1600200"/>
            <a:ext cx="5813280" cy="4419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52480" y="533412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/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57400" y="403812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0384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72428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428640" y="396216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098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09880" y="49528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9880" y="49528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A62-1FDB-4EF0-BAC4-2F3486693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 of Val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66800" y="1600200"/>
            <a:ext cx="5808600" cy="4419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486400" y="38098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095520" y="32763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943600" y="4419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105520" y="441972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E75-A89E-4646-9996-C89375D92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676520"/>
            <a:ext cx="7620120" cy="3504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record group and create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atic group and add the three values (Female, Male, and Unidentifi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ename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LOV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new (existing) record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Gender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look up button and select Gender as the return value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Gender box, add the WHEN-NEW-ITEM-INSTANCE trigger with the code List_Valu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everything and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7F9-539C-4D7C-B959-0548B2447C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6776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DF8-3D5D-4E4E-9222-85DDEE8FFF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676520"/>
            <a:ext cx="784872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form with Tools/Data Block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it on the table: SkiBoard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three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efaults and run the Layout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ll three column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umn widths (144, 216, 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abular (not Fo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frame title, number of records (10), and space between records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as SkiBoardStyle.f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24C-0E82-4B1C-9E1E-5692E5F0FD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yout Wizard for Gri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00200" y="1504800"/>
            <a:ext cx="5915160" cy="4591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19920" y="48769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cing between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373392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rows to display in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181120" y="41144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57440" y="4724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2A8-6EE3-485D-99A8-64F30BC564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676520"/>
            <a:ext cx="7848720" cy="3504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Tools/LOV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new record group, build an SQL query using the ProductCategor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both columns, close the desig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 syn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both columns into the LOV and set their widths (72 and 14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eturn item column in the Category row and click the Return Item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kiBoardStyle.Category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by accepting the default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and ru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335-5186-4699-B42A-5118C08DD5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99-2E83-4142-83D3-3EEF19641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List of Values (LOV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59520" cy="4419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0060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 list of values (LOV)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867280" y="449568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60C-5B8D-4C24-9D38-21A86B290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648320" cy="349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6668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114800"/>
            <a:ext cx="3289320" cy="1828800"/>
          </a:xfrm>
          <a:custGeom>
            <a:avLst/>
            <a:gdLst/>
            <a:ahLst/>
            <a:rect l="l" t="t" r="r" b="b"/>
            <a:pathLst>
              <a:path w="2072" h="1152">
                <a:moveTo>
                  <a:pt x="1200" y="0"/>
                </a:moveTo>
                <a:cubicBezTo>
                  <a:pt x="1636" y="192"/>
                  <a:pt x="2072" y="384"/>
                  <a:pt x="1872" y="576"/>
                </a:cubicBezTo>
                <a:cubicBezTo>
                  <a:pt x="1672" y="768"/>
                  <a:pt x="836" y="960"/>
                  <a:pt x="0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7400" y="23623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84E-1406-4C6F-B3B4-E6D19F76E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629320" cy="4503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248520" y="2133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Ctrl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86040" y="2362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6483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47960" y="403812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358128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86400" y="266688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B35-867C-47CA-A4AB-89EF6BCB72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781960" cy="4626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00400" y="41911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gin with the Sale 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927-D1FC-4B9D-8845-3B8C9194AD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676520"/>
            <a:ext cx="784872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 form with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y ORDER BY to Sale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the SalesTax to $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range the items to the top of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 Block Wizard to add the SaleItem table with all of its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lationship to S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ayout Wizard, choose tabular and do not include the SaleID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5 rows and display the scroll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and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713-15F7-4CF3-A68E-33F689D5BE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Block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50960" y="1600200"/>
            <a:ext cx="5840280" cy="4419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362320" y="4191120"/>
            <a:ext cx="1676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88620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relationship to the Sa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333760" y="274284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8FF-41C3-410F-9E5F-D4FDD66923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986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172200" y="35812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44197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B31-8218-4585-9F1B-969B0D87E6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1905120"/>
            <a:ext cx="259092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 button for CustomerID,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_Item(‘CustomerID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_Valu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629320" cy="4487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2280" y="30481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LOV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051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905120" y="26668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3200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403848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47242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200400" y="4267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71440" y="495288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2F2-DE55-4C7C-91D3-A4962D2C40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78487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LOV Wizard to create lists for the employee, customer, payment method, and 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will use columns from the Inventory and Item model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for the CustomerID that opens the LOV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8FB-2882-40D4-BBE5-72578DDEB0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9800" y="1447920"/>
            <a:ext cx="725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a consistent format, copy and paste the SalePric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of Value colum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251460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QuantitySold*: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: (blank/de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048120"/>
            <a:ext cx="2438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e leading colon in variabl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267080" y="342900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304-AEA4-433D-806D-5FB024549A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09880" y="1585800"/>
            <a:ext cx="5124240" cy="36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28600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504960" y="4267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105160" y="2133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487692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66688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952520" y="26668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88E-7F13-4911-A0C7-99BB0316E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676520"/>
            <a:ext cx="78487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SalePrice column in the subform to create a Value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roperties so that it multiplies SalePrice by Quantity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is new column to create a subtotal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roperties to make it a Summary calculation for Sum of the Valu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and total fields to the Sale data block to display the subtotal and add the sales 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657-21DD-4A33-9FCD-DD957AE10D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Subtotal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93032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 Navigable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: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Function: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d Block: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d Item: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ble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6920" y="15238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057400"/>
            <a:ext cx="3048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set one property for the SaleItem data bl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ll Records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6B1-F546-4505-A6AC-B52DD4295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676520"/>
            <a:ext cx="784872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data block properties and create a query as the data source to load the customer name and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ext boxes to the Sale form to display the name and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aleID property to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of the customer items so the database cannot chang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4E6-404F-4CAB-9E8E-C9D19A6483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Subtotal and To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3920" y="1484280"/>
            <a:ext cx="5662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l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ext box to main form to displa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04812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: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Mask: $999,9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Mode: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SaleItem.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7280" y="2398680"/>
            <a:ext cx="3087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t to create a Total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32767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: :Sale.Subtotal + :Sale.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Total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31F-3069-484B-8836-1DD683CA31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600200"/>
            <a:ext cx="78487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Data Block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Data Target Type: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Data Target Name: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Data Source Type: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Data Sourc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LECT SaleID, EmployeeID, SaleDate, Sale.CustomerID, ShipAddress, ShipCity, ShipState, ShipZIP, SalesTax, PaymentMethod, Customer.LastName as cLastName, Customer.FirstName as cFirstName, Customer.Phone as cPhone FROM Sale INNER JOIN Customer ON Sale.CustomerID=Customer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8000" y="556272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for the Sal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F2C-CA1B-4C7F-B0DA-54FF46E55B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420920" y="1600200"/>
            <a:ext cx="6302160" cy="4419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57200" y="35812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373392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9528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s/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733560" y="40384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434304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114800"/>
            <a:ext cx="129528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EF4-EA61-4DC5-A3AE-DA38BCDE88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Customer Name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040" y="1636560"/>
            <a:ext cx="659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ale form, set the property for SaleID: Primary Key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dd textboxes or copy existing boxes for the new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0481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tem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: c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Only: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llowed: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: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E63-54C3-4741-AA5D-B25C3F7796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676520"/>
            <a:ext cx="78487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Sale form to edit custom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wo lines of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ore code to the Customer startup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, compile, and test all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2F4-FE33-41BA-8D72-E495F23E46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: Edit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5000" y="2228760"/>
            <a:ext cx="5711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(btnEditCustomer) below th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: WHEN-BUTTON-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310680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global.CustomerID := :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_Form('D:\Students\AllPowder\Customer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E6E-C56E-4382-AF4C-B4A17B252E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286000"/>
            <a:ext cx="746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here VARCHAR2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You should assign a null value to this in the 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:global.CustomerID IS NOT NUL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here := ' WHERE CustomerID=' || :glob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block_property('Customer', DEFAULT_WHERE, sWhe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_block('Customer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_que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81600" y="16365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-NEW-FORM-INSTANCE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680-C1C1-4146-8501-5C62FD2E92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447920"/>
            <a:ext cx="6781680" cy="4267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form bui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ols/Data Block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ustom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 with default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Layout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up the prom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maller values for the wid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option to show the scroll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program: Start OC4J In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to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Execute Query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F7F-5ECD-49CE-9F1F-830E8581C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7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ECF-0D64-48D7-A9A0-482A0C1E6A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6732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F3A-8ACE-40BE-B2BD-F3D8487B30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1676520"/>
            <a:ext cx="784872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itle and choose Group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SQL query using the Customer, Sale, and SaleItem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lumn Value AS QuantitySold * SalePrice to the SQ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group fields so Customer data is at Level 1 and Sale data is at Level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all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otals, compute Sum(Va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report and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45A-CE40-4692-A111-673D4469E0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ales Report: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09480" y="1959120"/>
            <a:ext cx="7925040" cy="3700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62120" y="2819520"/>
            <a:ext cx="19810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6483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ables by dragging a column to the nex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723920" y="3276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952880" y="304776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EE7-C335-4709-A62E-4495A18F5C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Calculated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1337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USTOMER.CUSTOMERID, CUSTOMER.LASTNA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.FIRSTNAME, CUSTOMER.PHONE, CUSTOMER.EMAIL, CUSTOMER.C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.STATE, SALE.SALEID, SALE.SALEDATE, SALE.SHIPSTATE, SALE.PAYMENTMETHO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.SKU, SALEITEM.QUANTITYSOLD, SALEITEM.SALEPR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EITEM.QUANTITYSOLD*SALEITEM.SALEPRICE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CUSTOMER.CUSTOMERID = SALE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SALE.SALEID = SALEITEM.SALEI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8D9-4CDF-4622-8862-871816F657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715000" cy="361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400800" y="1676520"/>
            <a:ext cx="2133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CustomerID first, followed by columns from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335268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038480"/>
            <a:ext cx="2133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SaleID, followed by columns from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333760" y="24382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56272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105520" y="45720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DC1-B072-4487-850B-64F6907AA7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ispla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24040" y="2052720"/>
            <a:ext cx="5695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F87-19A6-42BA-A705-E26907B849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lect To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709640" y="2057400"/>
            <a:ext cx="57247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311-ADA9-448C-AC44-F55C25DC77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Labels and Column Widt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17560" y="2066760"/>
            <a:ext cx="5707080" cy="35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7CC-2EA4-4CE4-8330-B4B79815C4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5871960" cy="4419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38862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486400" y="27432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867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5105520" y="380952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C64-F769-46DC-9963-8754490353D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564984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20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49568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48320" y="3809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867280" y="39621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05160" y="25909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Data block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017-DC12-4160-92F4-A27CAF85B4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81680" cy="4419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477120" y="19051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25909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3276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77120" y="3805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44910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943600" y="2133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943600" y="28195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800240" y="327636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4800240" y="34286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343040" y="35053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5105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191120" y="3657240"/>
            <a:ext cx="22860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443-19C6-4BAD-8072-571A682FDC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1148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3341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578400" y="1600200"/>
            <a:ext cx="19857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B59-3C22-49FC-B759-F6196C989B2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: Object Navig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797200" y="1600200"/>
            <a:ext cx="3548160" cy="4419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09480" y="289548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group for 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286000" y="312372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181480" y="26668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6483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 group within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86000" y="480024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41148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18148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1814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FF8-A428-4B9F-88D9-16E61E8B4B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676520"/>
            <a:ext cx="784872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age Protect in all customer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data model 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nd test the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E40-9968-48C1-AFBD-104B151E2DC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74692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305-A5F4-4F35-9CE7-D1CB491B3E6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449440" y="1600200"/>
            <a:ext cx="4243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FFA-2D7B-4ECB-A867-A995718E09A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676520"/>
            <a:ext cx="784872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Group Abov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o Template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Level 1 group with the customer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report and clean it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52B-FAF3-4B34-BBC4-D3132A15D93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SalePrice*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C0A-7590-48F1-8F40-DAFD0EEF72E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61840" y="1995480"/>
            <a:ext cx="741852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FE0-9E81-4DB2-AB4E-438F2ADD46E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yout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47720" y="1600200"/>
            <a:ext cx="58485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67080" y="47242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—default values are too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867280" y="3962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1911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up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3962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BE3-D856-4EA1-B64B-C1C8ED6AC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677960"/>
            <a:ext cx="6386400" cy="4799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19720" y="13716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175248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441972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692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4343400"/>
            <a:ext cx="1295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 click to open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47920" y="38098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44792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navi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90512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29718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 click to add trigger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447920" y="35053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A77-C9D9-4FD4-8355-18B8C53A3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Form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600200"/>
            <a:ext cx="64767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05120"/>
            <a:ext cx="1752480" cy="136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037040"/>
            <a:ext cx="175248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2"/>
            <a:endCxn id="152" idx="0"/>
          </p:cNvCxnSpPr>
          <p:nvPr/>
        </p:nvCxnSpPr>
        <p:spPr>
          <a:xfrm>
            <a:off x="3009600" y="327456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34120" y="1981080"/>
            <a:ext cx="28191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962520"/>
            <a:ext cx="281916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442960"/>
            <a:ext cx="1392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052800"/>
            <a:ext cx="1392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463280"/>
            <a:ext cx="9144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4463280"/>
            <a:ext cx="9144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09880" y="25905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8195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46483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733920" y="48765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3526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2767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2004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1240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0481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9718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" y="3657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2767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523880" y="28195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EDE-29BE-4475-8BB8-019A3ECDF2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48120" y="1762200"/>
            <a:ext cx="3486240" cy="4095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4960" y="1757520"/>
            <a:ext cx="349560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4600" y="58672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0000" y="58672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360" y="228600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162920" y="2286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6765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 = 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54C-AF5A-4F73-B85B-9F7AF1D61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3:43:25Z</dcterms:modified>
  <cp:revision>73</cp:revision>
  <dc:subject/>
  <dc:title>All Powder Board and Ski</dc:title>
</cp:coreProperties>
</file>