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AD8-62A8-4B3F-9CF6-E19D7B73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164-C4D9-4364-A72F-B87C3D2F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90A-A962-4322-B1CC-E14D2691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51F-E241-4E51-8911-9816F640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1000-9887-445E-83A1-298A9D9D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2330-E59D-4264-8B2B-AB997163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5229-F4D1-40BC-97D3-80636784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E6C3-6C98-4BDD-9C81-AF2E49FF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8571-C23A-4C60-9BC9-5484B032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9E98-B126-4487-B39B-FE79F527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1158-B480-4824-A646-AA9E92F6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D77-FEEE-48EB-A2B3-55669BDD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F86B-6E0E-4EEF-810C-9BD58FF7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CA7A-FA49-4AFD-85CF-26DD92FA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608F-7DBB-4130-813F-58E8A64A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38C3-CC37-4FB5-98D4-C4FE980F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92E6-6648-407E-9053-51F6E4C0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345-7342-440D-A94D-2544BF5B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6DA-ED46-43A8-B9AA-E3F62CF0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A48-C5F1-4B57-B7A4-B0832328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9C1-21EC-46B2-80F1-1E67D5E7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BF2-5A0B-4AE7-AA5F-403D78F4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CE3-9783-4EB0-9DD6-46BD62A2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3DF-AED7-49D2-A521-DA7A8BA6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779F-FABC-4019-BF41-B206960D56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CDA8-8930-48FB-9A0B-BFE9329584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7: Integrity and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C942-3350-468B-BF33-A950BDE470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entory Database Trigg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600200"/>
            <a:ext cx="7239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ustomerID, EmployeeID, SaleDate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antitySold, 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antityOnHand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27672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new item is sold, subtract QuantitySold from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cations: changes to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aleItem is revoked, the SaleItem row de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antitySold is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KU is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95288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pl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leID=3000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KU=500000 or 50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ustomerID=58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mployeeID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D4F-EA9F-4CDA-A708-1B54B27D26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752480"/>
            <a:ext cx="7543800" cy="2210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new row into the Sale table with a SaleID of 3000, CustomerID of 582, and EmployeeID of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AFTER INSERT trigger for the SaleItem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new row into the SaleItem table (3000, 500000, 1, 1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value of QuantityOnHand in the Inventory table for SKU=500000 and ensure it was decreased from 10 to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129F-ECF2-44A8-912C-F305C541BC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Event Trigg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600200"/>
            <a:ext cx="403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380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380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FORE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380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2004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TRIGGER NewSale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INSERT ON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- :NEW.QuantitySo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 = :NEW.SK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548640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/inserte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6019560" y="49528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190760" y="510552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2F7-D594-46D3-ACE8-4173906A2F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tup Exa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828800"/>
            <a:ext cx="739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 (SaleID, CustomerID, Employee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3000, 582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KU,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=5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Item (SaleID, SKU, QuantitySold, 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3000, 500000, 1, 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4952880"/>
            <a:ext cx="6095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OnHand before and after the IN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A2C-25B8-42D1-98D8-AA3DAAAE48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752480"/>
            <a:ext cx="754380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SaleItem row (SaleID=3000 And SKU=500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AFTER DELETE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the SaleItem row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SaleItem 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D4E-E58C-4211-A44A-F08B65F1E7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otential Problem: Delete Ro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523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FROM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ID=3000 And SKU=5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514600"/>
            <a:ext cx="6095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OnHand before and after the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does not chan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58128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TRIGGER DelSale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DELETE ON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+ :OLD.QuantitySo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 = :OLD.SK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562360" y="4495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88620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 the deleted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D579-275E-48C7-A080-70286498EA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the clerk entered the wrong value and should have entered 1 instead of 2 un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t, and the code subtracts 1 from the QOH, leaving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add the original 2 units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640" y="4394160"/>
            <a:ext cx="775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OnHand = QuantityOnHand – QuantitySold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48B-ED88-4457-9D55-8B64A5612F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1752480"/>
            <a:ext cx="7543800" cy="1600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ON UPDATE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 an update to change the QuantitySold in the SaleItem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5E6F-6FA0-4631-8CD3-8F3A7477A9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lem: Change the Quant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895480"/>
            <a:ext cx="693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TRIGGER ChangeSale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UPDATE ON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:OLD.QuantitySold - :NEW.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 = :OLD.SK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6002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Sold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ID=3000 And SKU=5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1523880"/>
            <a:ext cx="990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7150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5181480"/>
            <a:ext cx="3657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back the old quantity (1) and subtract the new value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647960" y="48769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791320" y="4876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A9B-324E-47E5-BEB7-B10A855B52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lem: Change the SK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35268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Sold = 3, SKU = 50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ID=3000 And SKU=5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2595600"/>
            <a:ext cx="5257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 by changing both QuantitySold and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49568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KU,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=500000 Or SKU=5000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44792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KU,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=500000 Or SKU=5000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D13D-A782-4985-92ED-EF16B8F52E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 Sales Ta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67320" cy="4162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15000" y="446724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s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952520" y="370476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D85-A635-4218-85A2-830DA613D2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752480"/>
            <a:ext cx="7543800" cy="1600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full ON UPDATE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QuantitySold and SKU (to 500010) in the SaleItem 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 for SKU 500000 and 500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C04-E594-4BCB-8C1E-93A7A35183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igger to Handle SKU Chang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547640"/>
            <a:ext cx="7620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TRIGGER ChangeSale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UPDATE ON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:OLD.SKU = :NEW.SKU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:OLD.QuantitySold - :NEW.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 = :OLD.SK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+ :OLD.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 = :OLD.SK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- :NEW.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 = :NEW.SK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61722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109-588D-4E1D-B475-0C29D210A2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actions for Discou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362320" y="1528920"/>
            <a:ext cx="4495680" cy="440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3E24-E16A-4AA2-BD5C-6EB4EEDB0A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086520" cy="3629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948200" y="525780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ton to open discoun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491000" y="50288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EBB-A36D-4D59-AAD8-60F245191D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752480"/>
            <a:ext cx="7543800" cy="1828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Rental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Rental Discount form with no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text boxes and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to the Rental form that opens the Discoun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41E-A696-49CB-8A69-EBBF1E42DE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Discoun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4800600" cy="3352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85800" y="2743200"/>
            <a:ext cx="19051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ntID and Amount are determined by the Rent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4572000"/>
            <a:ext cx="19051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 default value is set to $$DATETIME$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590920" y="320004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350532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590920" y="3428640"/>
            <a:ext cx="14475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5064120"/>
            <a:ext cx="4114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an unbound form built from design view with no Data Block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806-3E8D-4E15-A835-4A0B7DABE9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752480"/>
            <a:ext cx="7543800" cy="1371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Rental Discoun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pecified code to the WHEN-BUTTON-PRESSED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A04-084A-40B9-8331-619BA420F2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ntal Form Code: Discount Butt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248292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global.RentID := :Rental.Rent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global.Amount := :Rental.SubChar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_Form('D:\Students\AllPowder\GiveRentDiscount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4083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ve the RentID and total repair charges into global variables that can be retrieved by the discount form when it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600200"/>
            <a:ext cx="624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 Form, Button to open Discoun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 event: WHEN-BUTTON-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F72-4F1C-44CD-A6B8-ABA6455E31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count Form Trigg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202104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RentalID := :global.Rent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Amount := :global.Am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1840" y="1600200"/>
            <a:ext cx="41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m: WHEN-NEW-FORM-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54816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RentItem SET RepairCharges=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RentID = :Rental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RentalDiscount(RentID, DiscountDate, DiscountAmount, R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:RentalID, :TransDate, :Amount, :Reas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txtMessage := 'Changes recorded.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2200" y="312408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ton: WHEN-BUTTON-P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6A9-CCA3-4DCA-A63A-5A7FE233D3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action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236232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RentItem SET RepairCharges=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RentID = :Rental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RentalDiscount(RentID, DiscountD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Amount, R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:RentalID, :TransDate, :Amount, :Reas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txtMessage := 'Changes recorded.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OTHERS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ba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1447920"/>
            <a:ext cx="19051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-BUTTON-P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5181480"/>
            <a:ext cx="19047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omething goes wrong, cancel the firs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2057400" y="5638680"/>
            <a:ext cx="2819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F01-C3B8-41C1-8AC8-82490C3EF7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1752480"/>
            <a:ext cx="6248520" cy="1600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QL to create the ComputeSalesTax function within a new Taxes pack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unction with an SQL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398-62B0-46DD-A7E1-6135FBF530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752480"/>
            <a:ext cx="7543800" cy="1981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Sale and Sale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lumn TO_CHAR(SaleDate, ‘ww’) AS SaleW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lumn QuantitySold*SalePrice AS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Value column by w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C63-2672-498B-B2A5-5FB75CF334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for Cursor: Weekly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228456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WeeklySale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aleDate, 'ww') AS SalesWe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(SalePrice*QuantitySold) 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 INNER JOIN SaleItem ON Sale.SaleID=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Date Is Not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TO_CHAR(SaleDate, 'ww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D78-E4C5-4775-814B-A9E11CB682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1752480"/>
            <a:ext cx="7543800" cy="1676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SalesAnalysis package with the AvgPercentWeeklyChange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QL to call the function: SELECT SalesAnalysis.AvgPercentWeeklyChange FROM d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46C-93BD-4546-9635-B56110045D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t up Package to Compute Averag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12952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PACKAGE SalesAnalysi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AvgPercentWeeklyChange return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alesAnalys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PACKAGE BODY SalesAnalysi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AvgPercentWeeklyChange return REA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 c1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sWeek, Value FROM Weekly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g1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Value WeeklySales.Value%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4572000"/>
            <a:ext cx="3352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the SELECT statement for the cursor to trace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495680" y="3581280"/>
            <a:ext cx="1447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4952880"/>
            <a:ext cx="33526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ariable to hold the value from the previous row with the same data type as the column in th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514600" y="4419360"/>
            <a:ext cx="10666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BDE-B29C-495E-A2D9-274E4C9BF0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de to Compute Average Chang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37160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g1 :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: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Value :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cSales in c1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iorValue &gt; 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g1 := Avg1 + (recSales.Value - PriorValue)/PriorVal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:= N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Value := recSales.Val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(Avg1/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AvgPercentWeeklyChan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alesAnalys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1828800"/>
            <a:ext cx="30477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the first week because there is no prio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373392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percent change and keep a running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10080" y="4952880"/>
            <a:ext cx="3124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current row value and move to the next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80920" y="2286000"/>
            <a:ext cx="1752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666520" y="2286000"/>
            <a:ext cx="2667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723920" y="3352320"/>
            <a:ext cx="1295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581280" y="4191120"/>
            <a:ext cx="2819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D8FA-D815-4540-B2F4-C349B8AF3E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1752480"/>
            <a:ext cx="7543800" cy="1981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new sequence definition for the Sale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trigger for the Sale table that generates a new sequence value and uses it for the Sal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process by inserting a row into the Sale table without using a Sal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DAD-9EDC-412C-9220-F8B1AAD97B1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 Sequence for the Sale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22147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SEQUENCE sq_S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EQUENCE sq_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AX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24480" y="2666880"/>
            <a:ext cx="19051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a high number to avoid collisions with exist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2000" y="28951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A0D-F697-4425-925A-BDDFE1275A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igger to Generate Ke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266688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TRIGGER GenKeyFor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INSERT ON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q_Sale.NEXTVAL INTO :NEW.SaleID FROM d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752480"/>
            <a:ext cx="5562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generate and use a new key value for SaleID whenever a row is added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4648320"/>
            <a:ext cx="2362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nex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4648320"/>
            <a:ext cx="2819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it as the new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048120" y="4114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6019560" y="4114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DCF-8955-46ED-B20D-BB3B51F819C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st the Key Gener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09480" y="1600200"/>
          <a:ext cx="7925040" cy="4419360"/>
        </p:xfrm>
        <a:graphic>
          <a:graphicData uri="http://schemas.openxmlformats.org/drawingml/2006/table">
            <a:tbl>
              <a:tblPr/>
              <a:tblGrid>
                <a:gridCol w="1065600"/>
                <a:gridCol w="6859440"/>
              </a:tblGrid>
              <a:tr h="85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sert a new Sale row and check the sequence val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SERT INTO Sale (CustomerID, EmployeeID) VALUES (582, 5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q_Sale.CURRVAL FROM dua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aleID, CustomerID FROM Sale WHERE SaleID=1000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4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UR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QL&gt; SELECT SaleID, CustomerID FROM Sale WHERE SaleID=1000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ALEID 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0000       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D95-4BE4-4C22-90C9-A2D23C09697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eys: Create Sales and Items (barcode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8120" y="186516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D card is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8120" y="22654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7040" y="26654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a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8120" y="306540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sale item, update QOH and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9200" y="34653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until done (payment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2895480"/>
            <a:ext cx="622080" cy="762120"/>
          </a:xfrm>
          <a:custGeom>
            <a:avLst/>
            <a:gdLst/>
            <a:ahLst/>
            <a:rect l="l" t="t" r="r" b="b"/>
            <a:pathLst>
              <a:path w="392" h="480">
                <a:moveTo>
                  <a:pt x="392" y="480"/>
                </a:moveTo>
                <a:cubicBezTo>
                  <a:pt x="204" y="424"/>
                  <a:pt x="16" y="368"/>
                  <a:pt x="8" y="288"/>
                </a:cubicBezTo>
                <a:cubicBezTo>
                  <a:pt x="0" y="208"/>
                  <a:pt x="172" y="104"/>
                  <a:pt x="3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40600" y="2286000"/>
            <a:ext cx="1297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3048120"/>
            <a:ext cx="30243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SaleID, SKU,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F82-9BE6-4B3D-8503-5E9FCD39F96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Oracle Package and Func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105920"/>
                <a:gridCol w="7123320"/>
              </a:tblGrid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function to compute sales tax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OR REPLACE PACKAGE Taxes 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unction ComputeSalesTax(Amount REAL) return REA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ND Taxe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PACKAGE BODY Taxes 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UNCTION ComputeSalesTax(Amount REAL) return REAL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taxRate REAL := 0.07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RETURN (Round(taxRate*Amount,2)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ND ComputeSalesTax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ND Taxe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ckage crea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ckage body crea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973-130A-4AF0-8B60-897CD686A5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1752480"/>
            <a:ext cx="7543800" cy="2133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with no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boxes for CustomerID, EmployeeID, SKU, and txtSaleID as the generated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ommand button and add the indicated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breakpoint at the top of the code and step through the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ADD-DEF3-4F50-8C25-F2B7A866B4F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3962160" cy="2466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743200" y="1676520"/>
            <a:ext cx="3733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s and SKU would be scanned, but to test code, set defaul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38480" y="255276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55276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191120" y="255276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289-D17B-4A73-8366-584F526B769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1752480"/>
            <a:ext cx="7543800" cy="24386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with no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and LOV for Customer 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to enter a new ZIP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utton and add the indicated code for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wizards to create a second form that displays CustomerID and ZIP Code in a tabular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AD1-5F74-48F8-B91D-6A6588A165F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quence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4640" y="1313280"/>
            <a:ext cx="7544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mpListPrice ItemModel.ListPrice%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mpSaleID Sale.SaleID%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ERT INTO Sale (CustomerID, EmployeeID, Sale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UES (:CustomerID, :EmployeeID, SYSDA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sq_Sale.CURRVAL INTO tmpSaleID FROM d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ListPrice INTO tmp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Inventory, Item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 Inventory.ModelID=ItemModel.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SKU=:SK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ERT INTO SaleItem (SaleID, SKU, SalePrice, QuantityS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UES (tmpSaleID, :SKU, tmpListPrice,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txtSaleID := tmpSale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OTHERS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llba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677-1584-4132-84C3-3E329A26FF5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ncurrency and Lock Test 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666880" y="1986120"/>
            <a:ext cx="3810240" cy="288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182-7CDA-4454-A04F-1FE463E034A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L/SQL to Change ZIP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152388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ZIP = :ZI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ustomerID = :Custome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724-4D86-4A41-83A2-B3B3B18E460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Lis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114640" y="1547640"/>
            <a:ext cx="4914720" cy="37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B84-DEF2-49B3-B57E-32C5BEAD42B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1752480"/>
            <a:ext cx="7543800" cy="24386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both forms so they are both visible on 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list form, change the last digit but do not save th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st form, enter the same Customer ID and a different ZIP code, then click the Save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see the test form go into wait mode (hourglass curs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list form and save th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final value of the ZIP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DC4-A221-4812-BE7F-E33A4723488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ad Consistent Lock on the 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4324320" cy="50292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324480" y="1523880"/>
            <a:ext cx="221004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 both forms and use the testing form to change the ZIP code for CustomerID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464832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message that value was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495680" y="502920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3352680"/>
            <a:ext cx="22100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urn here and try to change the ZIP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3200400" y="2514600"/>
            <a:ext cx="3124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FD2-857E-4C01-B3DC-3E424A9CB61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1752480"/>
            <a:ext cx="7543800" cy="1676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the query in the list form to obtain current database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 the ZIP code in the testing form and save the new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list form, try to change the matching ZIP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receive an error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D832-9305-49EF-A839-2F949FDFB2A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lternate Fun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270160"/>
            <a:ext cx="677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R REPLACE Function ComputeSalesTa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mount REAL) return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Round(0.07*Amount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ComputeSalesTa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F30-9E5C-4136-847F-7F211D8E1C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ronger Lock on the Tes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1371600"/>
            <a:ext cx="7925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_hit EXCEP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GMA EXCEPTION_INIT(concurrency_hit, -817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RANSACTION ISOLATION LEVEL SERIALIZAB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ZIP = :ZI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ustomerID = :Custome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ncurrency_hit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('Data has been changed by another process.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OTHERS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('Unknown error.'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129528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concurrency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638320" y="160020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77120" y="304812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strongest isolation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5943600" y="28191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4114800"/>
            <a:ext cx="3429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ch error raised by this update interrupting another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267080" y="44197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77120" y="5398920"/>
            <a:ext cx="22096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y user who can decide to try again or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333760" y="533376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193-B15B-4628-8EB7-33D81CF71F0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1752480"/>
            <a:ext cx="7543800" cy="2971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code in the testing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and recompile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pen the list and testing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the first experiment by changing one digit of the ZIP code on the Lis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a new ZIP code on the Test form and click the button to sav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receive an error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List form and save th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current value of the ZIP code in the data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E7E-5CAA-4152-8061-745F075C514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rializable Isolation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808000" cy="41911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181480" y="3276720"/>
            <a:ext cx="190512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hange is not made and the error is trapped because the row is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038480" y="4724280"/>
            <a:ext cx="1524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A0B-ACAC-4F38-A8C6-E65A2E12663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st the Function in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600200"/>
          <a:ext cx="7390800" cy="3961440"/>
        </p:xfrm>
        <a:graphic>
          <a:graphicData uri="http://schemas.openxmlformats.org/drawingml/2006/table">
            <a:tbl>
              <a:tblPr/>
              <a:tblGrid>
                <a:gridCol w="1266480"/>
                <a:gridCol w="6124320"/>
              </a:tblGrid>
              <a:tr h="13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Test the function by computing the tax on 50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ELECT Taxes.ComputeSalesTax(500) FROM du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AXES.COMPUTESALESTAX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--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BFB-B538-4DB8-A896-101D53FABF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752480"/>
            <a:ext cx="7543800" cy="2210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al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he SalesTax box and select the PRE-TEXT-ITEM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co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Sale.SalesTax := Taxes.ComputeSalesTax(:Sale.Subtot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SalesTax box to test the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316-AD10-4C66-B883-DBCACB0ABA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dd Event Code to the Sales 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5445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81080" y="2743200"/>
            <a:ext cx="1747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ose the PRE-TEXT-ITEM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5715000"/>
            <a:ext cx="1747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 the new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79096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733920" y="3581280"/>
            <a:ext cx="1904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590560" y="36576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405-4261-4A1C-9AB3-BD22D3CB67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bugg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705720" cy="5324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66880" y="350532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uble click to set break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133360" y="33523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1295280"/>
            <a:ext cx="2514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/Debug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/Step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00040" y="1523880"/>
            <a:ext cx="1600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5181480"/>
            <a:ext cx="26668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form and variable values with Debug/Debug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886200" y="4800600"/>
            <a:ext cx="1905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257800" y="4800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133720" y="4571640"/>
            <a:ext cx="3657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258-8DF3-46E2-84BA-6F6309A0B5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0T01:42:48Z</dcterms:modified>
  <cp:revision>67</cp:revision>
  <dc:subject/>
  <dc:title>All Powder Board and Ski</dc:title>
</cp:coreProperties>
</file>