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13E-96A8-4F32-A826-E3258ACB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A43-AC11-47B6-BA41-B76B4D68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C93-BE2F-4406-9500-3786C1B6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07D-9C8E-4C0D-B035-356741E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B537-B424-4F2D-BCBC-C3AB7F09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4E0-06B2-4D74-A001-9E212A9D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536-2FF2-4CDD-90C9-4AC6A6C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5B8D-0363-4189-A827-F51D2B86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4852-8376-4087-9107-8CF0E21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98B3-7598-48CE-A0D9-E38CD1F6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241-E8D0-4817-9E47-3861810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9C0-7768-412A-BFE9-A14F3BC2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84F-EF0A-4759-81AD-4AA7BFB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50DA-468C-499F-9AD5-1A73BA07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3F6-7BC1-4721-9663-FB7089AB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C11-55A3-482A-92CC-B4D22735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52A-8026-43B9-B560-0C20891A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53A-F662-4FDD-8F62-DD0EAE60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867-8D5D-45F2-9794-EC2EB2A9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ACE-01D4-416C-B13F-31DED4FF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D05-6867-4E3D-84C5-DB939029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651-ED22-4EA3-B6E1-4C1B747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FD0-7310-44A6-80F5-2FFA39D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9BF-EA40-463D-B7A6-1BB6FC0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FD65-F16D-4C22-989F-81377C8F0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112B-45FE-4359-A4EB-9F250E118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10F9-D141-4B7F-A1EF-119EED89A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_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s_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ABF-6AFE-430F-8840-5339C6F3F1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23880"/>
            <a:ext cx="739116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it 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imilar process to copy the Sale, Rental, SalesItem, and RentalItems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E60-1312-4061-A430-9121BD95A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Color, qryOldModels.ModelYear, qryOldModels.Graphics, qryOldModels.ItemMater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ListPrice, qryOldModels.Style, qryOldModels.SkillLevel, qryOldModels.WeightMa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WaistWidth, qryOldModels.BindingSty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D5D-3332-4D74-9E00-AAE3927613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56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Item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Item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17032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114440" y="44841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qryOldInventory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_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490-47E7-407A-90CD-51DE2FF263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02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s_ext.SaleID, OldSales_ext.SaleDate, OldSales_ext.ShipState, OldSales_ext.ShipZIP, OldSales_ext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s_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06720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06720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8006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s_ext.Sale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ldSales_ext.SaleDate, OldSales_ext.ShipState, OldSales_ext.ShipZIP, OldSales_ext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s_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90720" y="1523520"/>
            <a:ext cx="3581280" cy="129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182880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643-6333-443B-8A7C-0D44ABBE68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_ext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_ext.SKU, OldSale_ext.QuantitySold, OldSale_ext.Sale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356-87CF-4D1E-99AE-0E31C210E3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Renta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781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 (RentID, RentDate, ExpectedReturn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_ext.RentID+5000, OldRental_ext.RentDate, OldRental_ext.ExpectedReturn, OldRental_ext.Payment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809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Item (RentID, SKU, RentFee, Return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_ext.RentID+5000, OldRental_ext.SKU, OldRental_ext.RentFee, OldRental_ext.Return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_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443-EB6C-42DB-B932-2C34264BE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676520"/>
            <a:ext cx="6629400" cy="3962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skipped the first activity, run the BuildAllPowder file for this ch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iscoverer Administrator to create a new Business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ase tables: Sale, SaleItem, Inventory, ItemModel, and Manufactu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lookup tables: BindingStyle, Customer, PaymentMethod, ProductCategory, SkiBoardStyle, and Skill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box to build the LO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699-8B50-4C27-AFC6-504024F997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scoverer Administrator: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ad Business Are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14480" y="1585800"/>
            <a:ext cx="5315040" cy="368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7400" y="43434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2133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 an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438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581280" y="342864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32767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695-E89A-489A-A304-68AF1C6AD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ad Wizard Options: L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315040" cy="368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266688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ptions are selected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96252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LOV option to have Discoverer build lookup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438280" y="2362320"/>
            <a:ext cx="198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31240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267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A25-0BE6-4591-8597-8374857371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acle Relational Approa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2973240"/>
            <a:ext cx="1371600" cy="1827000"/>
            <a:chOff x="609480" y="2973240"/>
            <a:chExt cx="1371600" cy="1827000"/>
          </a:xfrm>
        </p:grpSpPr>
        <p:sp>
          <p:nvSpPr>
            <p:cNvPr id="95" name=""/>
            <p:cNvSpPr/>
            <p:nvPr/>
          </p:nvSpPr>
          <p:spPr>
            <a:xfrm>
              <a:off x="609480" y="29732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160" y="32688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6240" y="35654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4320" y="39114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2120" y="1752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67080" y="2743200"/>
            <a:ext cx="3428640" cy="2436480"/>
            <a:chOff x="4267080" y="2743200"/>
            <a:chExt cx="3428640" cy="2436480"/>
          </a:xfrm>
        </p:grpSpPr>
        <p:sp>
          <p:nvSpPr>
            <p:cNvPr id="101" name=""/>
            <p:cNvSpPr/>
            <p:nvPr/>
          </p:nvSpPr>
          <p:spPr>
            <a:xfrm>
              <a:off x="5464440" y="3623400"/>
              <a:ext cx="1020960" cy="67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ct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576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708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08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8576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104" idx="0"/>
              <a:endCxn id="101" idx="1"/>
            </p:cNvCxnSpPr>
            <p:nvPr/>
          </p:nvCxnSpPr>
          <p:spPr>
            <a:xfrm flipV="1">
              <a:off x="4871520" y="3961440"/>
              <a:ext cx="5929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103" idx="2"/>
              <a:endCxn id="101" idx="1"/>
            </p:cNvCxnSpPr>
            <p:nvPr/>
          </p:nvCxnSpPr>
          <p:spPr>
            <a:xfrm>
              <a:off x="4871520" y="3419280"/>
              <a:ext cx="5929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102" idx="2"/>
              <a:endCxn id="101" idx="3"/>
            </p:cNvCxnSpPr>
            <p:nvPr/>
          </p:nvCxnSpPr>
          <p:spPr>
            <a:xfrm flipH="1">
              <a:off x="6485400" y="3419280"/>
              <a:ext cx="6055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>
              <a:stCxn id="105" idx="0"/>
              <a:endCxn id="101" idx="3"/>
            </p:cNvCxnSpPr>
            <p:nvPr/>
          </p:nvCxnSpPr>
          <p:spPr>
            <a:xfrm flipH="1" flipV="1">
              <a:off x="6485400" y="3961440"/>
              <a:ext cx="6055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0" name=""/>
          <p:cNvSpPr/>
          <p:nvPr/>
        </p:nvSpPr>
        <p:spPr>
          <a:xfrm>
            <a:off x="525780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1800" y="3278160"/>
            <a:ext cx="1169640" cy="785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05120" y="30477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5740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6576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F21-0682-498A-8791-E7A25B775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verer: Business Are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857920" cy="5491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971800" y="2514600"/>
            <a:ext cx="2209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 shown as folders and named so managers understa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411480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a calculat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438280" y="2590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67080" y="2666880"/>
            <a:ext cx="1219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971440" y="3885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574-935D-436B-9E75-293C47A552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676520"/>
            <a:ext cx="693396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ata tab, expand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alculated item: Value = SalePrice*Quantity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the SUM option to set the de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Hierarchies tab, create a new hierarchy for Category Style: Category, Style from SkiBoard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location hierarchies from Sale and Customer based on the state and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841-511C-419E-911E-29E7EBCDA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Data Hierarch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72320" cy="5610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71960" y="5319720"/>
            <a:ext cx="28954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Category and Style from the SkiBoardStyle lookup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214960" y="45572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919680" y="50144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B64-1C4D-470F-A904-4CFB3CA392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scoverer Desktop: New Workboo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8184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198-5BE0-43CF-9BB4-0829EC0997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447920"/>
            <a:ext cx="7086600" cy="3809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iscoverer Desktop and create a new workbook using the Page-Detail-Crosstab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alysis columns, select SaleItem.Value, Sale.ShipState, Sale.Saledate Year through Sale.Saledate Month, and ItemModel.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econdary dimensions such as Color, ItemMaterial, BindingStyle, and Manufacturer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ShipState and Category onto the row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everything but the dates and Sum Value onto the page item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and save the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5CC-DAAF-4E06-A2F3-A958EFCBF8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Cube Layou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429320" cy="5209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81080" y="419112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w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26668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51460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895480" y="3581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19520" y="2437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343400" y="27432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CF4-6DE5-4D49-939A-05F856E5ED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600200"/>
            <a:ext cx="693396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with the worksheet by collapsing, formatting cells, and adding row and column to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rop-down arrow to select all of the values for each page item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llapse categories, mark the column and right-click to select collap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pse the time frame down to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the data using the but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Analysis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ategory column and click the Sum Totals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2B8-D2B2-46E9-8826-FB635CA962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verer Cube Brows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52440" y="1295280"/>
            <a:ext cx="8439120" cy="508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53080" y="19051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ll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705360" y="22860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5053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52880" y="281916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62720" y="28191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600200"/>
            <a:ext cx="838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61760" y="1752480"/>
            <a:ext cx="4190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F67-74E8-4B59-8DE9-025EF4490B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523880"/>
            <a:ext cx="754380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worksheet using the table layout instead of cross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ems: SalesItem.Value SUM, Sale.Saledate Year, and Sale.Saleate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worksheet, choose Tools/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Functions option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Analytic and paste the AVG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it to ma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VG(Value SUM) OVER(PARTITION BY "Saledate Year"  ORDER BY  "Saledate Month"  RANGE  INTERVAL '2' MONTH PRECED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36F-3BF0-4809-8AD7-B8A9D0BC9D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ime Series Analysis: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ving Ave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45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B9E-5A20-4311-8AE7-08F4322CC0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58E-7033-4F06-9CB6-9412BB620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676520"/>
            <a:ext cx="6248160" cy="3124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Graph/New Graph from the main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Line chart, with the 2D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hart title (Sales Moving Aver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ont sizes to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chart is drawn, resize and edit it to display enough data to make it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A6E-6320-4484-ABD5-50B2C4EE40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Discove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5788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EF3-9B60-4AE8-AEFA-57F33A63C7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0200"/>
            <a:ext cx="6934320" cy="4267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demographic data into Ora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query to combine the sales data by state with the demographic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Excel and retrieve the que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cel, choose Tools/Data Analysis/Reg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alue column as the Y-range and the population and income columns as the X-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top row as label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g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E17-3549-495C-B4AF-DAE535C053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by State for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447920"/>
          <a:ext cx="7848720" cy="4721040"/>
        </p:xfrm>
        <a:graphic>
          <a:graphicData uri="http://schemas.openxmlformats.org/drawingml/2006/table">
            <a:tbl>
              <a:tblPr/>
              <a:tblGrid>
                <a:gridCol w="1497240"/>
                <a:gridCol w="635148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states with sales in 200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hipState, Sum(SalePrice*QuantitySold) As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 ON Sale.SaleID=SaleItem.Sal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Jan-2006' AND '31-DEC-2006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ROUP BY ShipStat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IPSTATE      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T               4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               8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A               8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I               7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Y                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8 rows selec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 flipH="1">
            <a:off x="2971440" y="57150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510552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hat some states are missing from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B84-484A-4167-B23F-7840D47320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Dat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52712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StateSales2004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tateName, Income2001, Pop2002, Sum(SalePrice*QuantitySold) AS Sales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tate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.ShipState = StateDemographics.Stat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ipState IS NOT NULL AND SaleDate Between '01-Jan-2006' And '31-Dec-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tateName, Income2001, Pop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Stat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29D-E2AA-496E-B0F4-843122BFD5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52480" y="1192320"/>
            <a:ext cx="5715000" cy="5360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14400" y="45720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should include the label row but be sure to check the box to show you includ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7400" y="3809520"/>
            <a:ext cx="2514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660-EA67-499A-A1C3-D185E286E4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90440" y="2057400"/>
            <a:ext cx="6961320" cy="2895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20574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R-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200400" y="2209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529272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s a significant predictor, Incom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419360" y="491184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952880" y="49118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93F-B2AE-44BC-B63D-40EDFF3461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600200"/>
            <a:ext cx="6934320" cy="4267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tion requires the enterprise version of Oracle and assumes the default installation was used to install the data min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system DBA, configure an ODMiner user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system DBA, unlock the DMSYS user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and install Oracle Data Miner from OT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397-BC3A-48AF-A78D-0F991B26F3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 Rules Config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60020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acle Data Mining software configur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Find the file: odmuser.sq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your_Oracle_Home\product\10.1.0\DB_1\dm\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Log into SQL Plus with SYS as sys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. Run the odmuser.sql file to create a completely new u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found_path\odmuser.sql username password 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. Unlock the DMSYS ac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 USER “DMSYS” IDENTIFIED BY “password” ACCOUNT UNLO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ownload Oracle Data Miner from OTN. Unzip the files and place them in one of your Oracle folders. Add a shortcut to your_folder\bin\odminerw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255-6A49-4D0C-91C0-0D001372A6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600200"/>
            <a:ext cx="693432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RKET_BASKET_TX_BINNED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 to load the data into the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SELECT access to the new table to the ODM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granting SELECT access to the other Powder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E6C-C24C-42C5-A660-9775FCBD0E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867640" cy="319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6019560" cy="32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40D-0DD4-41C1-83CD-2DAFB2D658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Market Basket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676520"/>
            <a:ext cx="754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TABLE MARKET_BASKET_TX_B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 SEQUENC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CHAR2(28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T SELECT ON MARKET_BASKET_TX_BINNED TO ODMus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CD1-C57D-4899-B3A0-AFBD168AC3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figur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752480"/>
            <a:ext cx="769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ERT INTO MARKET_BASKET_TX_BINNED (SEQUENCE_ID, ATTRIBUTE_NAME,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SaleID, Substr(ItemModel.Category || '-' || ItemModel.Style,1,28) AS AName, 1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ale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NER JOIN Inventory ON SaleItem.SKU = 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NER JOIN ItemModel ON Inventory.ModelID = 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SaleID, Substr(ItemModel.Category || '-' || ItemModel.Style,1,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EB6-6128-4919-999F-D226F72353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un Market Basket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76520" y="1484280"/>
            <a:ext cx="5667120" cy="4764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800600" y="140796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ck the schema a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277956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the colum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00600" y="308448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8840" y="308448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343400" y="1712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571640" y="171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D60-C4B9-4CDA-A2A9-D50E2A0224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ket Basket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771800" cy="4038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314960" y="18763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confidence to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90920" y="248616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214-DDDA-4F63-B8DB-409E8D9755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600200"/>
            <a:ext cx="693432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Oracle Data Miner: odminerw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the database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: Model/Association Rules/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schema that holds the data and choose the MARKET_BASKET_TX_BINNED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ultiple records per case and double-check the column mapping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minimum confidence to 0.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option for Data is already prep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analysis and wait for the task to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2BD-4D72-43CF-9D61-6FC8A56F98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Market Basket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5348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28800" y="502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4197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 for the Success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5867280"/>
            <a:ext cx="3581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lick the task name, then the model name (not sh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37124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4280" y="60199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160020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button to choose rule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0" y="2057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019920" y="2133720"/>
            <a:ext cx="8380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2EC-CBA1-4A12-8A36-09E8B5086C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ket Basket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76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6CD-1B87-46ED-A639-B391DA930AF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74660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114800" y="243828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overer worksheet places the data into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5562720"/>
            <a:ext cx="3504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copy of this sheet is used to remove the top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057040" y="57150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047760" y="25142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BD7-93D7-43B8-B6D7-4134CABCB55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184932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648320" y="1849320"/>
            <a:ext cx="388620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A29-6998-4856-BAAC-A6CC3CDC47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88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82A-8728-4539-89F0-CFAE2CED81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981080"/>
            <a:ext cx="54864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sales with SaleID&gt;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 the trigger that creates SaleID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RIGGER GenKeyForSale Dis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and run the code to create the external tables for the old Sale and Renta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CustomerID 0 and EmployeeID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F6B-A935-4E22-ACE9-2976D5495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ernal Tables: Attach to CS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362320"/>
            <a:ext cx="396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OldSale_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Sale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Z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(10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2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371600"/>
            <a:ext cx="63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directory csv_dir as ‘D:\students\BuildAllPowder\AllPowderSampleDataCSV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581200"/>
            <a:ext cx="41907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(10,2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CHAR2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440" y="6262560"/>
            <a:ext cx="70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: currency columns cannot have $ symbols or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4BA-AA6B-43A2-A5A9-3574ED62B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ernal File Defin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95280"/>
            <a:ext cx="7924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 external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oracle_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directory csv_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arameter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 delimited by new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s terminated by ',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ly enclosed by '"' lrtr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ng field values ar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I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 char date_format date mask "mm/dd/yyyy"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, ShipZIP, PaymentMethod, SKU, QuantitySold, SalePri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elID, ItemSize, ManufacturerID, Category, Color, ModelYea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, ItemMaterial, ListPrice, Style, SkillLevel, WeightMa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, Binding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('Lab 08-01 Early Sales.csv'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limit unlimit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84D-D41B-4A6D-AD2D-346BFBD763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BAD-30CA-4176-B270-FB63713DC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8720" cy="2952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4495680"/>
            <a:ext cx="7010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_ext.ModelID, OldSale_ext.ManufacturerID, OldSale_ext.Category, OldSale_ext.Color, OldSale_ext.ModelYear, OldSale_ext.Graphics, OldSale_ext.ItemMaterial,  OldSale_ext.ListPrice, OldSale_ext.Style, OldSale_ext.SkillLevel, OldSale_ext.WeightMax, OldSale_ext.WaistWidth, OldSale_ext.Binding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_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A84-C76C-4BCA-BC81-773984939A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03:41:17Z</dcterms:modified>
  <cp:revision>83</cp:revision>
  <dc:subject/>
  <dc:title>All Powder Board and Ski</dc:title>
</cp:coreProperties>
</file>