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979-6495-4580-8C38-4270AE2E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9DE-B7B9-4936-8715-02A9CA87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30E-DE29-473D-A465-FADF7D9A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5A4-9212-4E38-A18B-42137549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C0B7-F8BB-445A-99A3-D0BCEC04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05EF-78E6-47AD-8863-513889ED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9DC3-F313-4EA0-BC8B-B943262A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CD6C-66EC-466C-A18C-511E4A5E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3F18-DE76-431E-8D0D-DE547494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22EA-C404-4EDD-99CB-6CDD5D47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95E9-1DFD-4153-AA0F-61712FDF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8C8-4B32-452E-A010-5726DE00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4AC7-204E-400B-9BAD-67AE050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610F-69D3-40AF-A158-EBF8D19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4BF6-B848-4EBF-BD4C-5FEE94CC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46AE-1F59-4201-96E6-A8B0A60B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38D6-FA62-4631-BF2B-D3F07DDF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887-E33C-4557-9BE0-4A7685A2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6D1-7CB0-460B-81C6-FF1BEA57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789-C60D-4F90-9A02-0A920A9B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C22-AA41-4837-92EA-5D513F1C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DCE-6FD4-4265-AD6C-65CBE29D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F62-324B-4155-B91D-F2B2D789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509-EBFF-4E73-892B-19209FE0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AA65-30E5-4263-8C42-7950DF189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E235-477B-43FF-85B9-CCC5A1D9B2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tn.oracle.com/software/tech/java/help/htdocs/utilsoft.htm" TargetMode="External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: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DE5A-4328-4918-8A99-E11F264EA9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pen Oracle Reports from Fo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2286000"/>
            <a:ext cx="167616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lly need Oracle AS to link the reports server to the form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4479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In PRE-FORM trig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ReportServerURL := 'http://postlt:8889/reports/rwservlet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ReportFormat := 'desformat=PDF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DatabaseServer := 'postdb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In the report button trig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CHAR2(2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L := :GLOBAL.ReportServer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| '?destype=cach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| '&amp;' || :GLOBAL.Report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| '&amp;report=' || :GLOBAL.ApplicationPath || 'CustomerSales.jsp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| '&amp;userid=@' || :GLOBAL.DatabaseServ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.Show_Document(sURL, '_blank'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AB8-200A-4FA7-B794-5A4CA7F674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600200"/>
            <a:ext cx="71625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object navigator create a new entry in the Menus section and rename it (CustomerMen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newly created Menus subsection, create a new entry and rename it Custo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object navigator, in the same Menus sublist, add a new item and rename it CustomerSu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the icon to open the Menu Edi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entries for AAMain, Customers, Close, and He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031-8171-459F-B4FB-AA22E1F4D0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991120" cy="4419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75248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enu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0574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8954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31240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600200" y="3047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58128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enu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600200" y="3505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00200" y="2590920"/>
            <a:ext cx="228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9568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te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600200" y="47242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48006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c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028840" y="487656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486040" y="44956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28195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4952520" y="2666520"/>
            <a:ext cx="838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571640" y="3048120"/>
            <a:ext cx="121932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903-26A9-48AD-94B8-2199C47537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600200"/>
            <a:ext cx="71625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tem, set the Command Type (PL/SQL or Men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ommand Text code, such as Open_Form(‘Name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Customers item, set the Submenu to CustomerSu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CustomerSub to open the Customer and Sale forms and print the two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and compile the menus (Program/Compile Modu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file name to the Customer form Menu Module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and test the form and me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19C-FC40-43C9-8330-2E3F81691F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 Men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629400" cy="4701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943600" y="2898720"/>
            <a:ext cx="15238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ve and compile the menu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94000"/>
            <a:ext cx="22096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the Replace_Menu comand to activate the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DB6-3CA3-4AA4-9A1B-4AC8793A1D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807360"/>
            <a:ext cx="1600200" cy="162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752480"/>
            <a:ext cx="3381480" cy="1676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set: AllPowderHelp.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C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c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.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572000"/>
            <a:ext cx="3124080" cy="156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men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.Show_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‘http://company.com:8888/ohw/help/?topic=Customer.html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0240" y="3205080"/>
            <a:ext cx="1157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pi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pi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pi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opi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pi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Topic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486400" y="2590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56272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962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75040" y="1225440"/>
            <a:ext cx="4749840" cy="4683240"/>
          </a:xfrm>
          <a:custGeom>
            <a:avLst/>
            <a:gdLst/>
            <a:ahLst/>
            <a:rect l="l" t="t" r="r" b="b"/>
            <a:pathLst>
              <a:path w="2992" h="2950">
                <a:moveTo>
                  <a:pt x="1554" y="340"/>
                </a:moveTo>
                <a:cubicBezTo>
                  <a:pt x="1154" y="445"/>
                  <a:pt x="621" y="717"/>
                  <a:pt x="375" y="996"/>
                </a:cubicBezTo>
                <a:cubicBezTo>
                  <a:pt x="129" y="1275"/>
                  <a:pt x="0" y="1707"/>
                  <a:pt x="79" y="2012"/>
                </a:cubicBezTo>
                <a:cubicBezTo>
                  <a:pt x="158" y="2317"/>
                  <a:pt x="415" y="2740"/>
                  <a:pt x="847" y="2828"/>
                </a:cubicBezTo>
                <a:cubicBezTo>
                  <a:pt x="1279" y="2916"/>
                  <a:pt x="2350" y="2950"/>
                  <a:pt x="2671" y="2540"/>
                </a:cubicBezTo>
                <a:cubicBezTo>
                  <a:pt x="2992" y="2130"/>
                  <a:pt x="2959" y="734"/>
                  <a:pt x="2773" y="367"/>
                </a:cubicBezTo>
                <a:cubicBezTo>
                  <a:pt x="2587" y="0"/>
                  <a:pt x="1933" y="237"/>
                  <a:pt x="1554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048120" y="2819160"/>
            <a:ext cx="3808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114800" y="2286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/>
          </p:cNvPr>
          <p:cNvSpPr/>
          <p:nvPr/>
        </p:nvSpPr>
        <p:spPr>
          <a:xfrm>
            <a:off x="993960" y="624852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otn.oracle.com/software/tech/java/help/htdocs/utilsof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D23-909D-487D-8F87-1E0B50B895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600200"/>
            <a:ext cx="716256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t least three HTML Help files for the All Powder forms using an HTML editor or Wordp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download and install the Oracle Web Help and Java Help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Map, Index, TOC, and Link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search.idx fi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new HelpSystem .h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ohwconfig.xml file to add your helpsystem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your files to the server and test the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Web.Show_Document command to a custom menu to open a context-sensitive Help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03E-E9AA-47F2-96BF-36FBADD5BF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371600"/>
            <a:ext cx="7162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rel="stylesheet" type="text/css" href="Styles.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EAD&gt;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1&gt;Introduction to the All Powder Board and Ski Shop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&gt;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&lt;IMG SRC="BoardLogo1.gif" border="0"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All Powder Board and Ski Shop sells and rents snowboards and skis for all levels of riders and skiers.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R&gt;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2&gt;The Board and Ski Shop&lt;/H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L&gt;&lt;LI&gt;&lt;A HREF="Customers.html"&gt;Customers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&gt;&lt;A HREF="Sales.html"&gt;Sales 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UL&gt;&lt;/BODY&gt;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600" y="4836960"/>
            <a:ext cx="78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: Y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 double quotes not single quotes or the links will f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73F-C8F4-4720-8F7D-350E56C3CB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pics Ma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2057400"/>
            <a:ext cx="685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'1.0' 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 version="1.0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ID target="AllPowder_html" url="AllPowder.html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ID target="Customers_html" url="Customers.html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ID target="Sales_html" url="Sales.html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ma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4E1-4C6A-455C-878C-FDB114E97F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of Contents (TOC)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52388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'1.0' 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 version="1.0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ext="Introduction to All Powder Board and Ski Sh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arget="AllPowder_html" text="The Board and Ski Shop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ext="Sales Options" target="Sales_html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ocite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ext="Customer Option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arget="Customers_html" text="Adding New Customer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citem target="Sales_html" text="Sales Option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ocite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o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6B2-F124-411B-9223-F65576F1B7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181320" cy="3033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pplications: Integ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3500640" cy="3354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143000" y="3276720"/>
            <a:ext cx="2428920" cy="282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9480" y="1523880"/>
            <a:ext cx="2357640" cy="229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32004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743200"/>
            <a:ext cx="2819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1337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89548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600200"/>
            <a:ext cx="838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259092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486400" y="2895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3962520"/>
            <a:ext cx="13716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forms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B9C-4C34-420C-A806-6D8AEDDDF3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ex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676520"/>
            <a:ext cx="769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'1.0' 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 version="1.0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AllPowder" text="All Powder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AllPowder" text="Management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AllPowder" text="Start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Customers" text="Client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Customers" text="Customer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arget="Sales" text="Sale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item text="Introduction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entry target="AllPowder" text="The Company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entry target="Customers" text="Customer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dexentry target="Sales" text="Sale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indexite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A03-603B-4B50-B054-B8FFFE8BF5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arch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905120"/>
            <a:ext cx="7772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proprietary binary file that must be gene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can create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install Oracle Java Help and use the help-4-ind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command line statement to create the binary index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LASSPATH=%CLASSPATH%;c:\program files\ohelp\help4-indexer.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-mx64m oracle.help.tools.index.Indexer -l=en_US =e=8859_1 D:\Oracle\ohw\oc4j\j2ee\home\applications\ohw-eapp\ohw\helpsets\AllPowder search.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asspath depends on where you installed the Java Help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th on the java line is the folder holding your HTM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DBD-0464-4C35-856F-C21D191C59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System File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36232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'1.0' 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elpset version="1.1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ref location="map.xml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map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ink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inkref location="link.x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link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B06-9997-496E-8E09-789CF6AE19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System File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37160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abel&gt;Contents&lt;/lab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ype&gt;oracle.help.navigator.tocNavigator.TOCNavigator&lt;/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a engine="oracle.help.engine.XMLTOCEngine"&gt;toc.xml&lt;/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abel&gt;Index&lt;/lab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ype&gt;oracle.help.navigator.keywordNavigator.KeywordNavigator&lt;/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a engine="oracle.help.engine.XMLIndexEngine"&gt;index.xml&lt;/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abel&gt;Search&lt;/lab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ype&gt;oracle.help.navigator.searchNavigator.SearchNavigator&lt;/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a engine="oracle.help.engine.SearchEngine"&gt;search.idx&lt;/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ie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elpse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60F-5624-4274-B704-25993B7593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hwconfig.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2558880"/>
            <a:ext cx="6324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ooks combineBooks="true" useLabelInfo="tru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helpSet location=“AllPowder/AllPowderHelp.h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elp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ook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BBF-12F1-438F-AAF5-3FB3EBE626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Hel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23960" y="1600200"/>
            <a:ext cx="40960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772-F885-4C77-A0AB-51ADA2EF43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xt-Sensitive Help (sort of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7960" y="1407960"/>
            <a:ext cx="361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property: Help Book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roperty: Help Book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9400" y="2855880"/>
            <a:ext cx="6656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create a custom menu with an entry for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L/SQL Code to open a specific 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.Show_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http://yourserver.com:8888/ohw/help/?topic=Customers_html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6A3-ED07-4B58-864D-081C0A2257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ploying an Appl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1795320" cy="2727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503360" cy="1203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98760" y="4608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23520" y="52578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495680" y="1828800"/>
            <a:ext cx="898560" cy="1359000"/>
            <a:chOff x="4495680" y="1828800"/>
            <a:chExt cx="898560" cy="1359000"/>
          </a:xfrm>
        </p:grpSpPr>
        <p:sp>
          <p:nvSpPr>
            <p:cNvPr id="219" name=""/>
            <p:cNvSpPr/>
            <p:nvPr/>
          </p:nvSpPr>
          <p:spPr>
            <a:xfrm>
              <a:off x="4994280" y="1835280"/>
              <a:ext cx="399960" cy="1339920"/>
            </a:xfrm>
            <a:custGeom>
              <a:avLst/>
              <a:gdLst/>
              <a:ahLst/>
              <a:rect l="l" t="t" r="r" b="b"/>
              <a:pathLst>
                <a:path w="252" h="844">
                  <a:moveTo>
                    <a:pt x="222" y="82"/>
                  </a:moveTo>
                  <a:cubicBezTo>
                    <a:pt x="234" y="198"/>
                    <a:pt x="248" y="620"/>
                    <a:pt x="252" y="746"/>
                  </a:cubicBezTo>
                  <a:cubicBezTo>
                    <a:pt x="138" y="786"/>
                    <a:pt x="90" y="808"/>
                    <a:pt x="6" y="844"/>
                  </a:cubicBezTo>
                  <a:cubicBezTo>
                    <a:pt x="8" y="710"/>
                    <a:pt x="0" y="142"/>
                    <a:pt x="4" y="0"/>
                  </a:cubicBezTo>
                  <a:cubicBezTo>
                    <a:pt x="62" y="22"/>
                    <a:pt x="75" y="33"/>
                    <a:pt x="98" y="40"/>
                  </a:cubicBezTo>
                  <a:cubicBezTo>
                    <a:pt x="121" y="47"/>
                    <a:pt x="133" y="40"/>
                    <a:pt x="144" y="44"/>
                  </a:cubicBezTo>
                  <a:cubicBezTo>
                    <a:pt x="155" y="48"/>
                    <a:pt x="149" y="58"/>
                    <a:pt x="162" y="64"/>
                  </a:cubicBezTo>
                  <a:cubicBezTo>
                    <a:pt x="175" y="70"/>
                    <a:pt x="178" y="64"/>
                    <a:pt x="222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9595d4"/>
                </a:gs>
                <a:gs pos="100000">
                  <a:srgbClr val="000099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75360" y="1901880"/>
              <a:ext cx="95040" cy="1181160"/>
            </a:xfrm>
            <a:custGeom>
              <a:avLst/>
              <a:gdLst/>
              <a:ahLst/>
              <a:rect l="l" t="t" r="r" b="b"/>
              <a:pathLst>
                <a:path w="60" h="744">
                  <a:moveTo>
                    <a:pt x="50" y="17"/>
                  </a:moveTo>
                  <a:cubicBezTo>
                    <a:pt x="53" y="40"/>
                    <a:pt x="53" y="82"/>
                    <a:pt x="52" y="140"/>
                  </a:cubicBezTo>
                  <a:cubicBezTo>
                    <a:pt x="51" y="198"/>
                    <a:pt x="46" y="267"/>
                    <a:pt x="46" y="366"/>
                  </a:cubicBezTo>
                  <a:cubicBezTo>
                    <a:pt x="46" y="465"/>
                    <a:pt x="56" y="673"/>
                    <a:pt x="55" y="736"/>
                  </a:cubicBezTo>
                  <a:cubicBezTo>
                    <a:pt x="42" y="739"/>
                    <a:pt x="60" y="737"/>
                    <a:pt x="41" y="744"/>
                  </a:cubicBezTo>
                  <a:cubicBezTo>
                    <a:pt x="33" y="661"/>
                    <a:pt x="14" y="363"/>
                    <a:pt x="8" y="239"/>
                  </a:cubicBezTo>
                  <a:cubicBezTo>
                    <a:pt x="2" y="115"/>
                    <a:pt x="0" y="41"/>
                    <a:pt x="4" y="2"/>
                  </a:cubicBezTo>
                  <a:cubicBezTo>
                    <a:pt x="25" y="8"/>
                    <a:pt x="27" y="0"/>
                    <a:pt x="35" y="2"/>
                  </a:cubicBezTo>
                  <a:cubicBezTo>
                    <a:pt x="43" y="4"/>
                    <a:pt x="37" y="0"/>
                    <a:pt x="50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d7d7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1828800"/>
              <a:ext cx="511200" cy="1359000"/>
            </a:xfrm>
            <a:custGeom>
              <a:avLst/>
              <a:gdLst/>
              <a:ahLst/>
              <a:rect l="l" t="t" r="r" b="b"/>
              <a:pathLst>
                <a:path w="322" h="856">
                  <a:moveTo>
                    <a:pt x="322" y="850"/>
                  </a:moveTo>
                  <a:cubicBezTo>
                    <a:pt x="284" y="856"/>
                    <a:pt x="245" y="851"/>
                    <a:pt x="220" y="842"/>
                  </a:cubicBezTo>
                  <a:cubicBezTo>
                    <a:pt x="195" y="833"/>
                    <a:pt x="183" y="805"/>
                    <a:pt x="170" y="796"/>
                  </a:cubicBezTo>
                  <a:cubicBezTo>
                    <a:pt x="157" y="787"/>
                    <a:pt x="162" y="793"/>
                    <a:pt x="142" y="788"/>
                  </a:cubicBezTo>
                  <a:cubicBezTo>
                    <a:pt x="122" y="783"/>
                    <a:pt x="72" y="779"/>
                    <a:pt x="48" y="768"/>
                  </a:cubicBezTo>
                  <a:cubicBezTo>
                    <a:pt x="24" y="757"/>
                    <a:pt x="32" y="756"/>
                    <a:pt x="0" y="722"/>
                  </a:cubicBezTo>
                  <a:cubicBezTo>
                    <a:pt x="8" y="610"/>
                    <a:pt x="22" y="194"/>
                    <a:pt x="36" y="84"/>
                  </a:cubicBezTo>
                  <a:cubicBezTo>
                    <a:pt x="80" y="56"/>
                    <a:pt x="72" y="67"/>
                    <a:pt x="94" y="60"/>
                  </a:cubicBezTo>
                  <a:cubicBezTo>
                    <a:pt x="116" y="53"/>
                    <a:pt x="150" y="47"/>
                    <a:pt x="168" y="42"/>
                  </a:cubicBezTo>
                  <a:cubicBezTo>
                    <a:pt x="186" y="37"/>
                    <a:pt x="188" y="37"/>
                    <a:pt x="202" y="32"/>
                  </a:cubicBezTo>
                  <a:cubicBezTo>
                    <a:pt x="216" y="27"/>
                    <a:pt x="232" y="15"/>
                    <a:pt x="252" y="10"/>
                  </a:cubicBezTo>
                  <a:cubicBezTo>
                    <a:pt x="272" y="5"/>
                    <a:pt x="276" y="0"/>
                    <a:pt x="320" y="4"/>
                  </a:cubicBezTo>
                  <a:cubicBezTo>
                    <a:pt x="320" y="156"/>
                    <a:pt x="322" y="706"/>
                    <a:pt x="322" y="85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96"/>
                </a:gs>
                <a:gs pos="100000">
                  <a:srgbClr val="000099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7520" y="1838520"/>
              <a:ext cx="81000" cy="1332000"/>
            </a:xfrm>
            <a:custGeom>
              <a:avLst/>
              <a:gdLst/>
              <a:ahLst/>
              <a:rect l="l" t="t" r="r" b="b"/>
              <a:pathLst>
                <a:path w="51" h="839">
                  <a:moveTo>
                    <a:pt x="34" y="32"/>
                  </a:moveTo>
                  <a:cubicBezTo>
                    <a:pt x="29" y="43"/>
                    <a:pt x="24" y="0"/>
                    <a:pt x="19" y="116"/>
                  </a:cubicBezTo>
                  <a:cubicBezTo>
                    <a:pt x="14" y="232"/>
                    <a:pt x="7" y="617"/>
                    <a:pt x="4" y="728"/>
                  </a:cubicBezTo>
                  <a:cubicBezTo>
                    <a:pt x="1" y="839"/>
                    <a:pt x="1" y="750"/>
                    <a:pt x="1" y="785"/>
                  </a:cubicBezTo>
                  <a:cubicBezTo>
                    <a:pt x="24" y="789"/>
                    <a:pt x="0" y="782"/>
                    <a:pt x="3" y="783"/>
                  </a:cubicBezTo>
                  <a:cubicBezTo>
                    <a:pt x="6" y="784"/>
                    <a:pt x="13" y="788"/>
                    <a:pt x="18" y="791"/>
                  </a:cubicBezTo>
                  <a:cubicBezTo>
                    <a:pt x="23" y="794"/>
                    <a:pt x="15" y="794"/>
                    <a:pt x="34" y="801"/>
                  </a:cubicBezTo>
                  <a:cubicBezTo>
                    <a:pt x="38" y="733"/>
                    <a:pt x="44" y="501"/>
                    <a:pt x="46" y="372"/>
                  </a:cubicBezTo>
                  <a:cubicBezTo>
                    <a:pt x="48" y="243"/>
                    <a:pt x="51" y="84"/>
                    <a:pt x="49" y="27"/>
                  </a:cubicBezTo>
                  <a:cubicBezTo>
                    <a:pt x="24" y="32"/>
                    <a:pt x="37" y="31"/>
                    <a:pt x="3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50000">
                  <a:srgbClr val="c7c7fe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65640" y="215136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65640" y="220824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65640" y="228132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65640" y="234180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65640" y="241776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0000" y="210996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80000" y="217008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80000" y="224640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80000" y="231948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80000" y="2392560"/>
              <a:ext cx="326880" cy="4896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11560" y="2125800"/>
              <a:ext cx="152640" cy="33480"/>
            </a:xfrm>
            <a:custGeom>
              <a:avLst/>
              <a:gdLst/>
              <a:ahLst/>
              <a:rect l="l" t="t" r="r" b="b"/>
              <a:pathLst>
                <a:path w="96" h="21">
                  <a:moveTo>
                    <a:pt x="96" y="21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11560" y="2190960"/>
              <a:ext cx="150840" cy="28440"/>
            </a:xfrm>
            <a:custGeom>
              <a:avLst/>
              <a:gdLst/>
              <a:ahLst/>
              <a:rect l="l" t="t" r="r" b="b"/>
              <a:pathLst>
                <a:path w="95" h="18">
                  <a:moveTo>
                    <a:pt x="95" y="1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03640" y="2266920"/>
              <a:ext cx="158760" cy="22320"/>
            </a:xfrm>
            <a:custGeom>
              <a:avLst/>
              <a:gdLst/>
              <a:ahLst/>
              <a:rect l="l" t="t" r="r" b="b"/>
              <a:pathLst>
                <a:path w="100" h="14">
                  <a:moveTo>
                    <a:pt x="100" y="1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0760" y="2336760"/>
              <a:ext cx="161640" cy="16200"/>
            </a:xfrm>
            <a:custGeom>
              <a:avLst/>
              <a:gdLst/>
              <a:ahLst/>
              <a:rect l="l" t="t" r="r" b="b"/>
              <a:pathLst>
                <a:path w="102" h="10">
                  <a:moveTo>
                    <a:pt x="102" y="1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00760" y="2413080"/>
              <a:ext cx="17280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9" y="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49880" y="2171880"/>
              <a:ext cx="112680" cy="1908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0" y="0"/>
                  </a:moveTo>
                  <a:lnTo>
                    <a:pt x="71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3120" y="2233800"/>
              <a:ext cx="114120" cy="1440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0" y="0"/>
                  </a:moveTo>
                  <a:lnTo>
                    <a:pt x="72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53120" y="2301840"/>
              <a:ext cx="1191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48440" y="2362320"/>
              <a:ext cx="12384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0"/>
                  </a:moveTo>
                  <a:lnTo>
                    <a:pt x="78" y="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3120" y="2433600"/>
              <a:ext cx="12384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0"/>
                  </a:moveTo>
                  <a:lnTo>
                    <a:pt x="78" y="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975480" y="31608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2743200"/>
            <a:ext cx="1828800" cy="12193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768"/>
                </a:moveTo>
                <a:cubicBezTo>
                  <a:pt x="184" y="752"/>
                  <a:pt x="368" y="736"/>
                  <a:pt x="480" y="624"/>
                </a:cubicBezTo>
                <a:cubicBezTo>
                  <a:pt x="592" y="512"/>
                  <a:pt x="560" y="192"/>
                  <a:pt x="672" y="96"/>
                </a:cubicBezTo>
                <a:cubicBezTo>
                  <a:pt x="784" y="0"/>
                  <a:pt x="968" y="24"/>
                  <a:pt x="115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5400" y="3962520"/>
            <a:ext cx="191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2895480"/>
            <a:ext cx="1320840" cy="2133720"/>
          </a:xfrm>
          <a:custGeom>
            <a:avLst/>
            <a:gdLst/>
            <a:ahLst/>
            <a:rect l="l" t="t" r="r" b="b"/>
            <a:pathLst>
              <a:path w="832" h="1344">
                <a:moveTo>
                  <a:pt x="0" y="0"/>
                </a:moveTo>
                <a:cubicBezTo>
                  <a:pt x="352" y="48"/>
                  <a:pt x="704" y="96"/>
                  <a:pt x="768" y="288"/>
                </a:cubicBezTo>
                <a:cubicBezTo>
                  <a:pt x="832" y="480"/>
                  <a:pt x="392" y="976"/>
                  <a:pt x="384" y="1152"/>
                </a:cubicBezTo>
                <a:cubicBezTo>
                  <a:pt x="376" y="1328"/>
                  <a:pt x="548" y="1336"/>
                  <a:pt x="720" y="1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31560" y="31240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nit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E84-ED88-4E8D-8D80-157CF3C12B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600200"/>
            <a:ext cx="71625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QL scripts to rebuild your database on a new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get to an Oracle Application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DBA configure a new database and the AS for a new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your global variables to point to the new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new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and transfer the application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very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C3C-31A0-4FFA-AEBE-3710EEB9E5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mplate: From a Blank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86480" cy="3965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57600" y="3124080"/>
            <a:ext cx="762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2819520"/>
            <a:ext cx="685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971800"/>
            <a:ext cx="838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4343400"/>
            <a:ext cx="1295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7339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96252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an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362320" y="35809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447920" y="2437920"/>
            <a:ext cx="8380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38120" y="4572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723920" y="27428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58000" y="2819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B90-FBB7-426D-9B9C-B6569D8AB7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600200"/>
            <a:ext cx="754380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Forms Bui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nvases and click the Create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Module1, Canvas1, and Window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Window properties to change the title and set the Primary Can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new canvas and set background and font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dit/Import/Image to import a lo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Text tool to add the title and forma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isplay Item button to add the Messag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ts Database Item property to No and Bevel to N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Button tool to add and format the Close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EXIT_FORM; code to its When_Button_Pressed smart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485-0A48-4491-BCA1-0FED6633D5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00200"/>
            <a:ext cx="8153280" cy="4572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Visual Attributes and click 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the attribute as FormTitle_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Font Size property t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Font Weight property to B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roperty Classes and click 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the class as Currency_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its icon to open the property pal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Add Property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d add the Justification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ts value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Data Type property and set its value to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Format Mask property and set its value to FML9G999G999G999D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Text_Class property with font size of 8 and font weight of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he FormTitle_Attribute to the Visual Attribute Group property of the Title_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9F6-A027-4303-A804-66ADE185E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ew Form From Templ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05640" cy="469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FEA-D66E-43B0-AB58-9396EC4225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Apply Templ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153280" cy="3581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Forms Builder and choose File/New Form using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the main module as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old Customer form and its main can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data block in the navigator and drag it to the new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new data block and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properties for Custome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hift-click to select all of the new data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anvas property for all items to Template_Can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Subclass property to the Text_Class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record groups from the old form and drag them to the new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y items from the old LOVs entry to LOVs in the new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B00-EA26-46A8-82FC-44085C3A58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82760" y="1600200"/>
            <a:ext cx="6377040" cy="4419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a Switchboar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1676520"/>
            <a:ext cx="14479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mages with Edit/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00600" y="24382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952880"/>
            <a:ext cx="2133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657600" y="43430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800240" y="45720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26708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orms or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105520" y="44956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095520" y="373356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657600"/>
            <a:ext cx="12952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eport links in navig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45720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93D-D0F5-48F8-80C5-C5DDD84F48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600200"/>
            <a:ext cx="716256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without the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 to open other forms: Open_Form(‘name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links to the reports in the navig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uttons to open the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de to open the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lors and graphics to make the form appe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all butt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B6C-7857-4508-9EE4-BC6A73B4F4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3T21:39:02Z</dcterms:modified>
  <cp:revision>80</cp:revision>
  <dc:subject/>
  <dc:title>All Powder Board and Ski</dc:title>
</cp:coreProperties>
</file>