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269-4E58-4A8F-962A-04004D38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D57-69C5-48CC-941B-2D1EC450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DB0-AA1C-4F2B-B9E9-F9D3263E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0E3-9ADE-4C66-A617-7E69C603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AD13-A281-41B0-98A3-C1C2310E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5C69-307D-4314-AEC3-73DEA01D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2199-93F9-4B89-9B82-D4D6E68F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E83-C3BA-4C91-9B1E-9A88565D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B1F-D734-442A-88C9-DBFD3CE1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2BAD-D64D-4885-83FF-B457BDE0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2F84-A52C-4586-AD1A-1120602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CC0-CE1F-4799-A834-2216A677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BAC0-2345-4B4E-A352-063C465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2ADD-C4DC-4609-B8E7-B08BB57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903D-C878-495F-921D-18B83D8F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A4B3-AE19-48D2-A599-185AB0A4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968C-82D1-423B-91F1-65B10C45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B58-F007-4483-A386-C80AC15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D1E-584C-400D-9A99-05FD676D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1F0-52F2-45BC-A837-D8046389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7AF-557E-4DAE-902C-6ED4E4F8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821-46D9-4BBB-85AF-50FAE26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345-D0F2-48DA-B3D6-0139CE76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02C-8955-40A5-9A8D-B05E087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ED14-2109-40D4-933D-C05CBBCBD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7DC5-5183-4DB2-A7C0-63B946405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ai.oracle.com/" TargetMode="External"/><Relationship Id="rId2" Type="http://schemas.openxmlformats.org/officeDocument/2006/relationships/hyperlink" Target="http://oai.oracle.com/" TargetMode="External"/><Relationship Id="rId3" Type="http://schemas.openxmlformats.org/officeDocument/2006/relationships/hyperlink" Target="http://otn.oracle.com/" TargetMode="External"/><Relationship Id="rId4" Type="http://schemas.openxmlformats.org/officeDocument/2006/relationships/hyperlink" Target="http://otn.oracle.com/" TargetMode="External"/><Relationship Id="rId5" Type="http://schemas.openxmlformats.org/officeDocument/2006/relationships/hyperlink" Target="http://otn.oracle.com/documentation/content.html" TargetMode="External"/><Relationship Id="rId6" Type="http://schemas.openxmlformats.org/officeDocument/2006/relationships/hyperlink" Target="http://otn.oracle.com/documentation/content.html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00200"/>
          <a:ext cx="7925040" cy="401940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iscoun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life/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MS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46040"/>
          <a:ext cx="7925040" cy="535932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grades/an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ntor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wer cle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d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1080" y="2133720"/>
            <a:ext cx="4953240" cy="1218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feasibility plan for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M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academic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oai.ora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technolog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otn.ora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documentation—requires OT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otn.oracle.com/documentation/cont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g 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212400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250344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2762280" cy="3048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9720" y="14479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*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4640" y="5791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*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9440" y="579132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ervername:5560/isql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3480" y="502920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ervername:1157/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7200" y="144792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anager (Admin righ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terprise Manag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4419360" cy="419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867280" y="1905120"/>
            <a:ext cx="2362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to create users and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dministrator per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able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9436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752480"/>
            <a:ext cx="5410080" cy="3733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enterprise manager cons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atabase and log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open your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on tables, select Creat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lumn names and data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onstraint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PK_CUSTOMER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ustome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ustomerID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reate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cribe a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32860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Constraints and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362320"/>
            <a:ext cx="4343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"POWDER"."CUSTOMER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USTOMERID" NUMBER(10) NOT NUL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LASTNAME" VARCHAR2(25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FIRSTNAME" VARCHAR2(25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PHONE" VARCHAR2(20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ADDRESS" VARCHAR2(50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ITY" VARCHAR2(35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STATE" VARCHAR2(20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ZIPCODE" VARCHAR2(2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 "PK_CUSTOMER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KEY("CUSTOMERI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7925040" cy="4491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bo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sk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tr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hill/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2057400"/>
            <a:ext cx="3352680" cy="1752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the tabl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View/Edit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sampl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Apply butto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Data into a Table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8168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2057400"/>
            <a:ext cx="434340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forms bui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ools/Data block wiz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ustome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ll of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efault layout ch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ll columns for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 Design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19051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lock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 on the server and Program/Compil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1814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1789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: On the ser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ust either run full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nu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C4J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572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oots and Bi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ot-Binding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fg.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ard/S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/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3200400"/>
          <a:ext cx="1752480" cy="1584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329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/Us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925040" cy="4437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nt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Re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Da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ed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752480"/>
            <a:ext cx="7391520" cy="3429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information about skis and snowboards o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install and upgrade the DB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924320" cy="4419000"/>
        </p:xfrm>
        <a:graphic>
          <a:graphicData uri="http://schemas.openxmlformats.org/drawingml/2006/table">
            <a:tbl>
              <a:tblPr/>
              <a:tblGrid>
                <a:gridCol w="7924320"/>
              </a:tblGrid>
              <a:tr h="44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Title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s System for Boards and Sk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ll Powder Board and Ski Sho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Contact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Ka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oal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Description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Form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Report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ead Develop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Time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Cos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e Prepared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5040" cy="4489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the project and obtain approv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alyze the user needs and identify all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Desig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termine the tables and relationship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he tables and load basic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queries needed for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uild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ransaction eleme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security and access control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dditional 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data warehouse to analyze data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andle distributed database elements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Implemen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and load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rain user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oad testin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revi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09680"/>
            <a:ext cx="4876560" cy="1143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project milestone dates based on your school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1T17:04:50Z</dcterms:modified>
  <cp:revision>11</cp:revision>
  <dc:subject/>
  <dc:title>All Powder Board and Ski</dc:title>
</cp:coreProperties>
</file>