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97D6-D356-4CFE-907B-3086CF5A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4D46-DD64-4458-BD51-4A03E9AE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F2F7-CF11-464C-96ED-2DC2D0EC6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E0D3-B6BC-447E-8FED-4B267311A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81A0-34FA-4DE8-A77D-4741D1A90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7196-74CA-4D53-86F7-3F191FD0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60F2-83F6-4C81-9C0F-BDE57AE3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8587-AA60-47E7-9CC8-A9CF86C1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B40F-F3A2-41D9-9899-63B64634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960A-FC2C-4D77-90A9-992B3C52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8C96-2A94-44BC-AD9A-18B3B651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7832-DB53-4195-880F-1C02FC90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95E7-8B86-4A03-9122-38E7E84F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F05F-C794-4C57-B8F2-2501A010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CE0E-4DB9-41E8-A9F8-40D5EC78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3EFF-03C4-4FAE-B80A-F224AE5C7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D0AA-ACAD-4093-A0F9-96DC34D93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6B07-23D6-4BB3-A136-0DC058F0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5F26-89E1-4BEE-B49F-87559943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A535-B25A-4B64-BCCD-F12D5391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37D8-A09F-4B10-AD1C-2469E0DF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759D-F406-4480-8E42-308EB6F5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63E3-3CA3-48C7-A3DD-50FEF735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2F95-E09C-4CC0-A39A-A1B6555E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9AEF-4D4F-421D-8BD2-B08F608910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829D-E827-42F3-AA90-ED38B20D96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cle 10g Wor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Clust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90720" y="1752480"/>
          <a:ext cx="6095880" cy="19047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90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ATE CLUSTER Item_SaleItem (SaleID INTEG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TUSED 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TFREE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ZE 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LESPACE ts1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ssign Clust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066680" y="1413000"/>
          <a:ext cx="6782040" cy="4759200"/>
        </p:xfrm>
        <a:graphic>
          <a:graphicData uri="http://schemas.openxmlformats.org/drawingml/2006/table">
            <a:tbl>
              <a:tblPr/>
              <a:tblGrid>
                <a:gridCol w="6782040"/>
              </a:tblGrid>
              <a:tr h="475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1133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ATE TABLE Sal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1133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1133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le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ER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1133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leDat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1133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stomer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ER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1133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 other colum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1133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TRAINT pk_Sale PRIMARY KEY (SaleID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1133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 other constra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1133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 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LUSTER Sale_SaleItem (SaleID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1133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ATE TABLE SaleItem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1133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1133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le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ER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1133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U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VARCHAR2(50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1133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 other colum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1133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TRAINT pk_SaleItem PRIMARY KEY (SaleID, SKU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1133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 other constra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1133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 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LUSTER Sale_SaleItem (SaleID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Cluster Index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066680" y="1676520"/>
          <a:ext cx="4952880" cy="1523160"/>
        </p:xfrm>
        <a:graphic>
          <a:graphicData uri="http://schemas.openxmlformats.org/drawingml/2006/table">
            <a:tbl>
              <a:tblPr/>
              <a:tblGrid>
                <a:gridCol w="4952880"/>
              </a:tblGrid>
              <a:tr h="152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ATE INDEX Sale_SaleItem_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 CLUSTER Sale_SaleI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LESPACE t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TFREE 5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76520" y="1752480"/>
            <a:ext cx="5715000" cy="2743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6560" indent="-466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cluster based on the Sale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a new SaleC table that uses the clu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a new SaleItemC table that uses the same clu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index for the clu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 some rows into the two new tables and see if there is a differ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ssign Table to Hash Clust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990720" y="1600200"/>
          <a:ext cx="7086240" cy="3580920"/>
        </p:xfrm>
        <a:graphic>
          <a:graphicData uri="http://schemas.openxmlformats.org/drawingml/2006/table">
            <a:tbl>
              <a:tblPr/>
              <a:tblGrid>
                <a:gridCol w="7086240"/>
              </a:tblGrid>
              <a:tr h="3580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ATE CLUSTER Inventory_hash (SKU NVARCHAR2(50)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ZE 32 SINGLE TABLE HASHKEYS 5000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ATE TABLE Inventory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U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VARCHAR2(50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VARCHAR2(50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emSiz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(20,2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ntityOnHa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ER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TRAINT pk_Inventory PRIMARY KEY (SKU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 fk constra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LUSTER Inventory_hash (SKU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2057400"/>
            <a:ext cx="5638680" cy="2743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6560" indent="-466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hashed cluster for the single Inventory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new Inventory table and assign it to the clu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 data into the new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ome queries using exact key val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ome queries with inequa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ablespaces and Fi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3048120"/>
            <a:ext cx="304812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k D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3505320"/>
            <a:ext cx="13716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66880" y="3505320"/>
            <a:ext cx="13716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3048120"/>
            <a:ext cx="304812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k D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3505320"/>
            <a:ext cx="13716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72200" y="3505320"/>
            <a:ext cx="13716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600200"/>
            <a:ext cx="289548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ble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19810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b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1600200"/>
            <a:ext cx="289548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ble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198108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llback 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do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28195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95280" y="281952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00600" y="28195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281952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a Block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300400"/>
            <a:ext cx="5715000" cy="265248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3280" y="1538280"/>
            <a:ext cx="302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xed size, typically 4K or 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41320" y="51195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ble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2300400"/>
            <a:ext cx="1905120" cy="533160"/>
          </a:xfrm>
          <a:prstGeom prst="rect">
            <a:avLst/>
          </a:prstGeom>
          <a:solidFill>
            <a:srgbClr val="fff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2300400"/>
            <a:ext cx="1905120" cy="533160"/>
          </a:xfrm>
          <a:prstGeom prst="rect">
            <a:avLst/>
          </a:prstGeom>
          <a:solidFill>
            <a:srgbClr val="fff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2300400"/>
            <a:ext cx="1904760" cy="533160"/>
          </a:xfrm>
          <a:prstGeom prst="rect">
            <a:avLst/>
          </a:prstGeom>
          <a:solidFill>
            <a:srgbClr val="fff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2833560"/>
            <a:ext cx="1905120" cy="533520"/>
          </a:xfrm>
          <a:prstGeom prst="rect">
            <a:avLst/>
          </a:prstGeom>
          <a:solidFill>
            <a:srgbClr val="fff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43200" y="2833560"/>
            <a:ext cx="1905120" cy="533520"/>
          </a:xfrm>
          <a:prstGeom prst="rect">
            <a:avLst/>
          </a:prstGeom>
          <a:solidFill>
            <a:srgbClr val="fff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2833560"/>
            <a:ext cx="1904760" cy="533520"/>
          </a:xfrm>
          <a:prstGeom prst="rect">
            <a:avLst/>
          </a:prstGeom>
          <a:solidFill>
            <a:srgbClr val="fff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3367080"/>
            <a:ext cx="1905120" cy="533520"/>
          </a:xfrm>
          <a:prstGeom prst="rect">
            <a:avLst/>
          </a:prstGeom>
          <a:solidFill>
            <a:srgbClr val="fff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367080"/>
            <a:ext cx="1905120" cy="533520"/>
          </a:xfrm>
          <a:prstGeom prst="rect">
            <a:avLst/>
          </a:prstGeom>
          <a:solidFill>
            <a:srgbClr val="fff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3367080"/>
            <a:ext cx="1904760" cy="533520"/>
          </a:xfrm>
          <a:prstGeom prst="rect">
            <a:avLst/>
          </a:prstGeom>
          <a:solidFill>
            <a:srgbClr val="fff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3900600"/>
            <a:ext cx="1905120" cy="533160"/>
          </a:xfrm>
          <a:prstGeom prst="rect">
            <a:avLst/>
          </a:prstGeom>
          <a:solidFill>
            <a:srgbClr val="fff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43200" y="3900600"/>
            <a:ext cx="1905120" cy="533160"/>
          </a:xfrm>
          <a:prstGeom prst="rect">
            <a:avLst/>
          </a:prstGeom>
          <a:solidFill>
            <a:srgbClr val="fff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48320" y="3900600"/>
            <a:ext cx="1904760" cy="533160"/>
          </a:xfrm>
          <a:prstGeom prst="rect">
            <a:avLst/>
          </a:prstGeom>
          <a:solidFill>
            <a:srgbClr val="fff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4433760"/>
            <a:ext cx="1905120" cy="533520"/>
          </a:xfrm>
          <a:prstGeom prst="rect">
            <a:avLst/>
          </a:prstGeom>
          <a:solidFill>
            <a:srgbClr val="fff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4433760"/>
            <a:ext cx="1905120" cy="533520"/>
          </a:xfrm>
          <a:prstGeom prst="rect">
            <a:avLst/>
          </a:prstGeom>
          <a:solidFill>
            <a:srgbClr val="fff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4433760"/>
            <a:ext cx="1904760" cy="533520"/>
          </a:xfrm>
          <a:prstGeom prst="rect">
            <a:avLst/>
          </a:prstGeom>
          <a:solidFill>
            <a:srgbClr val="fff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733560" y="214776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43200" y="443376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74320" y="518148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CTFREE: reserved for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300400"/>
            <a:ext cx="91440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90920" y="2300400"/>
            <a:ext cx="152280" cy="533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38280" y="2300400"/>
            <a:ext cx="152640" cy="5331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93240" y="17668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2300400"/>
            <a:ext cx="57150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994440" y="2260440"/>
            <a:ext cx="138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on of data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2300400"/>
            <a:ext cx="5715000" cy="1600200"/>
          </a:xfrm>
          <a:prstGeom prst="rect">
            <a:avLst/>
          </a:prstGeom>
          <a:gradFill rotWithShape="0">
            <a:gsLst>
              <a:gs pos="0">
                <a:srgbClr val="99ccff">
                  <a:alpha val="17254"/>
                </a:srgbClr>
              </a:gs>
              <a:gs pos="100000">
                <a:srgbClr val="465e75">
                  <a:alpha val="16078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553080" y="25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994440" y="3824280"/>
            <a:ext cx="138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gment: Collection of related ex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6477120" y="39006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19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95680" y="4433760"/>
            <a:ext cx="15264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4419720"/>
            <a:ext cx="228600" cy="533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19112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CTFREE Setting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09480" y="1600200"/>
          <a:ext cx="7924320" cy="4419000"/>
        </p:xfrm>
        <a:graphic>
          <a:graphicData uri="http://schemas.openxmlformats.org/drawingml/2006/table">
            <a:tbl>
              <a:tblPr/>
              <a:tblGrid>
                <a:gridCol w="3673080"/>
                <a:gridCol w="4251240"/>
              </a:tblGrid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t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le Attribu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8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TFREE=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TUSED=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a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TFREE=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TUSED=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PDATE statements that tend to increase row siz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TFREE=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TUSED=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w size is constan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TFREE=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TUSED=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st activity is insert or read onl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nge Parti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143000" y="1523880"/>
          <a:ext cx="6629400" cy="4491000"/>
        </p:xfrm>
        <a:graphic>
          <a:graphicData uri="http://schemas.openxmlformats.org/drawingml/2006/table">
            <a:tbl>
              <a:tblPr/>
              <a:tblGrid>
                <a:gridCol w="6629400"/>
              </a:tblGrid>
              <a:tr h="449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ATE TABLE Item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I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VARCHAR2(50)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ufacturerI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ER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egor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VARCHAR2(50)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o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VARCHAR2(50)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 … more columns 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 … constraints …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ARTITION BY RANGE (ModelYea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ARTITION OldModels VALUES LESS THAN (’01-JAN-/2001’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ABLESPACE Model01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ARTITION RecentModels VALUES LESS THAN (’01-JAN-2006’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ABLESPACE Model02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ARTITION NewModels VALUES LESS THAN (’01-JAN-2100’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ABLESPACE Model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Tablespa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75248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SMALLFILE TABLESPACE "MODEL01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FILE 'D:\ORACLE\PRODUCT\10.2.0\ORADATA\POSTDB\Model01' SIZE 10M AUTOEXTEND ON NEXT 5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XSIZE UNLIMI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GGING EXTEN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L SEGMENT SPACE MANAGEMENT AU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1752480"/>
            <a:ext cx="5105160" cy="2743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three Model0# tablespa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new ItemModel2 table with range part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 the existing data into the new table and check the tablespace us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USER_PART_TABLES view to test your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ist Parti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447920" y="1420920"/>
          <a:ext cx="6324480" cy="4735440"/>
        </p:xfrm>
        <a:graphic>
          <a:graphicData uri="http://schemas.openxmlformats.org/drawingml/2006/table">
            <a:tbl>
              <a:tblPr/>
              <a:tblGrid>
                <a:gridCol w="6324480"/>
              </a:tblGrid>
              <a:tr h="4735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ATE TABLE Custom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stomerI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ER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stNam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VARCHAR2(50)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rstNam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VARCHAR2(50)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 other colum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TRAINT pk_Customer PRIMARY KEY (CustomerID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ARTITION BY LIST (Stat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ARTITION WestSales VALUES (‘CA’, ‘HI’, ‘OR’, ‘AZ’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ABLESPACE CustomerWest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ARTITION EastSales VALUES (‘RI’, ’CT’, ’NY’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ABLESPACE CustomerEast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ARTITION SouthSales VALUES (‘FL’, ’GA’, ‘LA’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ABLESPACE CustomerSouth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ARTITION MidSales VALUES (‘WI’, ‘MI’, ‘MN’,’OH’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ABLESPACE CustomerM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ash Parti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838080" y="1600200"/>
          <a:ext cx="6933960" cy="3504960"/>
        </p:xfrm>
        <a:graphic>
          <a:graphicData uri="http://schemas.openxmlformats.org/drawingml/2006/table">
            <a:tbl>
              <a:tblPr/>
              <a:tblGrid>
                <a:gridCol w="6933960"/>
              </a:tblGrid>
              <a:tr h="350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ATE TABLE Employ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ployee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ER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stNam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VARCHAR2(50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rstNam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VARCHAR2(50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TRAINT pk_Employee PRIMARY KEY (EmployeeID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ARTITION BY HASH (EmployeeI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ARTITIONS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STORE IN (tsEmp1, tsEmp2, tsEmp3, tsEmp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6-06-21T15:54:17Z</dcterms:modified>
  <cp:revision>11</cp:revision>
  <dc:subject/>
  <dc:title>All Powder Board and Ski</dc:title>
</cp:coreProperties>
</file>