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BF1A-A7BE-4812-83F7-8902F16B7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099E-4731-46CC-B140-211B69F1A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D171-7A4B-41D9-9E4B-A4AB4C30E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5EA2-F549-4694-9E75-DD38AAFD0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2CA9F-84A0-4CDF-BE39-B73D807BA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CEF88-8D6D-45FC-ACD3-47D82E50F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E418C-9588-44DF-8A21-16A8E95AF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5AF77-FED7-47EF-8BD0-A6186AE26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BBD99-7A1E-4B71-A7CB-580EF1D6F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809AD-60AF-415D-85F9-FB38B52E4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DC03E-4790-456B-85C8-9299CD90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8A66-AF47-4458-A797-AFF93E131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22DA6-26D2-48C3-9BE6-1B3F403F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F1A5F-9AE5-4CB3-8D64-C5C5E412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2D838-12DA-4400-A5A6-181949C1A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D5F80-4FD3-48A2-87BA-2E155046D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0AD23-AAFD-4456-A76D-509C75DDF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F059-A088-4666-82BE-A21E19E72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553B-C7FE-43B3-9C26-9736FF8F3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0A27-CAB5-4D83-BCA7-1A42914E3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B4E6-BBD7-4398-BFBC-BA2616814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2122-C9C9-4D5B-957D-C7D58AA7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D15F-EA1D-45E3-8DE5-B77E22D9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7A1E-3EFF-4DA6-A0BA-42898266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04CCB-1843-451B-AEDA-136EA91FF0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3014-EBAC-45CB-B15C-03F768D29D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time-post.com/dbdesign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ll Powder Board and Ski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acle 10g Work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2: Database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rry P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right ©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81E6E-75D3-42F5-B89E-DE13B4D7B50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262400" cy="42670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BDesign: Examp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72200" y="4191120"/>
            <a:ext cx="12952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colum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90720" y="2286000"/>
            <a:ext cx="9144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52480" y="3276720"/>
            <a:ext cx="12193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nt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5181480"/>
            <a:ext cx="144756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4114800"/>
            <a:ext cx="14479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us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2971800" y="320004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1905120" y="2438280"/>
            <a:ext cx="3045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609552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44956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23880" y="5105160"/>
            <a:ext cx="60984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60B3-0EE0-48BE-83F2-6998AC3C31B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19320" y="2057400"/>
            <a:ext cx="6629400" cy="28195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Customer and Sale 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GenerateKey to Customer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ame it to Custome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g new CustomerID from right side into Sale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g CustomerID from Customer and drop it on CustomerID in Sale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l out relationship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D763-5424-464C-845E-20D7F7A6464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438280" y="2152800"/>
            <a:ext cx="3000600" cy="325728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lationship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867280" y="1573200"/>
            <a:ext cx="16002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g-and-drop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3443400"/>
            <a:ext cx="175284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min and max for both sides of the 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3962160" y="3900600"/>
            <a:ext cx="2361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5257440" y="39006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1855800"/>
            <a:ext cx="1828800" cy="977760"/>
          </a:xfrm>
          <a:custGeom>
            <a:avLst/>
            <a:gdLst/>
            <a:ahLst/>
            <a:rect l="l" t="t" r="r" b="b"/>
            <a:pathLst>
              <a:path w="1152" h="616">
                <a:moveTo>
                  <a:pt x="1152" y="376"/>
                </a:moveTo>
                <a:cubicBezTo>
                  <a:pt x="1104" y="188"/>
                  <a:pt x="1056" y="0"/>
                  <a:pt x="864" y="40"/>
                </a:cubicBezTo>
                <a:cubicBezTo>
                  <a:pt x="672" y="80"/>
                  <a:pt x="336" y="348"/>
                  <a:pt x="0" y="6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5257800" y="2224080"/>
            <a:ext cx="1447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0EC6-7874-4D72-8317-A1989EB0832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43000" y="2362320"/>
            <a:ext cx="6705720" cy="16002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e Grade/Grade and 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uble click messages 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 errors by removing columns and adding new tab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D9B3-AA27-4E94-A1CA-6C4E4B31765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057400" y="1523880"/>
            <a:ext cx="4800600" cy="44038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sign Erro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38280" y="1447920"/>
            <a:ext cx="16002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SKU to the Sal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2286000"/>
            <a:ext cx="198144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 the Inventory table to the Sal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4267080"/>
            <a:ext cx="18288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le errors are highligh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743200" y="2057400"/>
            <a:ext cx="7621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362320" y="3200400"/>
            <a:ext cx="7617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480060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" y="4191120"/>
            <a:ext cx="22860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e diagnostic 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3809880" y="38098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62720" y="5181480"/>
            <a:ext cx="22860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ble-click  message for de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AA61-9CB9-4BD6-A96F-BE80C1D089E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plit Many-to-Many Relationshi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172200" y="2290680"/>
            <a:ext cx="16002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72200" y="2666880"/>
            <a:ext cx="160020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al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38080" y="2290680"/>
            <a:ext cx="13716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2666880"/>
            <a:ext cx="13716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24080" y="1995480"/>
            <a:ext cx="3948120" cy="477720"/>
          </a:xfrm>
          <a:custGeom>
            <a:avLst/>
            <a:gdLst/>
            <a:ahLst/>
            <a:rect l="l" t="t" r="r" b="b"/>
            <a:pathLst>
              <a:path w="2487" h="301">
                <a:moveTo>
                  <a:pt x="0" y="301"/>
                </a:moveTo>
                <a:cubicBezTo>
                  <a:pt x="205" y="251"/>
                  <a:pt x="816" y="0"/>
                  <a:pt x="1230" y="0"/>
                </a:cubicBezTo>
                <a:cubicBezTo>
                  <a:pt x="1644" y="0"/>
                  <a:pt x="2225" y="238"/>
                  <a:pt x="2487" y="301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415680" y="1636560"/>
            <a:ext cx="16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-to-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52680" y="4272120"/>
            <a:ext cx="16002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352680" y="4648320"/>
            <a:ext cx="16002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al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ntityS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952880" y="2895480"/>
            <a:ext cx="1219320" cy="1905120"/>
          </a:xfrm>
          <a:custGeom>
            <a:avLst/>
            <a:gdLst/>
            <a:ahLst/>
            <a:rect l="l" t="t" r="r" b="b"/>
            <a:pathLst>
              <a:path w="768" h="1200">
                <a:moveTo>
                  <a:pt x="768" y="0"/>
                </a:moveTo>
                <a:lnTo>
                  <a:pt x="384" y="0"/>
                </a:lnTo>
                <a:lnTo>
                  <a:pt x="384" y="1200"/>
                </a:lnTo>
                <a:lnTo>
                  <a:pt x="0" y="120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09680" y="2895480"/>
            <a:ext cx="1143000" cy="2286000"/>
          </a:xfrm>
          <a:custGeom>
            <a:avLst/>
            <a:gdLst/>
            <a:ahLst/>
            <a:rect l="l" t="t" r="r" b="b"/>
            <a:pathLst>
              <a:path w="720" h="1440">
                <a:moveTo>
                  <a:pt x="0" y="0"/>
                </a:moveTo>
                <a:lnTo>
                  <a:pt x="384" y="0"/>
                </a:lnTo>
                <a:lnTo>
                  <a:pt x="384" y="1440"/>
                </a:lnTo>
                <a:lnTo>
                  <a:pt x="720" y="144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96000" y="25509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…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02600" y="48006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…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5040" y="4419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…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564880" y="25509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…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B04F-7318-4C7F-881A-6A0F73A9922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ki Shop Invento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41680" y="6400800"/>
            <a:ext cx="28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: www.rossigno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317680" y="2286000"/>
            <a:ext cx="561960" cy="2676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470320" y="2590920"/>
            <a:ext cx="498240" cy="23716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2622600" y="2819520"/>
            <a:ext cx="449280" cy="21430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2754360" y="3048120"/>
            <a:ext cx="401760" cy="19144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2149560" y="1981080"/>
            <a:ext cx="625320" cy="29815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1981080" y="1905120"/>
            <a:ext cx="641520" cy="30574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4251240" y="2093760"/>
            <a:ext cx="344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 shops carry multiple lengths of each ski or board mod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51240" y="3429000"/>
            <a:ext cx="344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 information refers to the overall type of board or sk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251240" y="4572000"/>
            <a:ext cx="344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ory information refers to an individual ski or board—defined by its leng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603800" y="5334120"/>
            <a:ext cx="187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ignol Ax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905120" y="4800600"/>
            <a:ext cx="1295280" cy="304920"/>
          </a:xfrm>
          <a:custGeom>
            <a:avLst/>
            <a:gdLst/>
            <a:ahLst/>
            <a:rect l="l" t="t" r="r" b="b"/>
            <a:pathLst>
              <a:path w="816" h="192">
                <a:moveTo>
                  <a:pt x="0" y="0"/>
                </a:moveTo>
                <a:lnTo>
                  <a:pt x="0" y="192"/>
                </a:lnTo>
                <a:lnTo>
                  <a:pt x="816" y="192"/>
                </a:lnTo>
                <a:lnTo>
                  <a:pt x="81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34960" y="152388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m: 196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896920" y="152388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m: 181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219320" y="1828800"/>
            <a:ext cx="9903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2590560" y="1828800"/>
            <a:ext cx="11430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6F2C-7407-4AF1-BF97-A53902ABA79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362320" y="2057400"/>
            <a:ext cx="4267080" cy="24382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the SaleItem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the ItemModel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the proper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the k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the data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e/Grade and 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A7A2-3F27-44F0-B580-670ABFD0F29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dels and Item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7315200" cy="354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FEF7-6AC4-4B99-83A4-93BD5A413FB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ustomer Skill Leve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816560" y="1676520"/>
            <a:ext cx="465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ustomer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LastName, … Style, Skill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816560" y="2173320"/>
            <a:ext cx="462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ID, LastName, …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y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kill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148400" y="2706840"/>
            <a:ext cx="665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siness rule: Each customer can have one skill in many sty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siness rule: Each style can apply to more than one custo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ed a table with both attributes as ke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832400" y="3711600"/>
            <a:ext cx="46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ustomer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LastName, …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y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kill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42307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t you cannot include LastName, FirstName and so on, because then you would have to re-enter that data for each customer ski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E37E-72C2-4AE3-A0D6-1F09AD583C0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BDesign: An Expert Syste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http://time-post.com/db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it easy to create database di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s data in central location, so changes can be made from almost any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immediate detailed feedback on th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ors must ask for a free ac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ors and students need a Java-enabled Web brow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5B47-0ACA-4B16-921A-014557121EB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ustomer Style Skil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066680" y="1752480"/>
            <a:ext cx="16002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66680" y="2133720"/>
            <a:ext cx="16002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733920" y="2438280"/>
            <a:ext cx="18288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Sk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733920" y="2819520"/>
            <a:ext cx="18288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ll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400800" y="1681200"/>
            <a:ext cx="190512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400800" y="2057400"/>
            <a:ext cx="19051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yle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400800" y="3814920"/>
            <a:ext cx="190512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ll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400800" y="4191120"/>
            <a:ext cx="19051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kill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ll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666880" y="2286000"/>
            <a:ext cx="1067040" cy="685800"/>
          </a:xfrm>
          <a:custGeom>
            <a:avLst/>
            <a:gdLst/>
            <a:ahLst/>
            <a:rect l="l" t="t" r="r" b="b"/>
            <a:pathLst>
              <a:path w="672" h="432">
                <a:moveTo>
                  <a:pt x="0" y="0"/>
                </a:moveTo>
                <a:lnTo>
                  <a:pt x="192" y="0"/>
                </a:lnTo>
                <a:lnTo>
                  <a:pt x="192" y="432"/>
                </a:lnTo>
                <a:lnTo>
                  <a:pt x="672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562720" y="2286000"/>
            <a:ext cx="838080" cy="990720"/>
          </a:xfrm>
          <a:custGeom>
            <a:avLst/>
            <a:gdLst/>
            <a:ahLst/>
            <a:rect l="l" t="t" r="r" b="b"/>
            <a:pathLst>
              <a:path w="528" h="624">
                <a:moveTo>
                  <a:pt x="0" y="624"/>
                </a:moveTo>
                <a:lnTo>
                  <a:pt x="240" y="624"/>
                </a:lnTo>
                <a:lnTo>
                  <a:pt x="240" y="0"/>
                </a:lnTo>
                <a:lnTo>
                  <a:pt x="52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562720" y="3581280"/>
            <a:ext cx="838080" cy="762120"/>
          </a:xfrm>
          <a:custGeom>
            <a:avLst/>
            <a:gdLst/>
            <a:ahLst/>
            <a:rect l="l" t="t" r="r" b="b"/>
            <a:pathLst>
              <a:path w="528" h="480">
                <a:moveTo>
                  <a:pt x="0" y="0"/>
                </a:moveTo>
                <a:lnTo>
                  <a:pt x="240" y="0"/>
                </a:lnTo>
                <a:lnTo>
                  <a:pt x="240" y="480"/>
                </a:lnTo>
                <a:lnTo>
                  <a:pt x="528" y="48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BC99-295F-4202-A5E6-EB09D433837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Oracle Data Types (Domains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609480" y="1295280"/>
          <a:ext cx="7723440" cy="4795920"/>
        </p:xfrm>
        <a:graphic>
          <a:graphicData uri="http://schemas.openxmlformats.org/drawingml/2006/table">
            <a:tbl>
              <a:tblPr/>
              <a:tblGrid>
                <a:gridCol w="1712880"/>
                <a:gridCol w="2438640"/>
                <a:gridCol w="2685960"/>
                <a:gridCol w="885960"/>
              </a:tblGrid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m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yt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xt  (character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xe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riab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ional/Unicod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m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AR or NCHA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RCHAR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VARCHAR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0 byt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00 byt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00 byt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gigabyt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xe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riab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riab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riab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eri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yte (8 bit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ger (16 bit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ng (32 bit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64 bit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xed precis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loa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ub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rrenc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s/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BER(38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BER(38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BER(38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BER(38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BER(p,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B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B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BER(p,4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 digi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 digi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 digi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 digi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: 1...38,  s: -84...12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 digi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 digi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 digi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dec" pos="29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dec" pos="29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-2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dec" pos="29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-2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dec" pos="29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-2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dec" pos="29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-2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dec" pos="29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-2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dec" pos="29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-2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dec" pos="29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-2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dec" pos="29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-2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e/Tim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v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E, TIMESTAM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VAL YEAR/MON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/1/-4712 to 12/31/9999 (sec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11/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mag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NG RAW or BLO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gigabytes, 4 gigabyt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dec" pos="29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riab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28600" y="6323760"/>
            <a:ext cx="792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N.Oracle.com, SQL Reference book, search for Oracle Built-in Data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7D15-636B-40C8-8023-594842E41ED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itial Business Objec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3510000"/>
            <a:ext cx="16002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3886200"/>
            <a:ext cx="16002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mploye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xpay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343400" y="1600200"/>
            <a:ext cx="16002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343400" y="1981080"/>
            <a:ext cx="1600200" cy="221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1452600"/>
            <a:ext cx="16002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43000" y="1828800"/>
            <a:ext cx="16002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al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477120" y="3124080"/>
            <a:ext cx="190476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3505320"/>
            <a:ext cx="190476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nt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t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ed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A9F1-0BB7-4D67-A82A-A021602F788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ssociations or Relationship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52480" y="3510000"/>
            <a:ext cx="16002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52480" y="3886200"/>
            <a:ext cx="16002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mploye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xpay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1600200"/>
            <a:ext cx="16002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43400" y="1981080"/>
            <a:ext cx="1600200" cy="221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1452600"/>
            <a:ext cx="16002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43000" y="1828800"/>
            <a:ext cx="16002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al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77120" y="3124080"/>
            <a:ext cx="190476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477120" y="3505320"/>
            <a:ext cx="190476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nt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t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ed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43200" y="2133720"/>
            <a:ext cx="1600200" cy="457200"/>
          </a:xfrm>
          <a:custGeom>
            <a:avLst/>
            <a:gdLst/>
            <a:ahLst/>
            <a:rect l="l" t="t" r="r" b="b"/>
            <a:pathLst>
              <a:path w="1008" h="288">
                <a:moveTo>
                  <a:pt x="0" y="288"/>
                </a:moveTo>
                <a:lnTo>
                  <a:pt x="432" y="288"/>
                </a:lnTo>
                <a:lnTo>
                  <a:pt x="432" y="0"/>
                </a:lnTo>
                <a:lnTo>
                  <a:pt x="100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729520" y="21700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…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59760" y="175248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…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76E4-A551-4BC9-9FEA-3B52935F4C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81080" y="2514600"/>
            <a:ext cx="5334120" cy="16765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wser: http://time-post.com/db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student who has two key numb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D9F1-C861-4B3F-94F1-431C92C8A9C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352680" y="1447920"/>
            <a:ext cx="3827520" cy="40384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Getting Starte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1981080"/>
            <a:ext cx="182880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the key numbers you recei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66880" y="2666880"/>
            <a:ext cx="8384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3124080"/>
            <a:ext cx="182880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username and passwo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66880" y="3581280"/>
            <a:ext cx="8384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38080" y="4495680"/>
            <a:ext cx="182880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your correct name, e-mail address and Student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666880" y="4266720"/>
            <a:ext cx="83844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6CEE-22F5-443F-B14E-F0D2F035633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3713400" cy="4129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ass Regist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638680" y="3352680"/>
            <a:ext cx="221004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your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638680" y="4038480"/>
            <a:ext cx="221004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the admit code provided by your i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190760" y="3581280"/>
            <a:ext cx="14475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1665360"/>
            <a:ext cx="221004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a country or state to reduce the search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638680" y="2819520"/>
            <a:ext cx="221004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your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505320" y="2971800"/>
            <a:ext cx="21333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3505320" y="2209680"/>
            <a:ext cx="213336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2514600" y="4266720"/>
            <a:ext cx="3124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E2A7-D792-45F8-932E-5FE0A73377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33720" y="2286000"/>
            <a:ext cx="4876560" cy="22096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/Open, choose All Powder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 click/Add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 click header/Rename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g columns from right onto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 click name/set data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25E8-C499-4BE5-9F23-3B0A1D54357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22:44:22Z</dcterms:created>
  <dc:creator>Jerry Post</dc:creator>
  <dc:description/>
  <dc:language>en-US</dc:language>
  <cp:lastModifiedBy>Jerry Post</cp:lastModifiedBy>
  <dcterms:modified xsi:type="dcterms:W3CDTF">2006-06-19T22:08:49Z</dcterms:modified>
  <cp:revision>19</cp:revision>
  <dc:subject/>
  <dc:title>All Powder Board and Ski</dc:title>
</cp:coreProperties>
</file>