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B2C-40E8-49CC-882B-D6F52F08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206-CF72-452D-BBAC-475CCF4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535-4BF9-42C7-9755-3EACF650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1B7-E377-447F-B2C1-550B3C50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ED4A-A749-458E-8A8A-FA144F24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3BB-8419-41B5-97CA-5EC66A71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0C57-B91F-406B-8C56-FAB5623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24D-F73D-4FD7-92D7-83089A10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8747-9822-441B-8CC7-CB74D14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191B-A3F5-4F57-95E2-1664162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153-C8D9-464D-A002-28BC5EA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72D-7FA2-48E2-B1D8-31423F4D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C108-F0F1-4697-A1D7-5035AF4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25FF-16FE-4220-8B30-B6E21B6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EC77-C51D-4CAB-9C40-98EB75B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AAB6-977A-402F-B8CF-2ABE8D9A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991-759A-48FF-ACAF-5E1F2691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9C6-453F-4768-BB7F-73DC35B5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DDE-AA24-4366-B3D6-D1B8678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5C3-B8DA-4691-AE30-80C183D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B83-AF57-40EA-AD73-E65CB1C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089-9852-470D-9640-89B8A7A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76C-B9CD-4BDE-B603-577EB30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E3F-67B6-4DCF-AECF-349E07C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8CB-8F65-4A3B-A9EC-D592F2556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CD1F-8F65-44D3-B4BB-CE7EB8920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3F1-9D2E-435E-9B5D-3F5DA92EC2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and Rentals on Same D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600200"/>
          <a:ext cx="7696080" cy="4191120"/>
        </p:xfrm>
        <a:graphic>
          <a:graphicData uri="http://schemas.openxmlformats.org/drawingml/2006/table">
            <a:tbl>
              <a:tblPr/>
              <a:tblGrid>
                <a:gridCol w="1077840"/>
                <a:gridCol w="6618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rental customers who also purchased items on the same d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RentDate, Rental.CustomerID, Sale.CustomerID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(Rental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Rental.RentDate = Sale.Sale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NTDATE  CUSTOMERID CUSTOMERID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7-JAN-06       1291       1291 07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9-NOV-06        930        930 09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-NOV-06       1629       1629 10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A37-DE9B-462E-8E70-EEC742E1CE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3810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Customer INNER JOI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ustomer.CustomerID=Sale.Custome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JOIN Rental ON Sale.CustomerID = Rental.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0FD-41EC-4C92-BB61-AB9036CBC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Without a Purch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477800"/>
          <a:ext cx="8153640" cy="4618080"/>
        </p:xfrm>
        <a:graphic>
          <a:graphicData uri="http://schemas.openxmlformats.org/drawingml/2006/table">
            <a:tbl>
              <a:tblPr/>
              <a:tblGrid>
                <a:gridCol w="1141560"/>
                <a:gridCol w="701208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 customers who rented and did or did not make a purch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Sale.CustomerID, Rental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(Customer INNER JOIN Sale ON Customer.CustomerID=Sale.Customer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EFT JOIN Rental ON Sale.CustomerID=Rental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LastName, FirstName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CUSTOMERID 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 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arshall              1406       1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arshall              1406       1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el            Melinda               1467       1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Abrams          Marc                   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kins          April                  413       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kins          Manuel                1499       1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drich         Jewell                 142        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drich         Jewell                 142        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A53-23CD-495A-BA3D-39F410742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800100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ustomerID Not In (SELECT CustomerID FROM Ren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625-DFBB-4FEC-BEF0-1E58B605E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urchase but Never Ren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523880"/>
          <a:ext cx="7620120" cy="4427640"/>
        </p:xfrm>
        <a:graphic>
          <a:graphicData uri="http://schemas.openxmlformats.org/drawingml/2006/table">
            <a:tbl>
              <a:tblPr/>
              <a:tblGrid>
                <a:gridCol w="1109880"/>
                <a:gridCol w="651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bought items but never ren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ustomer.CustomerID NOT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(SELECT CustomerID FROM Rent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LastName, FirstName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dez          Marsha                1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nce           Dominic                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incent         Ishel                   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lker          Beth                  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ard            Seth                  1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8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1FE-DF76-41FD-BEE1-7DFF70E83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523880"/>
          <a:ext cx="7315200" cy="4616280"/>
        </p:xfrm>
        <a:graphic>
          <a:graphicData uri="http://schemas.openxmlformats.org/drawingml/2006/table">
            <a:tbl>
              <a:tblPr/>
              <a:tblGrid>
                <a:gridCol w="1301040"/>
                <a:gridCol w="60141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antity on hand by 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ModelID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ModelID, Sum(QuantityOnHand) As SumOfQuantityOnH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Sum(QuantityOnHand) DESC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ID    SUM(QUANTITYONHA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DV-720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CG-584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XY-385                    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DK-181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KU-321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HQ-568                    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TE-526                    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16F-D4E5-4CFC-9658-AEBDA10EF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371600"/>
            <a:ext cx="769608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 and Sum(QuantityOnHa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the Sum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it as ModelsOn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table: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ID, CategoryName, LowLimit, HighLi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data from Figure 5.10 (nex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CA1-B335-4003-B328-A6A5F8E21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289520"/>
                <a:gridCol w="6939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a for the new SalesCategory t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1, 'Hot', 0,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2, 'Good', 6,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3, 'OK', 10, 2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4, 'Weak', 20, 4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SERT INTO SalesCategory VALUES (5, 'Slow', 40, 100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* FROM SalesCategor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ID CATEGORYNAME      LOWLIMIT  HIGH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 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Hot                      0         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 Good                     6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OK                      10        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 Weak                    20        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Slow                    40      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86D-9E8F-40C5-B44D-EA847AED76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1520" y="2284560"/>
            <a:ext cx="678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ID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Name  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Limit  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mit    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SalesCategory PRIMARY KEY(Category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6E7-F864-4714-A87B-3D4CDDF37C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28800"/>
            <a:ext cx="617220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ModelsOnHand and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nequality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040-1004-4588-AB8D-B3BE9016E6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1028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CA1-5B6D-4477-8082-6C9733E30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523880"/>
          <a:ext cx="8686800" cy="4321080"/>
        </p:xfrm>
        <a:graphic>
          <a:graphicData uri="http://schemas.openxmlformats.org/drawingml/2006/table">
            <a:tbl>
              <a:tblPr/>
              <a:tblGrid>
                <a:gridCol w="1111320"/>
                <a:gridCol w="757548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Models categorized based on quantity on ha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ModelID, SumOfQuantityOnHand, SalesCategory.CategoryID, Category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ModelsOnHand INNER JOIN SalesCateg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N (ModelsOnHand.SumOfQuantityOnHand &gt;= SalesCategory.Low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(ModelsOnHand.SumOfQuantityOnHand &lt; SalesCategory.HighLim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ID    SUMOFQUANTITYONHAND CATEGORYID CATEGORY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 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W-97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UW-452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R-904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KT-11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SB-825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ZX-852                      2          1 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many rows not show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509-9C1F-4F8A-BA75-ED9CE9D67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1600200"/>
          <a:ext cx="8534160" cy="4267080"/>
        </p:xfrm>
        <a:graphic>
          <a:graphicData uri="http://schemas.openxmlformats.org/drawingml/2006/table">
            <a:tbl>
              <a:tblPr/>
              <a:tblGrid>
                <a:gridCol w="1109160"/>
                <a:gridCol w="74250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unt the number of models in each sales catego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sCategory.CategoryID, CategoryName,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Count(Model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ModelsOnHand INNER JOIN SalesCateg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(ModelsOnHand.SumOfQuantityOnHand &gt;= SalesCategory.Low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(ModelsOnHand.SumOfQuantityOnHand &lt; SalesCategory.HighLim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SalesCategory.CategoryID, CategoryName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ID CATEGORYNAME    COUNT(MODELI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Hot                        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 Good                      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OK                         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 Weak                        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Slow                        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CE5-8BB6-4C3A-A315-D27F4AF6DD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391160" cy="4495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January sale date in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entir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word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and name to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F16-84B4-4ECC-A44B-36C8CC4961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577880"/>
          <a:ext cx="7772400" cy="4441680"/>
        </p:xfrm>
        <a:graphic>
          <a:graphicData uri="http://schemas.openxmlformats.org/drawingml/2006/table">
            <a:tbl>
              <a:tblPr/>
              <a:tblGrid>
                <a:gridCol w="1052640"/>
                <a:gridCol w="6719760"/>
              </a:tblGrid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bought items in January or Mar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'Jan' As Sale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Jan-2006' AND '31-Jan-2006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U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'Mar' As Sale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 = Sale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Mar-2006' AND '31-Mar-2006'  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STOMERID LASTNAME        FIRSTNAME       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- 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 Bell            Leslie          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 Richmond        Hershel         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9 Forbes          Horace          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2 Shelton         Kelly           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many rows not show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F5C-781D-4D41-B14D-9996FBDA9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905120"/>
            <a:ext cx="525780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BBE-2A73-4DA2-A4B1-060E1C7C04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 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2AE-D91F-47FD-848C-DCED34F40F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90512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MyTemp PRIMARY KEY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F82-FB30-4635-9F37-43FD759CAF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828800"/>
            <a:ext cx="723924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INSERT command: INSERT INTO Customer (CustomerID, LastName, FirstName, City, Gender) VALUES (4000, 'Jones', 'Jack', 'Nowhere', 'Mal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76D-3A2D-410B-B75A-2A2F34A06B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810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stomerID, 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4000, 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4303800"/>
            <a:ext cx="52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 7 shows how to create sequences so CustomerID is gen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F23-8477-4327-B328-81181B448F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A09-4DA1-4795-9AEF-B50380787A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371600"/>
          <a:ext cx="7601040" cy="5100480"/>
        </p:xfrm>
        <a:graphic>
          <a:graphicData uri="http://schemas.openxmlformats.org/drawingml/2006/table">
            <a:tbl>
              <a:tblPr/>
              <a:tblGrid>
                <a:gridCol w="1030320"/>
                <a:gridCol w="657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otal purchases by custom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alesValue Format $999,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ustomer.CustomerID, LastName, FirstNam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QuantitySold*SalePrice) As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 ON Customer.CustomerID=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=SaleItem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ustomer.CustomerID&lt;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Customer.CustomerID, LastName, 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STOMERID LASTNAME        FIRSTNAME        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 ---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 Rice            Charlotte             $9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 Embry           Jahala               $25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 Bell            Leslie             $1,11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 Jantzen         William              $47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46D-C588-45BD-8BAC-B835548F6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523880"/>
            <a:ext cx="72388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ModelYear, and Rounc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Category=’Board’ And ModelYear=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first two lin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st =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ED0-2531-4469-A236-918EABC219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52280"/>
                <a:gridCol w="717696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crease the cost of snow boards by four percent for 200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ModelYear, Round(Cost*1.0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Board' AND ModelYear=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-- run the top query first, then edit it to make the actual chan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UPDATE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Cost = Round(Cost*1.0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Board' AND ModelYear=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8 rows upd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B07-77BA-401B-9581-47EBF8FE4D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676520"/>
            <a:ext cx="6629400" cy="4114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: SELECT * FROM MyTemp WHERE ID &gt;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ELECT row to DE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 commit;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022-C339-424E-AEFC-D290BEF8B7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0520"/>
                <a:gridCol w="658836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lete sample row from the MyTemp t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-- SELECT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My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ID &gt;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mi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D LNAME                     F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--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84 Cherry                    Lo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row dele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QL&gt; Commi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mmit comple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105-6D58-46D3-8AB6-D2E8DCDB0A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A93-75C8-4A4B-929D-118CDEA3DC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1828800"/>
            <a:ext cx="63244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Sum(RentF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, RentItem, Inventory, and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764-AAA3-4121-BA59-AD22687327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599000"/>
        </p:xfrm>
        <a:graphic>
          <a:graphicData uri="http://schemas.openxmlformats.org/drawingml/2006/table">
            <a:tbl>
              <a:tblPr/>
              <a:tblGrid>
                <a:gridCol w="1106640"/>
                <a:gridCol w="71229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how rental totals by category for a specified time peri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Sum(RentFee) AS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RentItem ON Rental.RentID=RentItem.Rent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nventory ON RentItem.SKU=Inventory.S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temModel ON Inventory.ModelID=ItemModel.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entDate Between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’01-Jan-2006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nd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’31-Mar-2006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ROUP BY Categor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  18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ts               14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ectronic           1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les                 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ck                  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         37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E7D-1C6B-46DF-9BDF-82146E6D85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676520"/>
            <a:ext cx="7543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r paste the code to create the package an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ackage creation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ive commands to execute the parameter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dates to Oct-D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065-FF8A-491F-BA97-0872A3D933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: Pack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00200"/>
            <a:ext cx="792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ACKAGE pckCategoryFe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ypeCategoryFees IS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Categ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Rent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(8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ypeCursorFees IS REF CURSOR RETURN typeCategoryFe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T typeCursor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1C3-7D84-4370-935B-8F9845A14F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ckage Bod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365120"/>
            <a:ext cx="716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ACKAGE BODY pckCategoryFe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T typeCursor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vFee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INNER JOIN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B4-596D-491D-9F9B-6A5536FABC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600200"/>
            <a:ext cx="624852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, Sale,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Sum(QuantitySold*SalePrice) AS Sales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the other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a view Customer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vg(SalesValue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5A4-D96F-48E2-A63E-5A8E44767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4548240"/>
        </p:xfrm>
        <a:graphic>
          <a:graphicData uri="http://schemas.openxmlformats.org/drawingml/2006/table">
            <a:tbl>
              <a:tblPr/>
              <a:tblGrid>
                <a:gridCol w="1062000"/>
                <a:gridCol w="71676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Use the parameterized procedure to display rental totals for specified d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umOfRentFee Format $999,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AUTOPRINT 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VARIABLE cv REFCUR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ECUTE pckCategoryFees.GetCategoryFees('01-Jan-2006'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'31-Mar-2006', :cv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   SUMOFRENT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$18,66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ts             $14,3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ectronic         $1,3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les                $79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ck                 $42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       $37,9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A35-BF56-42E2-A6A7-6B9141AAFD7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600200"/>
          <a:ext cx="7467480" cy="4010040"/>
        </p:xfrm>
        <a:graphic>
          <a:graphicData uri="http://schemas.openxmlformats.org/drawingml/2006/table">
            <a:tbl>
              <a:tblPr/>
              <a:tblGrid>
                <a:gridCol w="1045440"/>
                <a:gridCol w="642204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average total purchases for custom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Avg(SalesValue) As AvgOf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CustomerSale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GOF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42.11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5FD-6784-4E19-8912-C25E06430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693396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Sales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for Sales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SELECT Avg(SalesValue) FROM CustomerSa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8BA-4AFB-4554-A066-771744609D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447920"/>
          <a:ext cx="7772400" cy="4111560"/>
        </p:xfrm>
        <a:graphic>
          <a:graphicData uri="http://schemas.openxmlformats.org/drawingml/2006/table">
            <a:tbl>
              <a:tblPr/>
              <a:tblGrid>
                <a:gridCol w="1152360"/>
                <a:gridCol w="66200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who purchased more than the average custom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LECT LastName, FirstName, Sales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M Customer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HERE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SalesValue 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(SELECT Avg(SalesValue) FROM CustomerS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DER BY SalesValue DESC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     FIRSTNAME         SALES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-- --------------- ---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yons           Chester            $3,56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nes           Arlene             $2,815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xon           Carol              $2,789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illespie       Audrey             $2,703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'Connor        Carlos             $2,674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d            Manuel             $2,66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ash            Joseph             $2,60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only the top 7 are show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607-9578-4386-B10C-5A3B3065A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447920"/>
          <a:ext cx="7848720" cy="4525920"/>
        </p:xfrm>
        <a:graphic>
          <a:graphicData uri="http://schemas.openxmlformats.org/drawingml/2006/table">
            <a:tbl>
              <a:tblPr/>
              <a:tblGrid>
                <a:gridCol w="1152360"/>
                <a:gridCol w="66963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rental customers who also purchased items, at any ti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RentDate, Rental.CustomerID, Sale.CustomerID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R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INNER JOIN Sale ON Rental.CustomerID = Sale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NTDATE  CUSTOMERID CUSTOMERID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-MAR-06       1161       1161 23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6-NOV-06       1850       1850 13-NOV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4-MAR-06       1826       1826 02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4-NOV-06        284        284 30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-JAN-06       1768       1768 19-MAR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-MAR-06        337        337 10-AUG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04 rows selec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8A9-CCC9-4D0D-9B13-12C14F190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676520"/>
            <a:ext cx="769644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tables on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join between the tables on RentDate=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19F-51E8-4118-A27E-156673DF65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20:51:58Z</dcterms:modified>
  <cp:revision>47</cp:revision>
  <dc:subject/>
  <dc:title>All Powder Board and Ski</dc:title>
</cp:coreProperties>
</file>