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683-FEDC-43E1-8EA9-F45E59A2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273-F1F3-4488-AA1E-68515549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465-7E51-411E-8BCD-9A0162D4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6C7-4188-4C36-8BE4-C4B041D1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A872-864A-4432-A282-66DBECDB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2C05-BB00-4B5A-8DD1-E3D7A6E4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5AA1-E833-4C15-9857-E1D17BDA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E221-E86E-438B-B471-A4176CB5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A91F-7593-4DA1-939B-6B921414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E744-4DA3-452B-B4C0-B86F751D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8358-578B-4DD9-A979-23BCC3BB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C1F-78D0-4BD1-BFAC-1D1CC389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DC6F-C3BB-4C5A-9952-E0E6B250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16AA-EDAF-4A29-B2F1-CCA65E66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AE32-5B34-4313-8B1F-CD72957C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9CBF-B945-47FF-A381-74361C57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7DAB-31B5-472D-B56E-D24220CB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800-DF38-4507-86BC-50D71EE6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A03-67DA-4F95-B367-58DC2532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EE9-C5CD-4047-A9BE-B59D6F4B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135-C5E3-4782-977B-4BC5FB4B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54F-BBEB-4685-856F-05FBBD45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46F-3CC9-4497-8D26-FCABA33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CA2-729A-4099-B242-79768EC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A8EB-3218-433F-A662-54AC6E7AE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E1F1-A07F-4DD1-B6B8-8FE4D1451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0756-8825-43CB-8A0F-D97639908B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523880"/>
          <a:ext cx="8458200" cy="4486320"/>
        </p:xfrm>
        <a:graphic>
          <a:graphicData uri="http://schemas.openxmlformats.org/drawingml/2006/table">
            <a:tbl>
              <a:tblPr/>
              <a:tblGrid>
                <a:gridCol w="1897200"/>
                <a:gridCol w="6561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Jumping skis, made from composite materia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T PageSize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ategory Format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olor Format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istPrice Format $999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ItemMaterial Format A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Style Format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Color, ItemMaterial, Style, 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Category='Ski' AND ItemMaterial='Composite' AND Style='Jum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COLOR      ITEMMATERIAL    STYLE      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----- ---------- 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Red        Composite       Jump         $22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Orange     Composite       Jump         $386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Blue       Composite       Jump         $22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Black      Composite       Jump         $4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Turquoise  Composite       Jump          $9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White      Composite       Jump         $14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20 rows to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D7C-C4C6-4253-BDF8-10CA662816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600200"/>
            <a:ext cx="7239240" cy="4419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any existing SQL and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keywords SELECT, FROM,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ategory, Color, ItemMaterial, Style, List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ItemModel as the table on the FROM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nditions: Category=’Ski’ And Style=’Jump’ And ItemMaterial=’Composit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to ensure it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ditions for Color=’Yellow’ and ListPrice&lt;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ABF-0E6C-4AE1-94F4-6034895B8F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600200"/>
            <a:ext cx="7391520" cy="1752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ditions for Color=’Red’ and ListPrice&lt;4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rrect parenth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and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BC3-34B1-4CA2-B0D3-C56B38D1A1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lor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05120"/>
          <a:ext cx="8305920" cy="3579840"/>
        </p:xfrm>
        <a:graphic>
          <a:graphicData uri="http://schemas.openxmlformats.org/drawingml/2006/table">
            <a:tbl>
              <a:tblPr/>
              <a:tblGrid>
                <a:gridCol w="1033200"/>
                <a:gridCol w="72727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Jumping skis, made from composite materia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Yellow and ListPrice &lt;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Color, ItemMaterial, Style, List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Category='Ski' AND ItemMaterial='Composite' AND Style='Jump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ND Color='Yellow' AND ListPrice&lt;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COLOR      ITEMMATERIAL    STYLE      LIST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Yellow     Composite       Jump          $7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B57-0688-4453-8C26-976660AF1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ple Condi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336920"/>
        </p:xfrm>
        <a:graphic>
          <a:graphicData uri="http://schemas.openxmlformats.org/drawingml/2006/table">
            <a:tbl>
              <a:tblPr/>
              <a:tblGrid>
                <a:gridCol w="1073160"/>
                <a:gridCol w="7156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Jumping skis, made from composite materia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(Yellow And ListPrice &lt; 3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 (Red and ListPrice &lt; 4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Category, Color, ItemMaterial, Style, List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Category='Ski' AND ItemMaterial='Composite' AND Style='Jump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ND (  (Color='Yellow' AND ListPrice&lt;3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OR    (Color='Red' AND ListPrice&lt;400)   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COLOR      ITEMMATERIAL    STYLE      LIST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Red        Composite       Jump         $22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Red        Composite       Jump         $29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Red        Composite       Jump         $13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        Yellow     Composite       Jump          $7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085-0F20-449C-949F-716E3313A6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Query: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1260360"/>
                <a:gridCol w="696924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(ID) with sales in May who paid with Ca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PaymentMethod Format A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EL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ID, SaleDate,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Customer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Payment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Date Between '01-May-2006' AND '31-May-2006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PaymentMethod='Cash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CUSTOMERID PAYMENT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---------- ---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95 13-MAY-06        645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04 07-MAY-06       1309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56 02-MAY-06        314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76 10-MAY-06         69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90A-F9CA-48E8-BDC1-A0964563BA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00200"/>
            <a:ext cx="7772400" cy="3962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a blank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ELECT, FROM,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aleID, SaleDate, CustomerID, and Payment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SaleDate between 01-May-2006 AND 31-May-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aymentMethod to C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to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C1C-48A7-4F86-B477-88D1F134BA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Tables: Sale +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1523880"/>
          <a:ext cx="8458200" cy="4835520"/>
        </p:xfrm>
        <a:graphic>
          <a:graphicData uri="http://schemas.openxmlformats.org/drawingml/2006/table">
            <a:tbl>
              <a:tblPr/>
              <a:tblGrid>
                <a:gridCol w="1038600"/>
                <a:gridCol w="74196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(ID) with sales in May who paid with Cas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PaymentMethod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SaleDate,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ale.CustomerI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LastName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irstName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mt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INNER JOIN Customer ON Sale.CustomerID = Customer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Date Between '01-May-2006' AND '31-May-2006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PaymentMethod='Cash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CUSTOMERID LASTNAME   FIRSTNAME    PMTMET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---------- ---------- ------------ 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95 13-MAY-06        645 Alexander  Marvin      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04 07-MAY-06       1309 Pratt      Adrian      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56 02-MAY-06        314 Rich       Manuel      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76 10-MAY-06         69 Forbes     Horace      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BE7-FD37-4D85-B86D-03048B23D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752480"/>
            <a:ext cx="784872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the INNER JOIN line after FRO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the Customer t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the join condition: ON Sale.CustomerID = Customer.CustomerI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ge to Sale.CustomerID on the SELECT stat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Customer LastName and FirstName to the SELECT stat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un the query to test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D96-FA85-4CE7-97A4-CFB0917D2C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ilding a 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523880"/>
            <a:ext cx="6553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ustomers bought Atomic skis in January or Febru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14400" y="2128680"/>
          <a:ext cx="6933960" cy="1699920"/>
        </p:xfrm>
        <a:graphic>
          <a:graphicData uri="http://schemas.openxmlformats.org/drawingml/2006/table">
            <a:tbl>
              <a:tblPr/>
              <a:tblGrid>
                <a:gridCol w="3112920"/>
                <a:gridCol w="382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want to se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names, Sale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kn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 name, SaleDate range, Category is 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ables are involv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they join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… Sale … ItemModel, 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914400" y="41860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, First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…, Sale, …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anufacturer.Name=‘Atomic”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ale.SaleDate BETWEEN ‘01-Jan-2004’ AND ‘29-Feb-2004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emModel.Category = ‘Sk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49760" y="2286000"/>
            <a:ext cx="2934000" cy="2073240"/>
          </a:xfrm>
          <a:custGeom>
            <a:avLst/>
            <a:gdLst/>
            <a:ahLst/>
            <a:rect l="l" t="t" r="r" b="b"/>
            <a:pathLst>
              <a:path w="1848" h="1306">
                <a:moveTo>
                  <a:pt x="968" y="0"/>
                </a:moveTo>
                <a:cubicBezTo>
                  <a:pt x="1088" y="79"/>
                  <a:pt x="1588" y="308"/>
                  <a:pt x="1688" y="476"/>
                </a:cubicBezTo>
                <a:cubicBezTo>
                  <a:pt x="1788" y="644"/>
                  <a:pt x="1848" y="873"/>
                  <a:pt x="1567" y="1011"/>
                </a:cubicBezTo>
                <a:cubicBezTo>
                  <a:pt x="1286" y="1149"/>
                  <a:pt x="326" y="1245"/>
                  <a:pt x="0" y="13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819520"/>
            <a:ext cx="2298960" cy="2361960"/>
          </a:xfrm>
          <a:custGeom>
            <a:avLst/>
            <a:gdLst/>
            <a:ahLst/>
            <a:rect l="l" t="t" r="r" b="b"/>
            <a:pathLst>
              <a:path w="1448" h="1488">
                <a:moveTo>
                  <a:pt x="672" y="0"/>
                </a:moveTo>
                <a:cubicBezTo>
                  <a:pt x="908" y="136"/>
                  <a:pt x="1153" y="266"/>
                  <a:pt x="1248" y="432"/>
                </a:cubicBezTo>
                <a:cubicBezTo>
                  <a:pt x="1343" y="598"/>
                  <a:pt x="1448" y="821"/>
                  <a:pt x="1240" y="997"/>
                </a:cubicBezTo>
                <a:cubicBezTo>
                  <a:pt x="1032" y="1173"/>
                  <a:pt x="258" y="1386"/>
                  <a:pt x="0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260-A508-45AF-BE1B-F7EE3C596A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10280" cy="47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49D-194D-4CBD-BD57-EDABC33D79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Man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523880"/>
          <a:ext cx="8229600" cy="5069160"/>
        </p:xfrm>
        <a:graphic>
          <a:graphicData uri="http://schemas.openxmlformats.org/drawingml/2006/table">
            <a:tbl>
              <a:tblPr/>
              <a:tblGrid>
                <a:gridCol w="1073160"/>
                <a:gridCol w="715644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ich customers bought Atomic skis in January or February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stName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LastName, FirstName, ItemModel.Category, Name,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Manufacturer INNER JOIN ItemMod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ON Manufacturer.ManufacturerID = ItemModel.Manufactur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Invent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ItemModel.ModelID = Inventory.Mode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Inventory.SKU = SaleItem.S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SaleItem.SaleID = Sale.Sal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N Sale.CustomerID = Customer.Custome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ItemModel.Category = 'Ski' AND Name='Atomic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SaleDate BETWEEN '01-Jan-2006' AND '28-Feb-2006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NAME   FIRSTNAME  CATEGORY   NAME       SALE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tterson  Gene       Ski        Atomic     15-FEB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honey    Francis    Ski        Atomic     23-JA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88E-A39C-4A0E-9B01-2A2DC2660C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lder JOIN Meth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447920"/>
          <a:ext cx="8382240" cy="4525920"/>
        </p:xfrm>
        <a:graphic>
          <a:graphicData uri="http://schemas.openxmlformats.org/drawingml/2006/table">
            <a:tbl>
              <a:tblPr/>
              <a:tblGrid>
                <a:gridCol w="1002600"/>
                <a:gridCol w="737964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ist customers (ID) with sales in May paid with Cash. (Older syntax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PaymentMethod Format A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atName Format A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FirstName Format A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SaleDate, Sale.CustomerID, LastName, FirstName, Payment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 Sale, Custo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 Sale.CustomerID = Customer.Custome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SaleDate BETWEEN '01-May-2006' AND '31-May-2006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PaymentMethod='Cash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CUSTOMERID LASTNAME   FIRSTNAME    PAYMENT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---------- ---------- ------------ ----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95 13-MAY-06        645 Alexander  Marvin       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04 07-MAY-06       1309 Pratt      Adrian       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56 02-MAY-06        314 Rich       Manuel       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76 10-MAY-06         69 Forbes     Horace       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DB6-C50B-4489-A006-699E322E3B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504800"/>
          <a:ext cx="8229600" cy="4514760"/>
        </p:xfrm>
        <a:graphic>
          <a:graphicData uri="http://schemas.openxmlformats.org/drawingml/2006/table">
            <a:tbl>
              <a:tblPr/>
              <a:tblGrid>
                <a:gridCol w="1073160"/>
                <a:gridCol w="715644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he profit (Price - Cost) for items with price greater than $57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ategory Format A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ItemMaterial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ListPrice Format $999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Profit Format $999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ELE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Category, ItemMaterial, ListPrice,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ListPrice-Cost As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(ListPrice &gt; 57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ORDER BY Category, ListPrice DESC;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  ITEMMATERIAL    LISTPRICE 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 --------------- ---------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Wood              $649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7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Wood              $647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6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Wood              $646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6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Wood              $644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5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Fiberglass        $642.00 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$224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8DD-FE04-469D-8401-843956969C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523880"/>
            <a:ext cx="7696440" cy="4267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 using only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LECT row, add a new pseudo column to compute ListPrice-Cost As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ORDER BY line to sort by Category and List Price desc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HERE clause to limit the number of rows returned in SQL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2F2-CBC7-433A-9E69-574118DF09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on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447920"/>
            <a:ext cx="7315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w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/number of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ub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eading and trailing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p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_MONT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days, months, years to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S_BETW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wo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_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detailed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_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ne, all common tri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 drop decim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578-1CDA-459E-A464-D87564703E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 Dates: TO_CH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1571760"/>
          <a:ext cx="8534520" cy="4525920"/>
        </p:xfrm>
        <a:graphic>
          <a:graphicData uri="http://schemas.openxmlformats.org/drawingml/2006/table">
            <a:tbl>
              <a:tblPr/>
              <a:tblGrid>
                <a:gridCol w="1113120"/>
                <a:gridCol w="74214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sale date into the year and mont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SaleDate,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TO_CHAR(SaleDate, 'yyyy-mm') AS Sale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rownum &lt;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3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SALE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1 19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2 26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3 13-JUL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4 20-APR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5 07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6 18-AUG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7 16-JUN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06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56E-6F62-40BD-9603-CBDB904BA2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Days and ADD_MONTH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9480" y="1495440"/>
          <a:ext cx="7855200" cy="4753080"/>
        </p:xfrm>
        <a:graphic>
          <a:graphicData uri="http://schemas.openxmlformats.org/drawingml/2006/table">
            <a:tbl>
              <a:tblPr/>
              <a:tblGrid>
                <a:gridCol w="1030320"/>
                <a:gridCol w="6824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are date calculations by day and month arithmet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aleID, SaleDate,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aleDate+30 As LateD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ADD_MONTHS(SaleDate,1) As Late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rownum &lt;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7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ID SALEDATE 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LATEDATE  LATE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1 19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19-DEC-06 19-DEC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2 26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6-DEC-06 26-DEC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3 13-JUL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12-AUG-06 13-AUG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4 20-APR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20-MAY-06 20-MAY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5 07-NOV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07-DEC-06 07-DEC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6 18-AUG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17-SEP-06 18-SEP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7 16-JUN-06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16-JUL-06 16-JUL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28 08-JUN-06 </a:t>
                      </a:r>
                      <a:r>
                        <a:rPr b="0" lang="es-ES_tradnl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08-JUL-06 08-JUL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ff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B00-9341-4103-9AA3-2D27B715CB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981080"/>
            <a:ext cx="541008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aleID and 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30 days to the SaleDate to get Lat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D_MONTHS to add one month to the SaleDate to get Sale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FF7-5069-47F7-AACC-A1B6280618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1676520"/>
          <a:ext cx="7009920" cy="3961440"/>
        </p:xfrm>
        <a:graphic>
          <a:graphicData uri="http://schemas.openxmlformats.org/drawingml/2006/table">
            <a:tbl>
              <a:tblPr/>
              <a:tblGrid>
                <a:gridCol w="1336680"/>
                <a:gridCol w="5673240"/>
              </a:tblGrid>
              <a:tr h="89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he sales tax total for Californ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um(SalesTax) AS SumOfSales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hipState='C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OFSALES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33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E8F-5400-4145-B795-EA847B6577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523880"/>
            <a:ext cx="6019560" cy="4648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hipState and Sales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hipState = ‘CA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correct states are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ShipState from SEL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um(SalesTax) AS SumOfSales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49E-7164-4AC3-A54C-B0BD9E3B64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981080"/>
            <a:ext cx="548640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files from BuildAll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or rename conflicting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irectory name to point to the CSV files in BuldAllPowderOracle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QL Plus (not the workshe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@BuildAllPowderOracle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a few minutes for the data to l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C52-8F49-496E-A001-5B20CD46ED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UP BY: Sum For Each Stat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90720" y="1600200"/>
          <a:ext cx="7162560" cy="4183200"/>
        </p:xfrm>
        <a:graphic>
          <a:graphicData uri="http://schemas.openxmlformats.org/drawingml/2006/table">
            <a:tbl>
              <a:tblPr/>
              <a:tblGrid>
                <a:gridCol w="1193760"/>
                <a:gridCol w="5968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he sales tax total for each sta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ShipState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ShipState, Sum(SalesTax) AS SumOfSales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GROUP BY Ship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IPSTATE  SUMOFSALES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K            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                784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R                313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Z                51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               533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                347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T                254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other states not show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628-A281-406C-A2A8-EABAB1C6CC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1981080"/>
            <a:ext cx="502920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s: ShipState and Sum(SalesTax) AS SumOfSales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row at the bottom: GROUP BY Ship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A66-609C-4F3D-BFDE-234FA3D0BB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tal Sales Value in Col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600200"/>
          <a:ext cx="7924680" cy="4525200"/>
        </p:xfrm>
        <a:graphic>
          <a:graphicData uri="http://schemas.openxmlformats.org/drawingml/2006/table">
            <a:tbl>
              <a:tblPr/>
              <a:tblGrid>
                <a:gridCol w="1251360"/>
                <a:gridCol w="667332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mpute the total value of all sales to Color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ELECT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um(QuantitySold*SalePrice) As Sale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FROM S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NNER JOIN SaleItem ON Sale.SaleID = SaleItem.Sal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WHERE Sale.ShipState='CO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LE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DDF-EE40-4A83-B0F9-F9A963E320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VIEW—Save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59092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ColoradoSal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QuantitySold*SalePrice) AS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ipState=’C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6BA-EE28-4FDF-ACF8-A745D23BE7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le/Get External Data/Im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447920"/>
            <a:ext cx="4114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QL&gt; @D:\Books\BuildAllPowderCh04.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ing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ble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Employe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Manufacturer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ItemModel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SaleItem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ding Rental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alyzing Data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row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219320"/>
            <a:ext cx="44956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QL&gt; SELECT table_name FROM user_t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  WHERE table_name Not Like 'BIN%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  ORDER BY table_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BL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SK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EM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EM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UFACT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DUCT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NT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LE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KIBOARD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KILL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 rows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CCA-EDF8-4E21-ABA7-C29ACD62E5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ing a Query: SQL Workshee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1514520"/>
            <a:ext cx="6586560" cy="4429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33920" y="30384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QL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4640" y="540072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098880" y="49431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2670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809800"/>
            <a:ext cx="1524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 commands/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523880" y="364824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209680" y="296208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250524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639-01F5-4EEA-9FEB-394D0EF2BB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676520"/>
            <a:ext cx="77724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QL Plus, enter the column commands to format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ategory, ListPrice, WeightMax, Color,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ategory=’Boar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istPrice&lt;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ightMax&gt;1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D56-87A8-41BE-99C0-DBB792DC36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mp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436760"/>
          <a:ext cx="8229600" cy="4711680"/>
        </p:xfrm>
        <a:graphic>
          <a:graphicData uri="http://schemas.openxmlformats.org/drawingml/2006/table">
            <a:tbl>
              <a:tblPr/>
              <a:tblGrid>
                <a:gridCol w="1244520"/>
                <a:gridCol w="6985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isplay snowboards with a list price under $300 and max weight over 150 pound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ategory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Color Format A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LUMN Graphics Format A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SELE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Category, ListPrice, WeightMax, Color, Graph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FRO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WHE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Category=‘Board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D ListPrice &lt; 300 AND WeightMax &gt; 15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TEGORY    LISTPRICE  WEIGHTMAX COLOR      GRAPH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-------- ---------- ---------- ---------- 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92        188 Orange     F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63        181 Magenta    Geometr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62        179 Purple    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90        194 Blue       Abstr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94        158 Red        Sun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ard             270        191 Yellow     Landsc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402-30A6-4CB3-A8AB-094AA64778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057400"/>
            <a:ext cx="647712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format statements above the SELECT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Category Format A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ListPrice Format $9999.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74F-87EB-4694-9FCF-1810BE2CB7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ting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443560" cy="470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029200" y="281952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05520" y="2209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24080" y="2895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28640" y="28954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D93-CB07-4E5A-ADED-9550F13452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0T20:24:28Z</dcterms:modified>
  <cp:revision>45</cp:revision>
  <dc:subject/>
  <dc:title>All Powder Board and Ski</dc:title>
</cp:coreProperties>
</file>