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2695-4A94-4A68-802D-7A92849A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6527-43D2-4F0F-ADD1-DEBBBD08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4609-3CCD-4741-A19A-EFE59040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F8E0-20E3-46EF-ACC7-34C78EA6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0700-9B73-4442-89F1-AB368E21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EC7A-D746-4010-B082-D4EC9600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5115-2786-436E-8247-924F9A68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B1E4-334B-43FE-8D2F-4BEBAFA6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1A32-8432-488E-9C6A-52CADC91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7EEE-872F-40FB-95BB-A8ACEE04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5EA3-15AF-48DE-B864-6FC3E008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18A2-89AD-40B1-843C-26D5162A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66BE-849E-4D4B-83C3-F360637D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24D1-964C-4285-A178-41EEECED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77A9-FA8C-468C-B5FF-58CF077C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A60A-4CD6-4939-A100-214B7779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B267-995E-4E7C-8690-969A86BC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A66F-F01F-491D-AE10-F51AC4B3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7327-07C2-46AA-AA33-1CBBD77F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A678-1256-4067-BFF5-7027E3F4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8882-3405-4CAA-AC21-384BEE42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00ED-DC78-4A90-91AE-DC9EC8D2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89B9-6E75-4122-AD9D-B549518E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285B-BBCC-494D-AEB8-67D05285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28E2-EC8E-46CE-8468-90123EA5C7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DE60-FDCC-4A5F-A2A0-EB831F8D7A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ime-post.com/dbdesign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 Server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: Databas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1905120"/>
            <a:ext cx="7010280" cy="32004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click Gender and select Check constra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heck t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check cond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per(Gender) IN (‘FEMALE’, ‘MALE’, ‘UNIDENTIFIED’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unique name: CK_Customer_G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the form and save the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constraint with sampl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Tables with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371600"/>
            <a:ext cx="78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IDENTITY(1,1) NOT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 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 (12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 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 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 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 (1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 (1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OfBir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ti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pk_Customer PRIMARY KEY (CustomerID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ck_Customer_Ge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(Upper(Gender) IN ('FEMALE', 'MALE', 'UNIDENTIFIED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1981080"/>
            <a:ext cx="5410440" cy="28195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the Windows Wordpad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the CREATE TABLE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the file as ProductCategory.sq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the SQL Query Analyzer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Powder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in as the All Powder develo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ProductCategory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Execute Query button to run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ble in SQL: ProductCatego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94004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86508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Product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yDescrip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2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pk_ProductCategory PRIMARY KEY (Categ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lationships: Department and Employe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1676520"/>
            <a:ext cx="18288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2057400"/>
            <a:ext cx="18288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pay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676520"/>
            <a:ext cx="19051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2052720"/>
            <a:ext cx="1905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90920" y="2209680"/>
            <a:ext cx="1295280" cy="2590920"/>
          </a:xfrm>
          <a:custGeom>
            <a:avLst/>
            <a:gdLst/>
            <a:ahLst/>
            <a:rect l="l" t="t" r="r" b="b"/>
            <a:pathLst>
              <a:path w="816" h="1632">
                <a:moveTo>
                  <a:pt x="0" y="0"/>
                </a:moveTo>
                <a:lnTo>
                  <a:pt x="384" y="0"/>
                </a:lnTo>
                <a:lnTo>
                  <a:pt x="384" y="1632"/>
                </a:lnTo>
                <a:lnTo>
                  <a:pt x="816" y="16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88120" y="1789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2560" y="4419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4572000"/>
            <a:ext cx="16761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ign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5333760" y="4724280"/>
            <a:ext cx="1143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429000"/>
            <a:ext cx="1981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523880" y="2819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76720" y="1523880"/>
            <a:ext cx="4862520" cy="4240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86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lationship: Foreign Key Constrai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447920"/>
            <a:ext cx="21337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both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53080" y="4419720"/>
            <a:ext cx="19051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in the Employe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289548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2590920"/>
            <a:ext cx="2057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in the Department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167652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181480" y="205740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4876920"/>
            <a:ext cx="1371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e is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666880" y="495252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6248520" y="388584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1600200"/>
            <a:ext cx="6477120" cy="32767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Department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sure the Department column is ke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Employe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EmployeeID as a primary key constra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diagram and add both 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the Department column from the Department to the Employe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the columns mat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the update bo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lationships in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143208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TABLE Depart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varchar(50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varchar(150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AINT pk_Department PRIMARY KEY (Depart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TABLE Employ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ee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paye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varchar(50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varchar(25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varchar(25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varchar(50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varchar(25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varchar(50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varchar(15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varchar(15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varchar(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AULT ‘Sales’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AINT pk_Employee PRIMARY KEY (EmployeeID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AINT fk_DepartmentEmployee FOREIGN KEY (Depart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 Department(Depart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DELETE CASC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agrams in SQL Serv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timating Database Siz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1600200"/>
            <a:ext cx="617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0"/>
                <a:tab algn="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1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1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1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OfBir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bytes per custo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per week (wint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eks (wint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tes added per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4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BDesign: An Expert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time-post.com/db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it easy to create databas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data in central location, so changes can be made from almost any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immediate detailed feedback on th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s must ask for a free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s and students need a Java-enabled Web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2133720"/>
            <a:ext cx="4724280" cy="2514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spread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able names as r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columns for: Bytes, Rows, Tot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bytes per table r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the number of r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table and overall tot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 Assum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1752480"/>
            <a:ext cx="50292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 customers per week for 25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skills per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rentals per customer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items per 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percent of customers buy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items pe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manufactur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odels per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items (sizes) per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base Table Siz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838080" y="1503360"/>
          <a:ext cx="7315200" cy="46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03360"/>
                    <a:ext cx="731520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dentifying Key Colum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5000" y="1447920"/>
            <a:ext cx="522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uncertain about which columns to ke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m down and evaluate the business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21337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66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66688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given order, can there ever be more than one custom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es, then key Customer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ost businesses, only one customer per order, so d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ey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given customer, can there ever be more than one ord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es, then key OrderID, otherwise, do not key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businesses hope to get more than one order from a custom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OrderID must be key. Underline it. Since OrderID is the only ke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columns belong in the Order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6386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66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Order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rd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stomerID, …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dentities: Introdu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it is best to let the DBMS generate a guaranteed unique key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able must contain a single column primary key that is assigned a numeric data type, such as NUMBER(3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, you will create an identity to generate th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, you will create a trigger to automatically obtain and use the generated key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kill Lev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16560" y="251928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stName, … Style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16560" y="3016080"/>
            <a:ext cx="46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, LastName, 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8400" y="3549600"/>
            <a:ext cx="66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siness rule: Each customer can have one skill in many sty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siness rule: Each style can apply to more than on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ed a table with both attributes as k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2400" y="4554360"/>
            <a:ext cx="46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stName, 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5073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t you cannot include LastName, FirstName and so on, because then you would have to re-enter that data for each customer sk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523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ider what happens if you (incorrectly) try to place Style and SkillLevel in the Customer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tyle Skil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66680" y="1681200"/>
            <a:ext cx="7239240" cy="3195720"/>
            <a:chOff x="1066680" y="1681200"/>
            <a:chExt cx="7239240" cy="3195720"/>
          </a:xfrm>
        </p:grpSpPr>
        <p:sp>
          <p:nvSpPr>
            <p:cNvPr id="111" name=""/>
            <p:cNvSpPr/>
            <p:nvPr/>
          </p:nvSpPr>
          <p:spPr>
            <a:xfrm>
              <a:off x="1066680" y="1752480"/>
              <a:ext cx="160020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66680" y="2133720"/>
              <a:ext cx="1600200" cy="220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Customer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stN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rstN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h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33920" y="2438280"/>
              <a:ext cx="182880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stomerSki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33920" y="2819520"/>
              <a:ext cx="182880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Customer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y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killLe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00800" y="1681200"/>
              <a:ext cx="190512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y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0800" y="2057400"/>
              <a:ext cx="19051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y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yleDescri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00800" y="3814920"/>
              <a:ext cx="190512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killLe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00800" y="4191120"/>
              <a:ext cx="19051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killLe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killDescri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6880" y="2286000"/>
              <a:ext cx="1067040" cy="685800"/>
            </a:xfrm>
            <a:custGeom>
              <a:avLst/>
              <a:gdLst/>
              <a:ahLst/>
              <a:rect l="l" t="t" r="r" b="b"/>
              <a:pathLst>
                <a:path w="672" h="432">
                  <a:moveTo>
                    <a:pt x="0" y="0"/>
                  </a:moveTo>
                  <a:lnTo>
                    <a:pt x="192" y="0"/>
                  </a:lnTo>
                  <a:lnTo>
                    <a:pt x="192" y="432"/>
                  </a:lnTo>
                  <a:lnTo>
                    <a:pt x="672" y="4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2720" y="2286000"/>
              <a:ext cx="838080" cy="990720"/>
            </a:xfrm>
            <a:custGeom>
              <a:avLst/>
              <a:gdLst/>
              <a:ahLst/>
              <a:rect l="l" t="t" r="r" b="b"/>
              <a:pathLst>
                <a:path w="528" h="624">
                  <a:moveTo>
                    <a:pt x="0" y="624"/>
                  </a:moveTo>
                  <a:lnTo>
                    <a:pt x="240" y="624"/>
                  </a:lnTo>
                  <a:lnTo>
                    <a:pt x="240" y="0"/>
                  </a:lnTo>
                  <a:lnTo>
                    <a:pt x="52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62720" y="3581280"/>
              <a:ext cx="838080" cy="762120"/>
            </a:xfrm>
            <a:custGeom>
              <a:avLst/>
              <a:gdLst/>
              <a:ahLst/>
              <a:rect l="l" t="t" r="r" b="b"/>
              <a:pathLst>
                <a:path w="528" h="480">
                  <a:moveTo>
                    <a:pt x="0" y="0"/>
                  </a:moveTo>
                  <a:lnTo>
                    <a:pt x="240" y="0"/>
                  </a:lnTo>
                  <a:lnTo>
                    <a:pt x="240" y="480"/>
                  </a:lnTo>
                  <a:lnTo>
                    <a:pt x="528" y="4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2209680"/>
            <a:ext cx="5791320" cy="23623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cessary, create a new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Customer table with enterprise manag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column n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data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the primary k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and save th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454640" cy="4495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ing Tables with the Edi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34320" y="2133720"/>
            <a:ext cx="16761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34320" y="3962520"/>
            <a:ext cx="1447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276720"/>
            <a:ext cx="1676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362320" y="2895480"/>
            <a:ext cx="16761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181120" y="2286000"/>
            <a:ext cx="1752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5486400" y="3124080"/>
            <a:ext cx="14479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2362320"/>
            <a:ext cx="14479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905120" y="213372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2514600"/>
            <a:ext cx="1904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4648320"/>
            <a:ext cx="16761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209680" y="3657240"/>
            <a:ext cx="10670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081160" y="1447920"/>
            <a:ext cx="4548240" cy="46101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243828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373392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abl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752480"/>
            <a:ext cx="2666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constrain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2133720"/>
            <a:ext cx="3657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5866920" y="3809880"/>
            <a:ext cx="762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562720" y="2819520"/>
            <a:ext cx="1828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3733920"/>
            <a:ext cx="1295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828800" y="3809880"/>
            <a:ext cx="1143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01-12T22:23:31Z</dcterms:modified>
  <cp:revision>34</cp:revision>
  <dc:subject/>
  <dc:title>All Powder Board and Ski</dc:title>
</cp:coreProperties>
</file>