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845-FABB-4ADE-A637-307F3434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590-A326-483C-8357-15A2C8E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0EE-C18E-434D-A60A-7D411FA8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1B3-C181-4CD7-B60B-A2F6FF49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E798-33D0-4C04-9DCD-EF9E8D18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9E93-ED92-49BD-920A-6BF6C522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F80D-7D1E-462D-9BE0-17351F2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74B7-B6DA-4C8F-AEB8-16E16A7C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9E62-320E-4E02-B987-E26FEC1D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83E9-895B-4444-A12C-372AEF3A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B595-8FCE-402A-B482-21B9A2B9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8CF-9067-454B-B3BA-1052CBAB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2CCC-5A36-46BC-8E53-D8B0C75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B05E-7513-4A67-B173-21B700A0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BBDA-08D6-41F5-94E5-3E67FAF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D81F-E937-4B6D-93C8-EA877AA9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B11B-BF0C-4C13-A0B4-9FD8FE1C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220-2613-4AEA-921B-C0788624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4EA-F25D-4EEF-BED1-3DE21023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6D7-6691-4478-8C4F-32D82A55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3B9-6F0C-4291-A04D-24CCF64D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85E-CCE9-4B91-A993-3207FB3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A2C-952C-4FF2-BC5C-005913E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6BA-5286-46F5-9FB8-B31950DA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E7D3-4349-4A61-AAEB-8B39882D0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02EA-130C-4CD2-B040-AAD649AC8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 Form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479-086A-4ADA-9261-978D982EE4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ual Studio Form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1600200"/>
            <a:ext cx="21333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27240" y="1905120"/>
            <a:ext cx="1752840" cy="1369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84840" y="2442240"/>
            <a:ext cx="1392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84840" y="3052080"/>
            <a:ext cx="1392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4045680"/>
            <a:ext cx="13716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4652280"/>
            <a:ext cx="13716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590920"/>
            <a:ext cx="21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2189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3526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27672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20040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1240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04812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97180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8954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" y="36576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191120"/>
            <a:ext cx="266724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Adapter (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/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886200"/>
            <a:ext cx="266688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Adapter (Custo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/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23520" y="35809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3505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87520" y="2666880"/>
            <a:ext cx="889200" cy="1676520"/>
          </a:xfrm>
          <a:custGeom>
            <a:avLst/>
            <a:gdLst/>
            <a:ahLst/>
            <a:rect l="l" t="t" r="r" b="b"/>
            <a:pathLst>
              <a:path w="560" h="1056">
                <a:moveTo>
                  <a:pt x="368" y="1056"/>
                </a:moveTo>
                <a:cubicBezTo>
                  <a:pt x="184" y="904"/>
                  <a:pt x="0" y="752"/>
                  <a:pt x="32" y="576"/>
                </a:cubicBezTo>
                <a:cubicBezTo>
                  <a:pt x="64" y="400"/>
                  <a:pt x="312" y="200"/>
                  <a:pt x="5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97180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971800"/>
            <a:ext cx="2514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C0D-95FE-4672-A033-A890A2882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1828800"/>
            <a:ext cx="44956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blank form with Add/New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it Menu.v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open the Custom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nd sav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5DD-CA59-44EB-82E4-120325631D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334120" cy="4599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and Data Bin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3809880"/>
            <a:ext cx="1066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32004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95480" y="40381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5812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5181480"/>
            <a:ext cx="914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048120" y="51811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048120" y="5181120"/>
            <a:ext cx="3352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F42-B08F-4E08-B8A1-E42381A26B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2888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7AC-E819-4D95-8E05-010D802BEF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1828800"/>
            <a:ext cx="525780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Data Source using the SkiBoardSty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SkiBoardStyle table on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15D-5DFD-4A0D-AC15-6FA7A2299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he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33412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41E-749E-486F-BEFA-AE0ADA49AC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1676520"/>
            <a:ext cx="5105520" cy="1752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Menu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button for Ski Board 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de to show the new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Ski Board Styl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6D3-0122-45BB-AB52-30D4830EA4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676520"/>
            <a:ext cx="586728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kiBoardStyleDataSet in the Data Sources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nfigure DataSet with Wizard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ProductCategory table to th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Cod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ProductCategoryTableAdap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Fill command in the Load S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E3A-DB8E-4698-B3BC-83DA307B9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dit Grid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1523880"/>
          <a:ext cx="51278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5127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724280" y="198108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2096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4290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38480" y="30477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352320" y="36576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4C2-32C5-45CA-8ED1-6F960C57C6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1676520"/>
            <a:ext cx="586728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Design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grid’s smart tag to edit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Category ColumnType to Combo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its DataSource to the SkiBoardStyleData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isplayMember and ValueMember to ProductCategory.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 and 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5DF-0B20-42F5-B2E1-6C282F0BFB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429000" y="1739880"/>
          <a:ext cx="3886200" cy="1460520"/>
        </p:xfrm>
        <a:graphic>
          <a:graphicData uri="http://schemas.openxmlformats.org/drawingml/2006/table">
            <a:tbl>
              <a:tblPr/>
              <a:tblGrid>
                <a:gridCol w="727200"/>
                <a:gridCol w="1992240"/>
                <a:gridCol w="11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1676520"/>
            <a:ext cx="2286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920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5440" y="224640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478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93364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219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505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200" y="1371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Board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809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1800" y="3846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00" y="420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5960" y="42051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05320" y="4572000"/>
          <a:ext cx="4701960" cy="1187280"/>
        </p:xfrm>
        <a:graphic>
          <a:graphicData uri="http://schemas.openxmlformats.org/drawingml/2006/table">
            <a:tbl>
              <a:tblPr/>
              <a:tblGrid>
                <a:gridCol w="857160"/>
                <a:gridCol w="1326960"/>
                <a:gridCol w="704880"/>
                <a:gridCol w="1035360"/>
                <a:gridCol w="7776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48440" y="4227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92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2560" y="4952880"/>
            <a:ext cx="111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73C-EE8C-476D-99FF-04500FB17B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Form for S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25780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788-9B8A-40A5-AC38-128EF65B15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754380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form called Sale.v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Source using the Sale and SaleItem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form type to Details for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column type to ComboBox for EmployeeID, CustomerID, and Payment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Sale table on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and rearrange the controls to create space at the bottom of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button to the Menu form to open the Sal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533-119C-41C6-BDD9-ACCA795A47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1676520"/>
            <a:ext cx="541008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SaleItem table in the Data Sources window that is within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it onto the Sal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 to ensure the grid values change as new sales are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5D8-F9A0-40BE-943F-F33A3BAF84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Form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71960" cy="410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29200" y="198108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952880"/>
            <a:ext cx="12189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510552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D values match ma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352320" y="4572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AE7-C1C0-47A2-B206-32AC80EE92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1828800"/>
            <a:ext cx="632484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grid’s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SaleID from the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ataSet Designer for the SaleItem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column in the SaleItem table nam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ataType to System.Dec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Expression to QuantitySold*Sale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07A-04FE-4203-80C5-2D99C930B3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set Designer to Add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214960" cy="4495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67080" y="327672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495680" y="2743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434340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DataType and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86400" y="44197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0F6-E489-4020-8DB2-07F6794842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676520"/>
            <a:ext cx="68580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grid’s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Value column as 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DefaultCellStyle for the SalePrice and Valu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Format to Nume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Alignment to Middle-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 and 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36C-25C0-4146-B40C-A064F08893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 with Value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7196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94D-3DE5-4568-B81D-054764376D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1676520"/>
            <a:ext cx="5943600" cy="2819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Label below the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Text to Sub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Label beneath the Value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it SubtotalLabel and set its value to 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ode subroutine to compute the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two events that need to call the ComputeSaleTotal rout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981-3DBB-40DC-ACBB-FC99662BB7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form Subtotal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1447920"/>
            <a:ext cx="7162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Public Su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puteSaleTot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um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As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gv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ndows.Forms.DataGridView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gv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aleItemDataGridView.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+= dgvr.Cells("Value")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g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SubtotalLabel.Text = sum.ToString("$ #,##0.00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05E-8F5F-42C5-8105-EF1E698EFF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324480" cy="4786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Ma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1337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5053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403848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19720" y="2514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3429000"/>
            <a:ext cx="1067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334120" y="38095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85E-A9CE-4D7A-8893-95F212F6BF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ls to Compute To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52388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ItemDataGridView_CellEndEdit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.Windows.Forms.DataGridViewCellEventAr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ItemDataGridView.CellE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aleTot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BindingSource_PositionChanged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.EventAr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BindingSource.Positio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aleTot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1600200"/>
            <a:ext cx="1295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34290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B8B-0469-481E-BE33-92A150DE75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1905120"/>
            <a:ext cx="541044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 and recognize that it does not save changes in the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Save i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wo lines of code to save the changes from the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B17-72A8-4D98-B8C4-DAF7C31578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de to Save Grid Chan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6480" y="1812240"/>
            <a:ext cx="7170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BindingNavigatorSaveItem_Click_1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Vali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aleBindingSource.EndEd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TableAdapter.Update(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FormDataSet.S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ItemBindingSource.EndEd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ItemTableAdapter.Update(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FormDataSet.SaleI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End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684-570E-4A12-AAB8-3F1A50A596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71960" cy="41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617-CA5B-4E57-A32F-8966633EE0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1676520"/>
            <a:ext cx="6553080" cy="3733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to create the CustomerList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ata Source that retrieves the rows from th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ustomer Combo Box, Data Bindings, remove the binding fo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ataSource, select the CustomerListDataSet/Customer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isplayMember to Customer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ValueMember to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electedValue to SaleBindingSource/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356-84FE-41F8-B2D4-51F281AC99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304812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CustomerList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 + N', ' + First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' (' + Phone + N')' AS Custom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1676520"/>
            <a:ext cx="3962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es only support two columns: Key Value an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B4B-47EC-4DC2-BBF8-4294CF6CAD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3610080" cy="43909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Combo Box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320040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388620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441972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266688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 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2819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257800" y="34290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257800" y="38858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562360" y="4343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60D-03B2-48E0-AD2B-7E684BA624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9723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46A-F984-47A9-BF30-4C302FEE3E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1676520"/>
            <a:ext cx="655308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report project with File/Add/Report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Shared Data Source to the report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report with the wiz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ustomer, Sale, and SaleItem tables to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asic columns from each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Value column to compute QuantitySold*Sale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Tabular report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669-A19C-4565-9128-CFD78078BF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Server Repor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1600200"/>
            <a:ext cx="312408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5334120"/>
            <a:ext cx="3124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16002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60020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541008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320040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2133720"/>
            <a:ext cx="3124080" cy="259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209680"/>
            <a:ext cx="19810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895480"/>
            <a:ext cx="25146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2895480"/>
            <a:ext cx="1447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3358440"/>
            <a:ext cx="16765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4343400"/>
            <a:ext cx="19810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3809880"/>
            <a:ext cx="1447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219320" y="228564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3429000"/>
            <a:ext cx="1447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E77-94A7-408C-BC1B-7EC6B0B313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828800"/>
            <a:ext cx="739152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Visual Studio and create a new Windows-based Project using Visual Ba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Form1.vb entry and rename it to Customer.v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add a new data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your login credent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the Customer table and click the Finish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ata Sources, change the Customer table type to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Customer table on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form to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8F8-364A-40A8-BC15-706982A802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ales Report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060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EF6-8DC2-4EC0-980D-CA6604E1755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828800"/>
            <a:ext cx="792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ustomer.CustomerID, Customer.LastName, Customer.FirstName, Customer.Phone, Customer.EMail, Sale.SaleID, Sale.SaleDate, Sale.ShipCity,                       Sale.ShipState, Sale.PaymentMethod, SaleItem.SKU, SaleItem.QuantitySold, SaleItem.SalePrice,                       SaleItem.QuantitySold * SaleItem.SalePrice A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 JOIN Sale ON Customer.CustomerID = Sale.Custome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 JOIN SaleItem ON Sale.SaleID = SaleItem.Sal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BY Customer.CustomerID, Sale.SaleDate, SaleItem.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41D-4A7B-498E-B501-B048644469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676520"/>
            <a:ext cx="75438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he grouping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only CustomerID at the pag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nly SaleID at the Group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ll SaleItem data at the Details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Stepped layout, include subtotals and enable drill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name to Customer 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376-7E98-4B4F-B8C4-F014165EA9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572000" cy="4308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48320" y="16765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ID column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00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24280" y="228600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7DB-BC2B-4DB0-9986-5ADF5F2064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95280" y="1384200"/>
            <a:ext cx="6324840" cy="478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Pre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251460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 on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419720" y="26668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388620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lldown/Rol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599840" y="32000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342900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49532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532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828800" y="35053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C3F-3CA8-4ACE-90E9-D6593E7249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1676520"/>
            <a:ext cx="48006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Layout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ataSet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the CustomerID Text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LastName, FirstName, Phone, and EMail columns next to the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CAE-2AD3-4742-BB3D-88FB83DF59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ing More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248160" cy="4728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657600" y="3886200"/>
            <a:ext cx="1447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Box1 defines the Pag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105520" y="3580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43434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3C4-7888-4BDA-ADD3-F6BD48EF66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1676520"/>
            <a:ext cx="6248520" cy="2361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SaleID Text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icon to the left of the SaleID Text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Insert Row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SaleDate, PaymentMethod, ShipCity, and ShipState onto the new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923-33D6-46E7-A7B8-0D4F9D2764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019920" cy="45561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ing Group-Level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3809880"/>
            <a:ext cx="2438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SaleID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3276360" y="3505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34340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: Insert Row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514600" y="35049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4419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133360" y="320004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448-BE58-47E2-8E33-5FA9F6F4EF8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1752480"/>
            <a:ext cx="48006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price items to 0.00 or #,##0.00 for larger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the date to dd-MMM-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Value property for Sum of SalePrice text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FC6-5877-4367-A715-DB3125EC529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770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Source Config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304812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276720" y="31240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487692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73D-86C9-418E-A992-700680956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523880" y="1428840"/>
            <a:ext cx="6267600" cy="474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1EF-B96E-4297-9B34-CC467017E9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play Sty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952880" cy="4345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3400" y="25146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/Ma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092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29B-64EB-4C0F-A754-88D552E232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410080" cy="470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086240" y="34290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25780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480" y="365724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25780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133360" y="2361960"/>
            <a:ext cx="53316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31B-4E5F-4B59-9635-5C8D67545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828800"/>
            <a:ext cx="754380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text box for G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 combo box from the Tool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Property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it GenderComob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Items property and enter Female, Male, and Unident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DataBindings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lectedItem and SelectedValue properties select CustomerBindingSource – G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mbo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6CF-F9D5-412D-B185-2B555F2DC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67120" cy="3571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52880" y="259092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419720" y="22856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C71-C5D8-4CC5-81EC-61BC6CBEFD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40:50Z</dcterms:modified>
  <cp:revision>123</cp:revision>
  <dc:subject/>
  <dc:title>All Powder Board and Ski</dc:title>
</cp:coreProperties>
</file>