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A73-04A9-4DFA-B077-DA115443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8C84-4C27-4F6B-B2BA-9E3A9333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76B4-634B-4D8D-8776-4A945E1A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21D-3926-4C21-BF27-CE5E24CB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14E1-2F4B-4293-B4B1-E29E8EB5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A188-6616-4F3B-9E6B-581C0866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A684-869C-48C8-B1CB-D5A3C0D6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5F9D-4CDF-47BE-9520-EAAB31CC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4428-4689-413A-BE83-B2ED447A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B028-4DC9-4804-A360-18F6995B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BC42-A47C-409F-B2D2-1F1FBD86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F833-3983-4395-ABC9-E28DD8FE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4225-33D0-4439-9514-FB45E507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8FC8-72D0-43A1-B99A-B3385929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A510-46D9-4DDF-8ED8-312BC95E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3645-2F6A-443F-B68F-4828EE2B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8E2A-8A68-4D90-BFBF-9877BE2D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86E-4968-42A2-A050-622B9425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3AD-61F2-4B77-9954-457CC0CF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4AF-99FA-4980-B880-CC659562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780-CDC1-4360-A4FB-19F2E427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8D4-7E9C-49E6-B5D6-D9891DBC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648-D198-4EB4-B404-365AE244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EFA-51E1-4178-A7BA-85E883EC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916A-68A2-44B5-9EFF-AB897E5591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747C-127B-4DE8-99D2-471A0FB9FD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Server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blespaces and Fi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1066680" y="3048120"/>
            <a:ext cx="30481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k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1219320" y="3505320"/>
            <a:ext cx="1371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2666880" y="3505320"/>
            <a:ext cx="1371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4572000" y="3048120"/>
            <a:ext cx="30481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k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4724280" y="3505320"/>
            <a:ext cx="1371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5"/>
          <p:cNvSpPr/>
          <p:nvPr/>
        </p:nvSpPr>
        <p:spPr>
          <a:xfrm>
            <a:off x="6172200" y="3505320"/>
            <a:ext cx="1371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6"/>
          <p:cNvSpPr/>
          <p:nvPr/>
        </p:nvSpPr>
        <p:spPr>
          <a:xfrm>
            <a:off x="1143000" y="1600200"/>
            <a:ext cx="28954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1219320" y="19810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b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4572000" y="1600200"/>
            <a:ext cx="28954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4648320" y="198108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llback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o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1295280" y="28195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1"/>
          <p:cNvSpPr/>
          <p:nvPr/>
        </p:nvSpPr>
        <p:spPr>
          <a:xfrm>
            <a:off x="1295280" y="281952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2"/>
          <p:cNvSpPr/>
          <p:nvPr/>
        </p:nvSpPr>
        <p:spPr>
          <a:xfrm>
            <a:off x="4800600" y="28195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3"/>
          <p:cNvSpPr/>
          <p:nvPr/>
        </p:nvSpPr>
        <p:spPr>
          <a:xfrm>
            <a:off x="4800600" y="281952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1905120" y="1752480"/>
            <a:ext cx="5105160" cy="27432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ree new filegroups with one new file in 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partition function based on an integer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partition sche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new ItemModel table that assigns data to the partitions based on Model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New Filegrou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43000" y="1523880"/>
          <a:ext cx="6629400" cy="4419720"/>
        </p:xfrm>
        <a:graphic>
          <a:graphicData uri="http://schemas.openxmlformats.org/drawingml/2006/table">
            <a:tbl>
              <a:tblPr/>
              <a:tblGrid>
                <a:gridCol w="6629400"/>
              </a:tblGrid>
              <a:tr h="441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ER Database AllPow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FileGroup fgModel01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ER Database AllPow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FileGroup fgModel02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ER Database AllPow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FileGroup fgModel03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New Fi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685800" y="1694160"/>
            <a:ext cx="769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TER Database AllPow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= Item0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name = 'C:\Program Files\Microsoft SQL Server\MSSQL10.MSSQLSERVER\MSSQL\DATA\AP_Item01.ndf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= 20M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Growth = 5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TO FileGroup fgModel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em02, fgModel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em03, fgModel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artition Function and Schem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95280" y="1752480"/>
          <a:ext cx="6324840" cy="2846520"/>
        </p:xfrm>
        <a:graphic>
          <a:graphicData uri="http://schemas.openxmlformats.org/drawingml/2006/table">
            <a:tbl>
              <a:tblPr/>
              <a:tblGrid>
                <a:gridCol w="6324840"/>
              </a:tblGrid>
              <a:tr h="284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PARTITION FUNCTION ItemModelPF (i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RANGE LEFT FOR VALUES (2000, 2006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PARTITION SCHEME ItemModelPS 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TION ItemModelPF TO (fgModel01, fgModel02, fgModel03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sign Partition to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1600200"/>
          <a:ext cx="6934320" cy="350532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TABLE ItemModel2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ID nvarchar(50) NOT NULL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erID int NULL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egory nvarchar(50) NULL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r nvarchar(50) NULL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money NULL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Year int not NULL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talRate money 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</a:t>
                      </a: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ON ItemModelPS (ModelYear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Clustered Ind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90720" y="1752480"/>
          <a:ext cx="6095880" cy="19051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CLUSTERED INDEX idxInven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 Inventory (SKU, ModelI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rror: Only one clustered index per table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8-07-28T19:30:50Z</dcterms:modified>
  <cp:revision>12</cp:revision>
  <dc:subject/>
  <dc:title>All Powder Board and Ski</dc:title>
</cp:coreProperties>
</file>