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BEC-9588-4260-BB46-29365851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98A-403F-4264-AA4E-C29494EA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396-6A7D-41D6-A96A-7A2AFB31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2F0-6498-4855-A338-25447AB6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47F6-D9B3-4010-AC57-CC53EA99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3C00-F897-4F87-B50D-0B96A5ED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4029-E1F5-40D0-8B2A-A4938CAF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0F7E-4A24-49A6-BE92-8FD6320D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2E33-FC00-4C81-8A56-0C619285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E2D4-34EC-4144-8F71-C206B2AD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0AC8-CCA3-44B8-9BF0-4D9B0C80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A9A0-5C41-43FC-92E1-CC77BE60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0347-FD3C-4F95-9BC0-672C1B19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5D97-8562-488A-810C-6D9B2438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CB48-1C53-4E54-B51F-8F36C804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E97A-DFB6-4151-AAFA-689DDB06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7D38-9A8F-401E-A5EC-0E646292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FEB-2338-46FC-B80C-F5FE5DB9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6EE7-FFD8-49E2-8F82-499C2844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6F10-3DFB-43F3-905C-4EB7309A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D8A-ACA1-4DE7-B3C9-C2FA73F8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6A5F-9158-4AA5-B58F-DB167BF2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0C9-9938-42E7-9A0F-E226D7AD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981-537B-4B5D-9605-3110254F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7134-1306-453E-A8B8-1B771ED06A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E634-5061-41FD-8E24-E3AE650A82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4648-6DBC-400C-8A6A-F71C4918D6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 Server 2008/2005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9: Data Warehouses and Data 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0726-220A-4157-AD0C-17952EC252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e New/Temp Sales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533520" y="1752480"/>
            <a:ext cx="3429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TABLE Old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Sale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ti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p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pZ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ment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ySo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e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2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Siz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facturer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4495680" y="2590920"/>
            <a:ext cx="3581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Ye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Materi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e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llLev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stWid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ding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SV Column Data Typ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545A-84B5-44C1-8B7F-60C916AA0A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133720" y="1295280"/>
            <a:ext cx="601956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I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(DT_I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 timestamp (DT_TIMESTAM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p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ode string (DT_WS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pZ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ode string (DT_WS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ment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ode string (DT_WS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ode string (DT_WS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ySo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(DT_I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cy (DT_C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ode string 250 (DT_WS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(DT_R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facturer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(DT_I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ode string (DT_WS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ode string (DT_WS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Ye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(DT_I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ode string (DT_WS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Materi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ode string (DT_WS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cy (DT_C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ode string (DT_WS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llLev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(DT_I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(DT_R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stWid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(DT_R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ding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ode string (DT_WS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tegration Services Projec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D3BD-A33C-4588-8780-04CDDB14D1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286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F6E2-9EC6-4A15-B83D-2E713A644F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Customer and Employe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838080" y="1636560"/>
            <a:ext cx="763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 and EmployeeID are missing from the old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f relying on blank cell values, create a new customer called “Walk-in” and a new employee called “Employe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down the ID numbers generated for these anonymous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use SQL, you can assign a value of zero to these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838080" y="3429000"/>
            <a:ext cx="5715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Customer (CustomerID, Last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0,'Walk-in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838080" y="4343400"/>
            <a:ext cx="5791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Employee (EmployeeID, Last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0,'Staff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2FB4-EC33-4151-9581-37909FF43C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tract Model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08720" cy="29527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1143000" y="4495680"/>
            <a:ext cx="7010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DISTINCT OldSale.ModelID, OldSale.ManufacturerID, OldSale.Category, OldSale.Color, OldSale.ModelYear, OldSale.Graphics, OldSale.ItemMaterial,  OldSale.ListPrice, OldSale.Style, OldSale.SkillLevel, OldSale.WeightMax, OldSale.WaistWidth, OldSale.BindingSty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OldSa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F475-6A55-41D7-A518-791F13FA36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ION Query for Mod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85800" y="1828800"/>
            <a:ext cx="6324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ManufacturerID, Categor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ManufacturerID, Categor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369B-8E55-4B31-A1A9-902844F221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762120" y="1523880"/>
            <a:ext cx="7391160" cy="44197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 that retrieves DISTINCT values from the saved UNION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that it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 INSERT INTO statement above the SELECT statement to copy the data to the ItemModel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similar process to add SKU, ModelID, and Size to the Inventory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a similar process to copy the Sale, Rental, SalesItem, and RentalItems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72D4-D94D-4B8D-883C-62DBECCB0D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sert Model Data into ItemMod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533520" y="205740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ItemModel (ModelID, ManufacturerID, Category, Color, ModelY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, ItemMaterial, ListPrice, Style, SkillLevel, WeightMax, WaistWidth, BindingSty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qryOldModels.ModelID, qryOldModels.ManufacturerID, qryOldModels.Catego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ryOldModels.Color, qryOldModels.ModelYear, qryOldModels.Graphics, qryOldModels.ItemMateri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ryOldModels.ListPrice, qryOldModels.Style, qryOldModels.SkillLevel, qryOldModels.WeightMax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ryOldModels.WaistWidth, qryOldModels.BindingSty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qryOldMode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B402-A4A3-448D-81A0-F4D7CADCF7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SKU Data into 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685800" y="35686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Inventory (ModelID, SKU, ItemSize, QuantityOnH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qryOldInventory.ModelID, qryOldInventory.SKU, qryOldInventory.ItemSiz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As QuantityOnH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qryOldInvento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962520" y="5170320"/>
            <a:ext cx="32763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e use of the column alias to force a zero value for QuantityOnHand for each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H="1" flipV="1">
            <a:off x="4114440" y="448416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85800" y="144792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qryOldInventory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SKU, Item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SKU, Item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Rent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CF77-A145-472A-99A2-3822DF1B91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py Sales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33520" y="1600200"/>
            <a:ext cx="815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Sale (SaleID, SaleDate, ShipState, ShipZIP, PaymentMeth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DISTINCT OldSale.SaleID, OldSale.SaleDate, OldSale.ShipState, OldSale.ShipZIP, OldSale.Payment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OldSa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914400" y="3067200"/>
            <a:ext cx="32767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if you have added data to your Sales table, your existing SaleID values might conflict with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48320" y="3067200"/>
            <a:ext cx="32763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solve the problem by adding a number to these values so they are all larger than your highes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33520" y="4800600"/>
            <a:ext cx="815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Sale (SaleID, SaleDate, ShipState, ShipZIP, PaymentMeth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DISTINCT OldSale.SaleI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50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OldSale.SaleDate, OldSale.ShipState, OldSale.ShipZIP, OldSale.Payment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OldSa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9"/>
          <p:cNvSpPr/>
          <p:nvPr/>
        </p:nvSpPr>
        <p:spPr>
          <a:xfrm flipV="1">
            <a:off x="990720" y="1523520"/>
            <a:ext cx="3581280" cy="1295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>
            <a:off x="1752480" y="1447920"/>
            <a:ext cx="182880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C2A0-F21A-490A-898A-AECDB26AE2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 Server Relational Approac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24"/>
          <p:cNvGrpSpPr/>
          <p:nvPr/>
        </p:nvGrpSpPr>
        <p:grpSpPr>
          <a:xfrm>
            <a:off x="1219320" y="2973240"/>
            <a:ext cx="1371600" cy="1827000"/>
            <a:chOff x="1219320" y="2973240"/>
            <a:chExt cx="1371600" cy="1827000"/>
          </a:xfrm>
        </p:grpSpPr>
        <p:sp>
          <p:nvSpPr>
            <p:cNvPr id="97" name="Rectangle 5"/>
            <p:cNvSpPr/>
            <p:nvPr/>
          </p:nvSpPr>
          <p:spPr>
            <a:xfrm>
              <a:off x="1219320" y="2973240"/>
              <a:ext cx="1076760" cy="888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6"/>
            <p:cNvSpPr/>
            <p:nvPr/>
          </p:nvSpPr>
          <p:spPr>
            <a:xfrm>
              <a:off x="1278000" y="3268800"/>
              <a:ext cx="1076760" cy="888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7"/>
            <p:cNvSpPr/>
            <p:nvPr/>
          </p:nvSpPr>
          <p:spPr>
            <a:xfrm>
              <a:off x="1396080" y="3565440"/>
              <a:ext cx="1076760" cy="888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leI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1514160" y="3911400"/>
              <a:ext cx="1076760" cy="888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13"/>
          <p:cNvSpPr/>
          <p:nvPr/>
        </p:nvSpPr>
        <p:spPr>
          <a:xfrm>
            <a:off x="1371600" y="1752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3"/>
          <p:cNvGrpSpPr/>
          <p:nvPr/>
        </p:nvGrpSpPr>
        <p:grpSpPr>
          <a:xfrm>
            <a:off x="4267080" y="2743200"/>
            <a:ext cx="3428640" cy="2436480"/>
            <a:chOff x="4267080" y="2743200"/>
            <a:chExt cx="3428640" cy="2436480"/>
          </a:xfrm>
        </p:grpSpPr>
        <p:sp>
          <p:nvSpPr>
            <p:cNvPr id="103" name="Rectangle 12"/>
            <p:cNvSpPr/>
            <p:nvPr/>
          </p:nvSpPr>
          <p:spPr>
            <a:xfrm>
              <a:off x="5464440" y="3623400"/>
              <a:ext cx="1020960" cy="675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ct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6485760" y="2743200"/>
              <a:ext cx="1209960" cy="676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6"/>
            <p:cNvSpPr/>
            <p:nvPr/>
          </p:nvSpPr>
          <p:spPr>
            <a:xfrm>
              <a:off x="4267080" y="2743200"/>
              <a:ext cx="1209960" cy="676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7"/>
            <p:cNvSpPr/>
            <p:nvPr/>
          </p:nvSpPr>
          <p:spPr>
            <a:xfrm>
              <a:off x="4267080" y="4503960"/>
              <a:ext cx="1209960" cy="675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8"/>
            <p:cNvSpPr/>
            <p:nvPr/>
          </p:nvSpPr>
          <p:spPr>
            <a:xfrm>
              <a:off x="6485760" y="4503960"/>
              <a:ext cx="1209960" cy="675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AutoShape 19"/>
            <p:cNvCxnSpPr>
              <a:stCxn id="106" idx="0"/>
              <a:endCxn id="103" idx="1"/>
            </p:cNvCxnSpPr>
            <p:nvPr/>
          </p:nvCxnSpPr>
          <p:spPr>
            <a:xfrm flipV="1">
              <a:off x="4871520" y="3961440"/>
              <a:ext cx="592920" cy="54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9" name="AutoShape 20"/>
            <p:cNvCxnSpPr>
              <a:stCxn id="105" idx="2"/>
              <a:endCxn id="103" idx="1"/>
            </p:cNvCxnSpPr>
            <p:nvPr/>
          </p:nvCxnSpPr>
          <p:spPr>
            <a:xfrm>
              <a:off x="4871520" y="3419280"/>
              <a:ext cx="592920" cy="54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0" name="AutoShape 21"/>
            <p:cNvCxnSpPr>
              <a:stCxn id="104" idx="2"/>
              <a:endCxn id="103" idx="3"/>
            </p:cNvCxnSpPr>
            <p:nvPr/>
          </p:nvCxnSpPr>
          <p:spPr>
            <a:xfrm flipH="1">
              <a:off x="6485400" y="3419280"/>
              <a:ext cx="605520" cy="54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1" name="AutoShape 22"/>
            <p:cNvCxnSpPr>
              <a:stCxn id="107" idx="0"/>
              <a:endCxn id="103" idx="3"/>
            </p:cNvCxnSpPr>
            <p:nvPr/>
          </p:nvCxnSpPr>
          <p:spPr>
            <a:xfrm flipH="1" flipV="1">
              <a:off x="6485400" y="3961440"/>
              <a:ext cx="605520" cy="54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12" name="Text Box 25"/>
          <p:cNvSpPr/>
          <p:nvPr/>
        </p:nvSpPr>
        <p:spPr>
          <a:xfrm>
            <a:off x="5257800" y="1905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53341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AP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9"/>
          <p:cNvSpPr/>
          <p:nvPr/>
        </p:nvSpPr>
        <p:spPr>
          <a:xfrm flipV="1">
            <a:off x="2590920" y="327636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 flipV="1">
            <a:off x="2666880" y="3962160"/>
            <a:ext cx="1676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A3DE-A8D3-4DC0-BBFE-BEC6CFB25E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py SaleItem Row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33520" y="2057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Item (SaleID, SKU, QuantitySold, Sale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Sale.Sale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5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ldSale.SKU, OldSale.QuantitySold, OldSale.SalePr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648320" y="3809880"/>
            <a:ext cx="327636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transformed the SaleID in the prior step for the Sale data, you must do the exact same calculation for SaleID in the SaleItem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 flipH="1" flipV="1">
            <a:off x="4876920" y="266652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40CC-77AE-4B19-9C31-063696E91E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py Rental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533520" y="1781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Rental (RentID, RentDate, ExpectedReturn, PaymentMeth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Rental.RentID+5000, OldRental.RentDate, OldRental.ExpectedReturn, OldRental.PaymentMeth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Rent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33520" y="38098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RentItem (RentID, SKU, RentFee, Return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Rental.RentID+5000, OldRental.SKU, OldRental.RentFee, OldRental.Return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Rent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9A30-B917-4965-B0E8-3FF9D1F69B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143000" y="1676520"/>
            <a:ext cx="6629400" cy="35812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Business Intelligence Studio to create a new Analysis Services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Data Source (server connec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Data Source View using: Sale, SaleItem, Inventory, ItemModel, Manufacturer tables. For lookups, include BindingStyle, Customer, PaymentMethod, ProductCategory, SkiBoardStyle, and Skill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a Data Source 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BC02-DC3C-4303-82FE-ADC79F92AF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278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E8F0-3232-4EEB-B650-8560140361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143000" y="1676520"/>
            <a:ext cx="6629400" cy="35812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extra (cycle) connections in the Data Source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aleItem table, add a concatenated key: Convert(nvarchar, SaleID) + ‘-‘ + 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Value=SalePrice*QuantitySold to SaleI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SaleYear and SaleMonth to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mprove Data Source 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5FA8-B20D-49BD-9BA0-CF2D75FC3B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172200" cy="44434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0"/>
          <p:cNvSpPr/>
          <p:nvPr/>
        </p:nvSpPr>
        <p:spPr>
          <a:xfrm>
            <a:off x="2514600" y="4876920"/>
            <a:ext cx="16002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unneeded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6"/>
          <p:cNvSpPr/>
          <p:nvPr/>
        </p:nvSpPr>
        <p:spPr>
          <a:xfrm flipV="1">
            <a:off x="4114800" y="3429000"/>
            <a:ext cx="12193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6"/>
          <p:cNvSpPr/>
          <p:nvPr/>
        </p:nvSpPr>
        <p:spPr>
          <a:xfrm flipV="1">
            <a:off x="4114800" y="39625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6"/>
          <p:cNvSpPr/>
          <p:nvPr/>
        </p:nvSpPr>
        <p:spPr>
          <a:xfrm flipV="1">
            <a:off x="4114800" y="47242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d Calculations/Colum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571A-7A88-480E-BD7B-5F20BC50E7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470240" y="2133720"/>
            <a:ext cx="5409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tab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D_SKU: Convert(nvarchar, SaleID) + ‘-‘ +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: SalePrice*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466280" y="3733920"/>
            <a:ext cx="3121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tab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Year: Year(Sale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Month: Month(Sale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83DE-043D-4A11-9EFF-F9BB22F4FE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1143000" y="1676520"/>
            <a:ext cx="6629400" cy="35812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Dimension based on the Sale table using only SaleDate, SaleYear, and Sale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Year, Month, and Date data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hierarchy starting with SaleYear, then SaleMonth, and SaleDate. Save the dimension as SaleDateH and tes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dimension with at least Color, ItemMaterial, Manufacturer Name, ShipState, and Ge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SaleDate Dim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2C97-A6B4-4D28-9F8E-958E106053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476760" cy="46670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2666880" y="4800600"/>
            <a:ext cx="1447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5"/>
          <p:cNvSpPr/>
          <p:nvPr/>
        </p:nvSpPr>
        <p:spPr>
          <a:xfrm flipV="1">
            <a:off x="4114800" y="4038120"/>
            <a:ext cx="2286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5"/>
          <p:cNvSpPr/>
          <p:nvPr/>
        </p:nvSpPr>
        <p:spPr>
          <a:xfrm flipV="1">
            <a:off x="4114800" y="4724280"/>
            <a:ext cx="2666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600200" y="350532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5"/>
          <p:cNvSpPr/>
          <p:nvPr/>
        </p:nvSpPr>
        <p:spPr>
          <a:xfrm flipH="1" flipV="1">
            <a:off x="2057040" y="2895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5"/>
          <p:cNvSpPr/>
          <p:nvPr/>
        </p:nvSpPr>
        <p:spPr>
          <a:xfrm flipV="1">
            <a:off x="2286000" y="28954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A9BD-40BB-4641-88CD-F71CE2A7C5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143000" y="1676520"/>
            <a:ext cx="6629400" cy="36576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the new Cube name and choose Brow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SaleDateH as the column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Product Category as the row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Value in the total s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Color, Manufacturer Name, and Ship State to the filter fie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 with the cube to test the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EE38-0B4D-49E4-AF99-BF51020D7E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sired Sales Cube Dimens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1600200" y="18288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(sh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ding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Ma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Materi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stWid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LAP Cube Struc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9095-E6A1-4C3B-800F-E7A1A6F999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32484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be Brows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04F0-CC0B-42B3-B24D-CB9A3AD63A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5530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: Time-Series Analy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31D2-1FDB-4080-A292-162787F192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143000" y="1676520"/>
            <a:ext cx="6629400" cy="36576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 new BI Analysis Services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data source, but you can reuse the existing conn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Data Source View, but do not add any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amed Query that totals SalePrice*QuantitySold and computes a date sequence: (Year(SaleDate)-2003)*12+Month(SaleDa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500C-5DBE-475E-8F96-79C02F3129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609480" y="2514600"/>
            <a:ext cx="76201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(Year(SaleDate)-2003)*12+Month(SaleDate) As MonthSeq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(SaleItem.QuantitySold*SaleItem.SalePrice) As 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Sale ON SaleItem.SaleID = Sale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(Year(SaleDate)-2003)*12+Month(Sale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4114800" y="160020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sequence of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Straight Arrow Connector 6"/>
          <p:cNvCxnSpPr>
            <a:stCxn id="238" idx="2"/>
          </p:cNvCxnSpPr>
          <p:nvPr/>
        </p:nvCxnSpPr>
        <p:spPr>
          <a:xfrm flipH="1">
            <a:off x="3657240" y="2246040"/>
            <a:ext cx="1448640" cy="26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C896-CBB8-41A5-8B6D-488E439AEB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066680" y="1523880"/>
            <a:ext cx="6934320" cy="31244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mining structure choosing the Time Series techn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Monthly Sales data 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SaleYearMonth as the K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alesValue, check the options for Input and Predic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he new structure and Brows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EA5B-14B6-430D-AFE9-FB2CB3A77F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ime Series Analysis: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55308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00800" cy="4573440"/>
          </a:xfrm>
          <a:prstGeom prst="rect">
            <a:avLst/>
          </a:prstGeom>
          <a:ln w="0">
            <a:noFill/>
          </a:ln>
        </p:spPr>
      </p:pic>
      <p:sp>
        <p:nvSpPr>
          <p:cNvPr id="24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C031-0935-4E99-9AB3-FE6F7AC0CB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ime Series Foreca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2"/>
          <p:cNvSpPr/>
          <p:nvPr/>
        </p:nvSpPr>
        <p:spPr>
          <a:xfrm flipV="1">
            <a:off x="3962520" y="388584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2819520" y="46483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, but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36E6-F5DE-463D-9CE2-C537D39F2C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066680" y="1523880"/>
            <a:ext cx="6934320" cy="18288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Algorithm Parameters to use only the ARIMA model and suggest a 12-month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ocess and browse the model to evaluate the forec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E5A9-A11E-4AA5-8B98-C045437DD1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ime Series Improved Foreca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4767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0330-B82B-4542-876B-5A90AED0DC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: Regres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066680" y="1523880"/>
            <a:ext cx="6934320" cy="41911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database studio to import the demographic data from Ex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view to compute sales by state for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view to list the state, sales, population, and inc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 new BI project and build a Data Source View from the database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Mining Structure to apply Linear Regression to the Sale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59BB-5280-4C64-A615-F69BB810E6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arly Data: Spreadshee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3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4848480" cy="3657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533376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View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C067-7558-4554-9385-748BAB5055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990720" y="1447920"/>
            <a:ext cx="640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StateSales2006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ale.ShipState, SUM(SaleItem.SalePrice*SaleItem.QuantitySold) A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SaleItem ON Sale.SaleID=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.SaleDate between '1/1/2006' and '12/31/2006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Sale.Ship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990720" y="373392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StateSalesFactors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tateDemographics$.State, StateDemographics$.Pop2006, StateDemographics$.Income2006, StateSales2006.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tateDemographic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StateSales2006 ON StateDemographics$.State=StateSales2006.Ship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4B1D-DBCA-4BD6-84E7-AF47489116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: Regres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066680" y="1523880"/>
            <a:ext cx="6934320" cy="46483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Data Mining Structure using the Linear Regression techn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State as the Key, Income2006 and Pop2006 as Input types, and Value needs the Input and Predictable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percentage of testing data to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he model and Brows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the Data Mining Legend to see the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Model Viewer, set the Algorithm Parameters to Force_Regressor={Income2006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ocess and Browse the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gression Set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22D0-DBFE-4B60-96A1-10FEF130B2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57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D22A-82EA-4122-8C78-2E16D5DE08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Regression 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7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2485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1765-6A1A-40E4-98F6-92EA7FC8CE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: Regres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066680" y="1523880"/>
            <a:ext cx="6934320" cy="18288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Model Viewer, set the Algorithm Parameters to Force_Regressor = {Income2006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ocess and Browse the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3B4E-CFB1-4A5B-B56D-6FCF15B389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gression 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11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508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6158-C7A4-4A03-A346-AFDBEF36B8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: Association Ru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1066680" y="1523880"/>
            <a:ext cx="6934320" cy="35053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Analysis Services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ew Data Source, reusing the existing conn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Data Source View with just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amed Query to the View using SaleItem, Inventory, and ItemModel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primary keys and connect the NamedQuery to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0821-8EF2-48A7-AD75-D78E66D7BC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amed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990720" y="1905120"/>
            <a:ext cx="7010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aleItem.SaleID, SaleItem.S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Model.Category + '_' + Coalesce(ItemModel.Style,'') A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Inventory ON SaleItem.SKU=Inventory.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ItemModel ON Inventory.ModelID=ItemModel.Mode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76FA-D471-4BEB-A52E-6DEAD9A3E5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838080" y="1828800"/>
            <a:ext cx="7315200" cy="39625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Mining Structure and choose the Microsoft Association R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Sales table and mark the Case o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aleModel and select the Nested o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the SaleID attribute and set the Key o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the Model attribute and set the Key, Input, and Predictable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Allow drill through option at th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F170-B9DD-4A64-BF30-936FA46A23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hoose Attribut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6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543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AD00-35BC-46B3-A38D-33C9D8F641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371600" y="1981080"/>
            <a:ext cx="5486400" cy="37339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all sales with SaleID&gt;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two CSV files to your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wo SQL tables to hold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and run the SQL BULK INSERT command to import the early rental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 CustomerID 0 and EmployeeID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2CE0-17E2-4566-8E82-DB883CF929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Association 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400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73AA-92B6-4098-88DB-72B9C96B2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838080" y="1828800"/>
            <a:ext cx="7315200" cy="39625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he rules and brows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minimum probability and importance to reduce the number of rules displa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out the list of items in the itemset t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the Dependence Network t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node and move the slider to remove the weaker r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about what the results would mean in terms of sales and mark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7CE6-ABCC-46BC-87C6-E4F281156B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ronger Result Li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440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F85A-1C98-4C04-91A1-E54FE1D1FC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temset Li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6" descr=""/>
          <p:cNvPicPr/>
          <p:nvPr/>
        </p:nvPicPr>
        <p:blipFill>
          <a:blip r:embed="rId1"/>
          <a:srcRect l="3420" t="13152" r="55556" b="8868"/>
          <a:stretch/>
        </p:blipFill>
        <p:spPr>
          <a:xfrm>
            <a:off x="2514600" y="1523880"/>
            <a:ext cx="32767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pendency Networ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9867-0591-41AA-B37A-31D7473BBC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311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4BA7-F4BC-4E3D-8A43-E385ADF07D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IS: Microsoft MapPoi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4746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AACD-5A0F-456F-9F30-46777492D3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pPoint Data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5" descr=""/>
          <p:cNvPicPr/>
          <p:nvPr/>
        </p:nvPicPr>
        <p:blipFill>
          <a:blip r:embed="rId1"/>
          <a:stretch/>
        </p:blipFill>
        <p:spPr>
          <a:xfrm>
            <a:off x="609480" y="1849320"/>
            <a:ext cx="3886200" cy="39211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"/>
          <p:cNvPicPr/>
          <p:nvPr/>
        </p:nvPicPr>
        <p:blipFill>
          <a:blip r:embed="rId2"/>
          <a:stretch/>
        </p:blipFill>
        <p:spPr>
          <a:xfrm>
            <a:off x="4648320" y="1849320"/>
            <a:ext cx="3886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CF49-4DC9-43BF-B2A4-3EA0C1BBFC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IS Analysis of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588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2EB0-9724-4BC4-A833-15BEDF36C6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e New/Temp Rental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766440" y="6262560"/>
            <a:ext cx="706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arning: currency columns cannot have $ symbols or com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533520" y="1752480"/>
            <a:ext cx="3429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TABLE OldRe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ti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ctedRetur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ti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ment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F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e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ti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2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Siz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facturer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4495680" y="2590920"/>
            <a:ext cx="3581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Ye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Materi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e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llLev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stWid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ding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C6BF-33AC-4436-B857-8F535755DC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ULK INSE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685800" y="1752480"/>
            <a:ext cx="6705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LK INSERT OldRe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'&lt;folder name&gt;\Lab 09-01 Early Rentals.csv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ELDTERMINATOR = ','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WTERMINATOR = '\n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9741-BFD5-4F09-892A-6ED1C92CAA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371600" y="1981080"/>
            <a:ext cx="6553080" cy="38102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Excel spreadsheet and save the Sales data as a CSV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OldSale table in SQL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SSIS, use File/New/Project to create a new Integration Services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a Data Flow Task object onto the Control Flow p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click this object to open the Data Flow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28E5-C762-4F4F-AB3D-283AD3F690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914400" y="1523880"/>
            <a:ext cx="7391520" cy="43434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a Flat File Source onto this p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click it and attach it to the CSV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data types for the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an ADO .NET destination object onto the Data Flow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the arrow from the Flat File source object to the ADO destination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click the destination object and assign it to the OldSale table in your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and run the project to transfer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8-07-26T23:01:19Z</dcterms:modified>
  <cp:revision>136</cp:revision>
  <dc:subject/>
  <dc:title>All Powder Board and Ski</dc:title>
</cp:coreProperties>
</file>