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74C-70CC-4440-9B8B-BBE3CB0F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BAD-C309-4FDF-ACF7-177855C9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420-28E6-40F1-AF30-0A0A7101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CC5-1A49-45F6-BE46-8BA48D32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91E5-2905-4E58-99FD-BD03466F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ADE4-9877-4479-81A5-CFCAE79C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EDAE-7B30-40AE-9F4C-E003B17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FB7-FF8C-4365-A296-CB37AC45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6D63-08AE-4D47-9CB8-C16C59DE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2CDD-4B6D-4154-9D03-17A5525F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C1B9-D998-44F9-A752-2E728AC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204-6C5E-4FE8-B537-4217DE7A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ABD2-4306-436B-8058-4893110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C08B-E233-4C40-A3BA-BD79C063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59A8-39DE-4244-AF0C-8B6D7577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98BD-B41C-4C26-A7DB-90AB6797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282A-6F3D-45D8-836E-007C3A62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F07-726C-4DC8-886C-102D6656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9B9-FE07-4199-B6D7-A9DDF7B0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78C-E906-4538-BAF3-F0937B4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934-3841-4AE1-8565-79A42AB6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70C-92CB-4C0C-8C72-A13DA49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DE6-3929-401D-B9E3-F64B53E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DAD-2311-4FA6-A138-C330DB79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7E47-C674-43C8-8D30-82C1E9077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924E-36BA-4B89-A81A-88BD7B798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48A4-BF09-4A76-990F-D18DB7FE32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09720" y="1447920"/>
            <a:ext cx="6191280" cy="4655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0120" y="160020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op-leve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400" y="28954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62000" y="31240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62000" y="2590560"/>
            <a:ext cx="1752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3120" y="281952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860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4120" y="39625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29040" y="28191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29040" y="31237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9572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932-7772-4B2D-B335-951D9847DE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752480"/>
            <a:ext cx="685800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 Menu Strip onto the menu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op-level links for at least Customers, Close, and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ustomers, add the Customer and Sale forms, and the two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each menu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Customer and Sale entries and add the code to open the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de to open the two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compile, and test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AAD-A634-41D3-A5E6-447D3335BD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5600" y="1547640"/>
            <a:ext cx="3952800" cy="3762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 Men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5146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266720" y="205704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5181480"/>
            <a:ext cx="4419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Diagnostics.Process.Start(s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886200" y="2742840"/>
            <a:ext cx="13716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88A-0CCF-4508-A6E6-6CCB9EAB6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772-3AE1-4E4B-8204-05BA33B990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828800"/>
            <a:ext cx="708660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project in the work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TML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HTML files to add key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roject options to build the TOC and index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test the help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D8B-D119-4832-9E77-58426E39F3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2DB-ACFC-4EA3-BD07-34793C798E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038480"/>
            <a:ext cx="4800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quired for SQL Server, but create it anyway so that you can use the same help file with other applications if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E11-6EB8-4CFB-84C8-07BD83152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940-1799-495A-A9D1-8F4DCA3563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828800"/>
            <a:ext cx="708660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HelpProvider object to the main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its HelpNamespace property to AllPowder.c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rm object, set the HelpNavigator property to TableOf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ustomer button, set the HelpKeyword to Customer and HelpNavigator to Keyword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ode for the Help menu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test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295-0450-4B14-8773-CD431681FD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681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Visual Basic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419112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Keyword: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3434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428640" y="32767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4952880"/>
            <a:ext cx="19810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Namespace: 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20040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057040" y="388584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4191120"/>
            <a:ext cx="1143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BC3-7392-44E8-A4B7-D73EC75B4B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353376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581280" cy="357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62120" y="1447920"/>
            <a:ext cx="2814480" cy="2679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3048120"/>
            <a:ext cx="990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1295280"/>
            <a:ext cx="685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37160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343400" y="3200400"/>
            <a:ext cx="3429000" cy="283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81280" y="4343400"/>
            <a:ext cx="12956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BB9-B89A-4C93-B610-FFE01A7C5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Menu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80324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 mnuHelp_Click(ByVal sender As System.Object, 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 e As System.EventArgs) Handles mnuHelp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' Tell the Help system to open the 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.ShowHelp(Me.btnCustomer, "AllPowder.chm"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Navigator.TableOfContents)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4267080"/>
            <a:ext cx="6324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lso use HelpNavigator.KeywordIndex, “MainMen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585-D305-4585-BB1F-90E76CB18F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In 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62440" cy="42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7AE-D678-475D-8016-AF5955F22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 an Appl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23520" y="5257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95680" y="1828800"/>
            <a:ext cx="898560" cy="1359000"/>
            <a:chOff x="4495680" y="1828800"/>
            <a:chExt cx="898560" cy="1359000"/>
          </a:xfrm>
        </p:grpSpPr>
        <p:sp>
          <p:nvSpPr>
            <p:cNvPr id="198" name=""/>
            <p:cNvSpPr/>
            <p:nvPr/>
          </p:nvSpPr>
          <p:spPr>
            <a:xfrm>
              <a:off x="4994280" y="1835280"/>
              <a:ext cx="399960" cy="1339920"/>
            </a:xfrm>
            <a:custGeom>
              <a:avLst/>
              <a:gdLst/>
              <a:ahLst/>
              <a:rect l="l" t="t" r="r" b="b"/>
              <a:pathLst>
                <a:path w="252" h="844">
                  <a:moveTo>
                    <a:pt x="222" y="82"/>
                  </a:moveTo>
                  <a:cubicBezTo>
                    <a:pt x="234" y="198"/>
                    <a:pt x="248" y="620"/>
                    <a:pt x="252" y="746"/>
                  </a:cubicBezTo>
                  <a:cubicBezTo>
                    <a:pt x="138" y="786"/>
                    <a:pt x="90" y="808"/>
                    <a:pt x="6" y="844"/>
                  </a:cubicBezTo>
                  <a:cubicBezTo>
                    <a:pt x="8" y="710"/>
                    <a:pt x="0" y="142"/>
                    <a:pt x="4" y="0"/>
                  </a:cubicBezTo>
                  <a:cubicBezTo>
                    <a:pt x="62" y="22"/>
                    <a:pt x="75" y="33"/>
                    <a:pt x="98" y="40"/>
                  </a:cubicBezTo>
                  <a:cubicBezTo>
                    <a:pt x="121" y="47"/>
                    <a:pt x="133" y="40"/>
                    <a:pt x="144" y="44"/>
                  </a:cubicBezTo>
                  <a:cubicBezTo>
                    <a:pt x="155" y="48"/>
                    <a:pt x="149" y="58"/>
                    <a:pt x="162" y="64"/>
                  </a:cubicBezTo>
                  <a:cubicBezTo>
                    <a:pt x="175" y="70"/>
                    <a:pt x="178" y="64"/>
                    <a:pt x="222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9595d4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75360" y="1901880"/>
              <a:ext cx="95040" cy="1181160"/>
            </a:xfrm>
            <a:custGeom>
              <a:avLst/>
              <a:gdLst/>
              <a:ahLst/>
              <a:rect l="l" t="t" r="r" b="b"/>
              <a:pathLst>
                <a:path w="60" h="744">
                  <a:moveTo>
                    <a:pt x="50" y="17"/>
                  </a:moveTo>
                  <a:cubicBezTo>
                    <a:pt x="53" y="40"/>
                    <a:pt x="53" y="82"/>
                    <a:pt x="52" y="140"/>
                  </a:cubicBezTo>
                  <a:cubicBezTo>
                    <a:pt x="51" y="198"/>
                    <a:pt x="46" y="267"/>
                    <a:pt x="46" y="366"/>
                  </a:cubicBezTo>
                  <a:cubicBezTo>
                    <a:pt x="46" y="465"/>
                    <a:pt x="56" y="673"/>
                    <a:pt x="55" y="736"/>
                  </a:cubicBezTo>
                  <a:cubicBezTo>
                    <a:pt x="42" y="739"/>
                    <a:pt x="60" y="737"/>
                    <a:pt x="41" y="744"/>
                  </a:cubicBezTo>
                  <a:cubicBezTo>
                    <a:pt x="33" y="661"/>
                    <a:pt x="14" y="363"/>
                    <a:pt x="8" y="239"/>
                  </a:cubicBezTo>
                  <a:cubicBezTo>
                    <a:pt x="2" y="115"/>
                    <a:pt x="0" y="41"/>
                    <a:pt x="4" y="2"/>
                  </a:cubicBezTo>
                  <a:cubicBezTo>
                    <a:pt x="25" y="8"/>
                    <a:pt x="27" y="0"/>
                    <a:pt x="35" y="2"/>
                  </a:cubicBezTo>
                  <a:cubicBezTo>
                    <a:pt x="43" y="4"/>
                    <a:pt x="37" y="0"/>
                    <a:pt x="50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d7d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95680" y="1828800"/>
              <a:ext cx="511200" cy="1359000"/>
            </a:xfrm>
            <a:custGeom>
              <a:avLst/>
              <a:gdLst/>
              <a:ahLst/>
              <a:rect l="l" t="t" r="r" b="b"/>
              <a:pathLst>
                <a:path w="322" h="856">
                  <a:moveTo>
                    <a:pt x="322" y="850"/>
                  </a:moveTo>
                  <a:cubicBezTo>
                    <a:pt x="284" y="856"/>
                    <a:pt x="245" y="851"/>
                    <a:pt x="220" y="842"/>
                  </a:cubicBezTo>
                  <a:cubicBezTo>
                    <a:pt x="195" y="833"/>
                    <a:pt x="183" y="805"/>
                    <a:pt x="170" y="796"/>
                  </a:cubicBezTo>
                  <a:cubicBezTo>
                    <a:pt x="157" y="787"/>
                    <a:pt x="162" y="793"/>
                    <a:pt x="142" y="788"/>
                  </a:cubicBezTo>
                  <a:cubicBezTo>
                    <a:pt x="122" y="783"/>
                    <a:pt x="72" y="779"/>
                    <a:pt x="48" y="768"/>
                  </a:cubicBezTo>
                  <a:cubicBezTo>
                    <a:pt x="24" y="757"/>
                    <a:pt x="32" y="756"/>
                    <a:pt x="0" y="722"/>
                  </a:cubicBezTo>
                  <a:cubicBezTo>
                    <a:pt x="8" y="610"/>
                    <a:pt x="22" y="194"/>
                    <a:pt x="36" y="84"/>
                  </a:cubicBezTo>
                  <a:cubicBezTo>
                    <a:pt x="80" y="56"/>
                    <a:pt x="72" y="67"/>
                    <a:pt x="94" y="60"/>
                  </a:cubicBezTo>
                  <a:cubicBezTo>
                    <a:pt x="116" y="53"/>
                    <a:pt x="150" y="47"/>
                    <a:pt x="168" y="42"/>
                  </a:cubicBezTo>
                  <a:cubicBezTo>
                    <a:pt x="186" y="37"/>
                    <a:pt x="188" y="37"/>
                    <a:pt x="202" y="32"/>
                  </a:cubicBezTo>
                  <a:cubicBezTo>
                    <a:pt x="216" y="27"/>
                    <a:pt x="232" y="15"/>
                    <a:pt x="252" y="10"/>
                  </a:cubicBezTo>
                  <a:cubicBezTo>
                    <a:pt x="272" y="5"/>
                    <a:pt x="276" y="0"/>
                    <a:pt x="320" y="4"/>
                  </a:cubicBezTo>
                  <a:cubicBezTo>
                    <a:pt x="320" y="156"/>
                    <a:pt x="322" y="706"/>
                    <a:pt x="322" y="85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96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7520" y="1838520"/>
              <a:ext cx="81000" cy="1332000"/>
            </a:xfrm>
            <a:custGeom>
              <a:avLst/>
              <a:gdLst/>
              <a:ahLst/>
              <a:rect l="l" t="t" r="r" b="b"/>
              <a:pathLst>
                <a:path w="51" h="839">
                  <a:moveTo>
                    <a:pt x="34" y="32"/>
                  </a:moveTo>
                  <a:cubicBezTo>
                    <a:pt x="29" y="43"/>
                    <a:pt x="24" y="0"/>
                    <a:pt x="19" y="116"/>
                  </a:cubicBezTo>
                  <a:cubicBezTo>
                    <a:pt x="14" y="232"/>
                    <a:pt x="7" y="617"/>
                    <a:pt x="4" y="728"/>
                  </a:cubicBezTo>
                  <a:cubicBezTo>
                    <a:pt x="1" y="839"/>
                    <a:pt x="1" y="750"/>
                    <a:pt x="1" y="785"/>
                  </a:cubicBezTo>
                  <a:cubicBezTo>
                    <a:pt x="24" y="789"/>
                    <a:pt x="0" y="782"/>
                    <a:pt x="3" y="783"/>
                  </a:cubicBezTo>
                  <a:cubicBezTo>
                    <a:pt x="6" y="784"/>
                    <a:pt x="13" y="788"/>
                    <a:pt x="18" y="791"/>
                  </a:cubicBezTo>
                  <a:cubicBezTo>
                    <a:pt x="23" y="794"/>
                    <a:pt x="15" y="794"/>
                    <a:pt x="34" y="801"/>
                  </a:cubicBezTo>
                  <a:cubicBezTo>
                    <a:pt x="38" y="733"/>
                    <a:pt x="44" y="501"/>
                    <a:pt x="46" y="372"/>
                  </a:cubicBezTo>
                  <a:cubicBezTo>
                    <a:pt x="48" y="243"/>
                    <a:pt x="51" y="84"/>
                    <a:pt x="49" y="27"/>
                  </a:cubicBezTo>
                  <a:cubicBezTo>
                    <a:pt x="24" y="32"/>
                    <a:pt x="37" y="31"/>
                    <a:pt x="3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50000">
                  <a:srgbClr val="c7c7fe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65640" y="21513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65640" y="220824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5640" y="228132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65640" y="234180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65640" y="24177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0000" y="210996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0000" y="21700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0000" y="224640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80000" y="23194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0000" y="2392560"/>
              <a:ext cx="326880" cy="4896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1560" y="2125800"/>
              <a:ext cx="152640" cy="33480"/>
            </a:xfrm>
            <a:custGeom>
              <a:avLst/>
              <a:gdLst/>
              <a:ahLst/>
              <a:rect l="l" t="t" r="r" b="b"/>
              <a:pathLst>
                <a:path w="96" h="21">
                  <a:moveTo>
                    <a:pt x="96" y="2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1560" y="2190960"/>
              <a:ext cx="150840" cy="28440"/>
            </a:xfrm>
            <a:custGeom>
              <a:avLst/>
              <a:gdLst/>
              <a:ahLst/>
              <a:rect l="l" t="t" r="r" b="b"/>
              <a:pathLst>
                <a:path w="95" h="18">
                  <a:moveTo>
                    <a:pt x="95" y="1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3640" y="2266920"/>
              <a:ext cx="158760" cy="22320"/>
            </a:xfrm>
            <a:custGeom>
              <a:avLst/>
              <a:gdLst/>
              <a:ahLst/>
              <a:rect l="l" t="t" r="r" b="b"/>
              <a:pathLst>
                <a:path w="100" h="14">
                  <a:moveTo>
                    <a:pt x="100" y="1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00760" y="2336760"/>
              <a:ext cx="161640" cy="16200"/>
            </a:xfrm>
            <a:custGeom>
              <a:avLst/>
              <a:gdLst/>
              <a:ahLst/>
              <a:rect l="l" t="t" r="r" b="b"/>
              <a:pathLst>
                <a:path w="102" h="10">
                  <a:moveTo>
                    <a:pt x="102" y="1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00760" y="2413080"/>
              <a:ext cx="17280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49880" y="2171880"/>
              <a:ext cx="112680" cy="1908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0"/>
                  </a:moveTo>
                  <a:lnTo>
                    <a:pt x="71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53120" y="2233800"/>
              <a:ext cx="11412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0"/>
                  </a:moveTo>
                  <a:lnTo>
                    <a:pt x="72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53120" y="2301840"/>
              <a:ext cx="1191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48440" y="236232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3120" y="243360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75120" y="3160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4880" y="4724280"/>
            <a:ext cx="19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344">
                <a:moveTo>
                  <a:pt x="0" y="0"/>
                </a:moveTo>
                <a:cubicBezTo>
                  <a:pt x="352" y="48"/>
                  <a:pt x="704" y="96"/>
                  <a:pt x="768" y="288"/>
                </a:cubicBezTo>
                <a:cubicBezTo>
                  <a:pt x="832" y="480"/>
                  <a:pt x="392" y="976"/>
                  <a:pt x="384" y="1152"/>
                </a:cubicBezTo>
                <a:cubicBezTo>
                  <a:pt x="376" y="1328"/>
                  <a:pt x="548" y="1336"/>
                  <a:pt x="720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9760" y="205740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3695760"/>
            <a:ext cx="3886200" cy="1257120"/>
          </a:xfrm>
          <a:custGeom>
            <a:avLst/>
            <a:gdLst/>
            <a:ahLst/>
            <a:rect l="l" t="t" r="r" b="b"/>
            <a:pathLst>
              <a:path w="2448" h="792">
                <a:moveTo>
                  <a:pt x="0" y="168"/>
                </a:moveTo>
                <a:cubicBezTo>
                  <a:pt x="320" y="84"/>
                  <a:pt x="640" y="0"/>
                  <a:pt x="912" y="72"/>
                </a:cubicBezTo>
                <a:cubicBezTo>
                  <a:pt x="1184" y="144"/>
                  <a:pt x="1376" y="480"/>
                  <a:pt x="1632" y="600"/>
                </a:cubicBezTo>
                <a:cubicBezTo>
                  <a:pt x="1888" y="720"/>
                  <a:pt x="2352" y="688"/>
                  <a:pt x="2448" y="7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2666880"/>
            <a:ext cx="1904760" cy="1295640"/>
          </a:xfrm>
          <a:custGeom>
            <a:avLst/>
            <a:gdLst/>
            <a:ahLst/>
            <a:rect l="l" t="t" r="r" b="b"/>
            <a:pathLst>
              <a:path w="1200" h="816">
                <a:moveTo>
                  <a:pt x="0" y="816"/>
                </a:moveTo>
                <a:cubicBezTo>
                  <a:pt x="156" y="768"/>
                  <a:pt x="312" y="720"/>
                  <a:pt x="336" y="624"/>
                </a:cubicBezTo>
                <a:cubicBezTo>
                  <a:pt x="360" y="528"/>
                  <a:pt x="0" y="344"/>
                  <a:pt x="144" y="240"/>
                </a:cubicBezTo>
                <a:cubicBezTo>
                  <a:pt x="288" y="136"/>
                  <a:pt x="744" y="68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F96-1995-41AA-B31A-DF4B25E8A1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828800"/>
            <a:ext cx="70866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Build/Publish option to create an installation file for your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it to a new computer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uninstall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85E-A130-4D4B-967A-ABEEB986A2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600200"/>
            <a:ext cx="655344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t Templat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BackColor to Window (wh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logo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form ti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Close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MessageLabel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677-8BA5-43B8-9526-D130BC30F7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5943600" cy="4674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04812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89548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74320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1911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EB9-7DC2-4A40-8FAD-357102CD91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600200"/>
            <a:ext cx="655344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Templat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a new form and name it Custome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new Customer dataset in the Data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ustomer table 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Menu to open Custome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2C5-63D0-4D5E-83B0-68AF0CBF0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 from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686480" cy="38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056-A0C9-4299-A827-23448D283A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72200" cy="464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5238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mage with Picture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648320"/>
            <a:ext cx="2666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and submenus with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2900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58128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port link with Link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2096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209680"/>
            <a:ext cx="4572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34286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133360" y="25905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1B3-9F2D-4965-9203-F6D9971AB9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600200"/>
            <a:ext cx="655344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image or logo to the menu form (try clip 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 the form butt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LinkLabel to open a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VisitLink subroutine to your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ode to call the VisitLink with the appropriate URL to open the desire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test the l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2C7-0CB8-42AF-AC12-60511CD71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en SQL Reports from For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00200"/>
            <a:ext cx="8229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isitLink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nk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inkLabel,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RL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' Change the color of the link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nk.LinkVisited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' Call the Process.Start method to open the default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Diagnostics.Process.Start(sU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nkCustomerSalesReport_LinkClicked(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stem.Windows.Forms.LinkLabelLinkClickedEventArgs)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nkCustomerSalesReport.LinkCli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Link(sender, 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http://localhost/Reports/Pages/Report.aspx?ItemPath=/Reports06/CustomerSales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Box.Show("Unable to open the report.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1DA-3173-4062-AE14-60D0EF627A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48:18Z</dcterms:modified>
  <cp:revision>120</cp:revision>
  <dc:subject/>
  <dc:title>All Powder Board and Ski</dc:title>
</cp:coreProperties>
</file>