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A7E-FB72-4DED-A9CC-FBB1E541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DA97-E8B1-400B-BF4A-75BB9D8E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102A-C8E0-482F-A1D6-0799E200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EDED-5CD4-4ED5-8144-5421D7B5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C45D-D0E7-4F51-AC11-CD9F739B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AE19-1508-460C-9B31-4719EA8C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4BDD-1FCA-4385-AF32-5679344B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7A3E-95BC-4834-9528-D69CB5FA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D93D-D1AC-4F38-B12C-9CB0DAE2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EA15-2CB6-44B9-9C69-46C8FB0E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F2F7-DE53-4394-B8CB-5C7E0FB4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3FC-6576-47A1-B1F4-BCFBF078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B9EE-AEF9-46AE-BE8F-F7D5420E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2483-5847-4E71-A512-CAE2080A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C620-3E6A-4BF9-94D1-9AE6DD2A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048B-AC45-4278-B43B-0EE90A02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189A-1083-4214-AF76-02BFFA1D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6313-7627-4D51-BCDE-FF763594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00E-03AE-4CB9-842A-394FFA9D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C582-2C27-4546-8723-F5FD5C54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BD2C-40BC-4056-8A9C-E53F9463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9B6D-4BF0-437C-9624-DF070135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3F4-8E39-45CD-90D5-563154C0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6BB-D098-4039-A762-16F5C64A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C916-719F-468B-A02F-E14869B583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558E-1C54-464B-937F-5C9DFF2FEF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Server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: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E1DF-FF4B-4417-81D0-D57C241E82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600200"/>
            <a:ext cx="7925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ELECT     Category, ListPrice, WeightMax, Color,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FROM         Item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WHERE     (ListPrice &lt; 300) AND (WeightMax &gt; 150) AND (Category = N'Board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748A-AFA9-4300-B236-78D95FD87C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Complex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200" y="1295280"/>
            <a:ext cx="346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 for jum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ite mate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or Yellow main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 skis must be under $3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skis must be under $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920" y="4062240"/>
            <a:ext cx="296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HERE Category=‘Ski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D ItemMaterial=‘Composite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D Style=‘Jump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09880" y="2514600"/>
            <a:ext cx="4648320" cy="3521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62520" y="1371600"/>
            <a:ext cx="4319640" cy="3330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3520" y="2819520"/>
            <a:ext cx="2666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main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320040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3200400"/>
            <a:ext cx="5562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BB0-2AB7-4172-B986-A99CCFCA4B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752480"/>
            <a:ext cx="723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ELECT     Category, Color, ItemMaterial, Style, List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FROM         Item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WHERE     (Category = N'Ski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ND (ItemMaterial = N'Composite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ND (Style = N'Jump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661E-734C-44B7-9DBB-B07C7ABD1B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1752480"/>
            <a:ext cx="6934320" cy="3886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ItemModel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ategory, Color, ItemMaterial, Style, ListPr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conditions: Category=’Ski’ And Style=’Jump’ And ItemMaterial=’Composite’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 to ensure it 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onditions for Color=’Yellow’ and ListPrice&lt;3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onditions for Color=’Red’ and ListPrice&lt;4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orrect parenthe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 and tes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61EB-26F1-4BE8-9614-0004FB2ECE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486400" cy="4599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lor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52680" y="41148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362320" y="1371600"/>
            <a:ext cx="4319640" cy="3065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267080" y="1676520"/>
            <a:ext cx="1905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 and price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4800600"/>
            <a:ext cx="3276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5 conditions must hold, so only one row m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22860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C54-0F20-4266-88DC-D1F873F361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1981080"/>
            <a:ext cx="6781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ELECT     Category, Color, ItemMaterial, Style, List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FROM         Item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WHERE     (Category = N'Ski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ND (ItemMaterial = N'Composite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ND (Style = N'Jump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ND (Color = N'Yellow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ND (ListPrice &lt; 3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D249-40CB-4EBA-A774-563BE6C18F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ultiple Condi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86400" cy="4599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286000" y="1066680"/>
            <a:ext cx="4624560" cy="334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2E59-2C01-4B1E-8A4D-053FFDDD21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1371600"/>
            <a:ext cx="6782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    Category, Color, ItemMaterial, Style,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       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HERE     (Category=N'Ski' AND Style=N'Jump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ItemMaterial=N'Composite'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(Color='Yellow' AND ListPrice&lt;3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(Color='Red' AND ListPrice&lt;4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34290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    Category, Color, ItemMaterial, Style,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       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    (Category = N'Ski') AND (Style = N'Jump') AND (ItemMaterial = N'Composite'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(Color = 'Yellow') AND (ListPrice &lt; 3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ategory = N'Ski') AND (Style = N'Jump') AND (ItemMaterial = N'Composite'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(Color = 'Red') AND (ListPrice &lt; 4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55D7-5F66-4BEA-A8CA-E02095B702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5572080" cy="4670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471680" y="1352520"/>
            <a:ext cx="4395600" cy="29448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 Query: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175248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in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3657600"/>
            <a:ext cx="16761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21337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724280" y="3200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A2A-F31C-4DE0-9266-2C0DD9B08A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1905120"/>
            <a:ext cx="7391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SaleID, SaleDate, CustomerID, Payment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HERE (SaleDate BETWEEN '05/01/2006' and '05/31/2006'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(PaymentMethod=N'Cash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18B3-7882-404C-AC47-383EC48D86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mary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71560" y="1828800"/>
            <a:ext cx="739944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B1E5-708F-4DD3-8002-16E2D4B48E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1600200"/>
            <a:ext cx="6629400" cy="3962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with a blank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nly the Sal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SaleID, SaleDate, CustomerID, and Payment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SaleDate between 1/5/2004 AND 5/31/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PaymentMethod to C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 to tes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E10B-4B76-442B-894B-DD79DB249F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5280" y="1712880"/>
            <a:ext cx="5410440" cy="4535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471680" y="1285920"/>
            <a:ext cx="4624200" cy="31971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 Tables: Sale + Custom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297180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28640" y="320040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2133720"/>
            <a:ext cx="21337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047760" y="2209680"/>
            <a:ext cx="1981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657600" y="24382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657600" y="2438280"/>
            <a:ext cx="8380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BF18-67AD-4C07-955B-3ECE889E1C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940040"/>
            <a:ext cx="7696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    Sale.SaleID, Sale.SaleDate, Sale.CustomerID, Sale.PaymentMethod, Customer.LastName, Customer.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        Sale INNER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ON Sale.CustomerID = Customer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    (Sale.SaleDate BETWEEN '05/01/2006' AND '05/31/2006') AND (Sale.PaymentMethod = N'Cash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1B7-420A-477F-8F40-CE6D84FB39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752480"/>
            <a:ext cx="7848720" cy="3276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d the Customer tab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eck the join condition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N Sale.CustomerID = Customer.CustomerI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d Customer LastName and FirstName to the SELECT stat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un the query to test i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55FD-B065-46EF-B695-3DB5FD9699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: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00988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aleID, SaleDate, Sale.CustomerID, LastName, FirstName, Payment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ER JOIN Customer ON Sale.CustomerID = Customer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Date Between ’01/05/2004' AND '31/05/2004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PaymentMethod='Cash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28D4-264E-4192-B3C1-65B1326D4E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uilding a more complex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523880"/>
            <a:ext cx="6553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ustomers bought Atomic skis in January or Februa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14400" y="2128680"/>
          <a:ext cx="6933960" cy="1699920"/>
        </p:xfrm>
        <a:graphic>
          <a:graphicData uri="http://schemas.openxmlformats.org/drawingml/2006/table">
            <a:tbl>
              <a:tblPr/>
              <a:tblGrid>
                <a:gridCol w="3112920"/>
                <a:gridCol w="3821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do you want to se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names, Sale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do you know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facturer name, SaleDate range, Category is 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tables are involv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are they join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… Sale … ItemModel, Manufactu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914400" y="41860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, FirstName,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, …, Sale, …, ItemModel,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Manufacturer.Name=N‘Atomic”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ale.SaleDate BETWEEN ’01/01/2006’ AND ’29/02/2006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temModel.Category = N‘Sk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49760" y="2286000"/>
            <a:ext cx="2934000" cy="2073240"/>
          </a:xfrm>
          <a:custGeom>
            <a:avLst/>
            <a:gdLst/>
            <a:ahLst/>
            <a:rect l="l" t="t" r="r" b="b"/>
            <a:pathLst>
              <a:path w="1848" h="1306">
                <a:moveTo>
                  <a:pt x="968" y="0"/>
                </a:moveTo>
                <a:cubicBezTo>
                  <a:pt x="1088" y="79"/>
                  <a:pt x="1588" y="308"/>
                  <a:pt x="1688" y="476"/>
                </a:cubicBezTo>
                <a:cubicBezTo>
                  <a:pt x="1788" y="644"/>
                  <a:pt x="1848" y="873"/>
                  <a:pt x="1567" y="1011"/>
                </a:cubicBezTo>
                <a:cubicBezTo>
                  <a:pt x="1286" y="1149"/>
                  <a:pt x="326" y="1245"/>
                  <a:pt x="0" y="13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2819520"/>
            <a:ext cx="2298960" cy="2361960"/>
          </a:xfrm>
          <a:custGeom>
            <a:avLst/>
            <a:gdLst/>
            <a:ahLst/>
            <a:rect l="l" t="t" r="r" b="b"/>
            <a:pathLst>
              <a:path w="1448" h="1488">
                <a:moveTo>
                  <a:pt x="672" y="0"/>
                </a:moveTo>
                <a:cubicBezTo>
                  <a:pt x="908" y="136"/>
                  <a:pt x="1153" y="266"/>
                  <a:pt x="1248" y="432"/>
                </a:cubicBezTo>
                <a:cubicBezTo>
                  <a:pt x="1343" y="598"/>
                  <a:pt x="1448" y="821"/>
                  <a:pt x="1240" y="997"/>
                </a:cubicBezTo>
                <a:cubicBezTo>
                  <a:pt x="1032" y="1173"/>
                  <a:pt x="258" y="1386"/>
                  <a:pt x="0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66D-50CF-4589-9BDD-EFDBE2EE42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: Many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019920" cy="480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B3D1-782A-4324-B104-C68AD9FA3DD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: Many Table JOI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447920"/>
            <a:ext cx="83059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Name, FirstName, ItemModel.Category, Name, 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factur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ER JOIN ItemMo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Manufacturer.ManufacturerID = ItemModel.Manufacturer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ER JOIN Invent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ItemModel.ModelID = Inventory.Mode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ER JOIN SaleI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Inventory.SKU = SaleItem.S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ER JOIN 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aleItem.SaleID = Sale.Sale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ER JOIN Custom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ale.CustomerID = Customer.Custome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emModel.Category = N'Ski'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ame = N'Atomic'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ale.SaleDate BETWEEN '1/1/2006' and '2/28/2006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24DA-3BE1-4CDB-969D-86DDA2D636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5762880" cy="33624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lder JOIN Meth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1752480"/>
            <a:ext cx="16761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tables separated by com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209680" y="198072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3200400"/>
            <a:ext cx="16761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join condition in the WHERE cl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209680" y="274284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8AE-7E1A-49CA-9192-7BC3A3B6FDE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98108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LastName, FirstName, ItemModel.Category, Name,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Manufacturer, ItemModel, Inventory, SaleItem, Sale,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HERE Manufacturer.ManufacturerID = ItemModel.Manufacturer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ItemModel.ModelID = Inventory.Model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Inventory.SKU = SaleItem.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SaleItem.SaleID = Sale.Sale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Sale.CustomerID = Customer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(ItemModel.Category = N'Ski'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(Name = N'Atomic'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(Sale.SaleDate BETWEEN '1/1/2006' and '2/28/2006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2DC-3DE5-4D0F-A889-4D7B5B70949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1981080"/>
            <a:ext cx="5486400" cy="3276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files from BuildAllPow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 or rename conflicting 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command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batch file BuildAllPowderSQL server username passw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he 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5F6-AF0F-4EC7-9411-BBDD2BB4E4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471680" y="1490760"/>
            <a:ext cx="6200640" cy="3876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429000" y="4648320"/>
            <a:ext cx="2486160" cy="1780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lcul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1981080"/>
            <a:ext cx="21337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4648320"/>
            <a:ext cx="533520" cy="1828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971440" y="2362320"/>
            <a:ext cx="28954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572000" y="236232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562720" y="2362320"/>
            <a:ext cx="3045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481D-D5FC-49C4-9AAA-D4BB152F575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981080"/>
            <a:ext cx="80773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ELECT Category, ItemMaterial, ListPrice, ListPrice-Cost As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FROM Item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ORDER BY Category, ListPrice DE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E2B-00AB-404D-B6F8-84A4FE0CB0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2057400"/>
            <a:ext cx="6324840" cy="31240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 using only the ItemModel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ELECT row, add a new pseudo column to compute ListPrice-Cost As Pro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ORDER BY line to sort by Category and List Price desce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0F05-DE14-458D-AF2A-947FB3AFF16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mon Func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447920"/>
            <a:ext cx="7315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lower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/number of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sub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Trim, RTr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leading and trailing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pper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A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umber to a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Di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ct two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detailed form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, Month, Yea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parts of a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ine, all common trig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, drop decima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8840" y="620856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Books Online: Transact-SQL Reference/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3B5-5731-46CA-9DF8-7167DF1373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at Dates: Conve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471680" y="1366920"/>
            <a:ext cx="6200640" cy="41241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124080" y="4495680"/>
            <a:ext cx="2676600" cy="1791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181480" y="4495680"/>
            <a:ext cx="609840" cy="1752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7BEB-B6A2-439D-B714-DD85A66D93B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1828800"/>
            <a:ext cx="6933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    SaleID, Sale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Left(Convert(nvarchar, SaleDate, 120), 7) AS Sale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       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DEE4-1F1F-4347-BDE0-FD9D414C096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201000" cy="3790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819520" y="4419720"/>
            <a:ext cx="4543200" cy="17809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dd Days and DateAd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8680" y="3200400"/>
            <a:ext cx="1371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 + one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9880" y="1905120"/>
            <a:ext cx="2286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 + 30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05520" y="2286000"/>
            <a:ext cx="30456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19520" y="2286000"/>
            <a:ext cx="2286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352680" y="3505320"/>
            <a:ext cx="2286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350532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4F7-7FF7-47E5-9BEF-5752BAF901A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2057400"/>
            <a:ext cx="7239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SaleID, Sal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te, SaleDate+30 AS Late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DateAdd(Month, 1, SaleDate) As Late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95B-760C-4C28-82FC-4BBCF16FD44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57400" y="1981080"/>
            <a:ext cx="5410080" cy="3657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the Sa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aleID and Sale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30 days to the SaleDate to get Late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DateAdd to add one month to the SaleDate to get Sale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A7EC-8FD1-4AE4-A6F9-40803C54C3F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200640" cy="44766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: S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2438280"/>
            <a:ext cx="1295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276720" y="5181480"/>
            <a:ext cx="1971720" cy="6573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038480" y="327672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171840" y="2819520"/>
            <a:ext cx="304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24280" y="36576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27EA-82F6-4E29-82F5-F3F3334DED6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le/Get External Data/Im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676520"/>
            <a:ext cx="69343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BuildAllPowder folder to machine running 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 or rename any conflicting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QL Plus, run the file DropAllPowderTablesSQL.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command mode: Start/All Programs/Accessories/Command Pro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AllPowderSQL server username 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F49-E265-4438-A721-1351D0210A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1981080"/>
            <a:ext cx="556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Sum(SalesTax) AS SumOf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HERE (ShipState='CA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C225-D9A7-43B2-BA72-DCDF8B6D2AD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1523880"/>
            <a:ext cx="6019560" cy="46483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Sa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hipState and Sales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ShipState = ‘CA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the correct states are displa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heck ShipState as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Sum option for Sales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E89-13FD-4FFA-B82B-B2ED57DE04B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200640" cy="44769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: Group B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1981080"/>
            <a:ext cx="26672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produces subtotals for all values in the specifie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437920" y="2895480"/>
            <a:ext cx="304812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289548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28954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5181480" y="4419720"/>
            <a:ext cx="1791000" cy="178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190A-5D96-43F4-B313-4F8B7C85226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: Group B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228600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hipState, Sum(SalesTax) AS SumOf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ShipSt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7B65-D359-4276-A18F-6202A40138A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1981080"/>
            <a:ext cx="5029200" cy="3353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Sa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olumns: ShipState and Sum(SalesTax) AS SumOfSales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row at the bottom: GROUP BY Ship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B282-DFAA-4B30-89FA-A0304F90B7E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271520" y="1471680"/>
            <a:ext cx="6600960" cy="39146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tal Sales Value in Color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952880" y="4343400"/>
            <a:ext cx="26672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on each row and sum across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3352320" y="350496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4952880"/>
            <a:ext cx="905040" cy="3812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flipH="1" flipV="1">
            <a:off x="3809520" y="44956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140-18FE-494A-A6E6-32C8C3131E1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VIEW—Save a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2590920"/>
            <a:ext cx="7848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 ColoradoSales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um(QuantitySold*SalePrice) AS Sale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 INNER JOIN SaleItem ON Sale.SaleID = 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hipState=’C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F952-7223-4CEC-9BD9-78D72D5A47F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ll Powder Tables After Im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48640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77E-FE42-45A2-8771-AA91E1E6E5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562720" cy="4662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arting a Query: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2819520"/>
            <a:ext cx="175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5257800"/>
            <a:ext cx="1143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429000" y="4800600"/>
            <a:ext cx="965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1528920"/>
            <a:ext cx="17528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809520" y="16765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2666880"/>
            <a:ext cx="12193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276720"/>
            <a:ext cx="1523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/ New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742840" y="35053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3962520" y="25146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362320" y="21333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C19-D38E-4382-B615-500CCC0CA1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153040" cy="4410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nterprise Manager 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4648320"/>
            <a:ext cx="1143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819160" y="44953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2133720"/>
            <a:ext cx="1981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 and J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504960" y="20570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411480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638680" y="342864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BC1-9857-4DE6-BBA3-4DB0741006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676520"/>
            <a:ext cx="6400800" cy="3886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and Add the ItemModel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olumns: Category, ListPrice, WeightMax, Color, and Graph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conditions: Category=’Board’ AND ListPrice&lt;300 AND WeightMax&gt;15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he SQL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510-8961-45C4-A0A1-703F59944E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4810320" cy="4032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mple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1371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Display snowboards with a list price under $300 and max weight over 150 p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676520" y="2209680"/>
            <a:ext cx="4495680" cy="2982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76920" y="4419720"/>
            <a:ext cx="7617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5334120"/>
            <a:ext cx="1066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590920"/>
            <a:ext cx="914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350532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5CB-ECC7-4535-AAB1-CB1C1A0569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01-12T22:28:36Z</dcterms:modified>
  <cp:revision>62</cp:revision>
  <dc:subject/>
  <dc:title>All Powder Board and Ski</dc:title>
</cp:coreProperties>
</file>