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61F-211B-4813-B0A5-574B9871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F6A-46B7-4CB1-A066-459E26B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B36-274E-4795-B49B-CD13AA54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185-C9C2-4D31-8512-9CC537C4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042F-2ABF-4635-BEFE-CFAB6D8E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216-DCED-4A4E-9838-DC56E100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E958-E00D-4AA3-A234-A4D645CC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8601-FE7A-4F16-B540-5DE19CFF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354-7AD4-4138-AAB7-E27CB1F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5C2-06A9-445B-8055-62935957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AE50-4FC2-4B7A-B207-25894B8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FAE-39BB-4889-B077-730928A2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0219-4ECD-4A47-997B-AC686FA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1A19-6074-4E2D-AEC2-597D21E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2A1C-E9FA-430D-A6CC-0555DD74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C33F-A72C-46F3-BDBC-526C865A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1B1C-D743-47F5-87A4-B01CE64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6AD-698A-481C-971B-C3CBE37C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E7C-723E-47E1-A180-3E4EB119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760-50C3-4F49-92B1-C7A8DD85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0B8-363C-45CA-A0C4-21F6A45F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FA3-200E-454E-AAD7-34C6C29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66A-79F4-4CB0-99AF-834C4BC4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C32-8AE6-4459-B470-8D4C286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6BFC-6FAC-4AA1-8042-816FBB311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A533-55E6-41DF-BCBD-97BAD588B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sdnaa.net/" TargetMode="External"/><Relationship Id="rId2" Type="http://schemas.openxmlformats.org/officeDocument/2006/relationships/hyperlink" Target="http://www.msdnaa.net/" TargetMode="External"/><Relationship Id="rId3" Type="http://schemas.openxmlformats.org/officeDocument/2006/relationships/hyperlink" Target="http://msdn.microsoft.com/" TargetMode="External"/><Relationship Id="rId4" Type="http://schemas.openxmlformats.org/officeDocument/2006/relationships/hyperlink" Target="http://msdn.microsoft.com/" TargetMode="External"/><Relationship Id="rId5" Type="http://schemas.openxmlformats.org/officeDocument/2006/relationships/hyperlink" Target="http://www.microsoft.com/sql" TargetMode="External"/><Relationship Id="rId6" Type="http://schemas.openxmlformats.org/officeDocument/2006/relationships/hyperlink" Target="http://www.microsoft.com/sq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2005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Academic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/www.msdnaa.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Developers N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msdn.microsof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SQL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www.microsoft.com/sq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Server Management Studi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24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752480"/>
            <a:ext cx="556236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SQL Server Management 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QL Server Group and log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database assigned to you, or create it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ables, select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lumn names and da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CustomerID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Identity value to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key icon in the main tool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he form and name the tabl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Creat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196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133720"/>
            <a:ext cx="434340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tab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pen Table/Return all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sampl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Add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4390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676520"/>
            <a:ext cx="6705720" cy="3809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Visual Studio and select File/New Project to choose a VB Windows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/Add New Dat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Microsoft SQL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server name, and use your SQL Server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box to save your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your database and test the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option to include sensitiv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Table list and select the Customer table with a check m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 Design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676520"/>
            <a:ext cx="670536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Data Sources window and click the Refresh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 and click the drop-down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layout to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ustomer table onto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Debug button to 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91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9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7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7924320"/>
              </a:tblGrid>
              <a:tr h="44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925040" cy="4489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01940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346040"/>
          <a:ext cx="7925040" cy="535932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18:01Z</dcterms:modified>
  <cp:revision>14</cp:revision>
  <dc:subject/>
  <dc:title>All Powder Board and Ski</dc:title>
</cp:coreProperties>
</file>