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76C-CB45-4018-9DFC-2E7D1F9C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609-FA19-45A0-9B72-66786D75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32D-91AA-4A1B-AB20-3572D36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553-2E14-479B-8B2C-E0173FCE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1850-5821-4283-8369-0434E87D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553B-D35A-4E8A-821E-F5286C0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0BE-B9BF-456C-B560-1BFB451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C847-8D68-42FE-8741-A8C6FE0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1522-30D4-4CAA-9320-AAD32B0E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361-F183-4C9F-AE8B-3E51071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366-76E1-4C08-BDAF-1EEBB80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5CC-B7D7-413B-925A-2A25BD7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057-A16C-451C-8CC2-29D2C08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0FB-D1C9-425E-A874-FC8F489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B43E-C430-42E7-8CE9-40E7A39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37B3-DE0A-472A-B0CC-8B646BAC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65ED-5DFF-4610-AD22-2F8DA5B1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396-67D3-4A09-AC7C-A9C2E9CA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7D2-1821-4B65-B650-F1C5403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B4A-AB4B-4D0D-BB85-7E24ABB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479-76D5-4BAD-8249-3015B6AA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A57-2F0C-4508-80D6-0FB69C4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DB-8DBC-433A-9DD3-B99F260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A81-CAFB-462E-B60E-74B86EC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445-C6C4-4AC9-9BF0-EAD98C4D5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E528-434D-4822-B25D-43A45A406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368-E1A7-4537-ACFF-C93431E42C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209680"/>
            <a:ext cx="655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sValue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SalesValue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863-E41B-40DD-AE41-849C04290C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72120" cy="45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B38-FF98-4440-85FE-FDE011EEC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6232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RentDate, Rental.CustomerID, Sale.CustomerID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R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Rental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E19-E20F-4DAE-9E90-F7F55B79B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676520"/>
            <a:ext cx="769644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tables on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join between the tables on Rental.CustomerID=Sale.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153-098E-4429-9E05-FE0DA2F44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4505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604960"/>
            <a:ext cx="3733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Join Sale+Customer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9000" y="23763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88628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without 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572000" y="40482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2000" y="427644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72000" y="374292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D68-81E2-4367-8203-9352BED072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905120"/>
            <a:ext cx="7696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(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FT JOIN Rental ON Sale.CustomerID=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648-17C7-4525-BFE8-11005E97D5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752480"/>
            <a:ext cx="7848720" cy="3810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Customer INNER JOI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ustomer.CustomerID=Sale.Custome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JOIN Rental ON Sale.CustomerID = Rental.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9AC-DC17-4DD9-BEED-230EF951E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1996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5BA-B51D-469D-A12B-B14B0C80B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81080"/>
            <a:ext cx="754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RentDate, Rental.CustomerID, Sale.CustomerID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Rental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Rental.RentDate=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1B0-E84A-4F3A-8CFC-1E25BD857B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800100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ustomerID Not In (SELECT CustomerID FROM Ren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6D7-58A7-496F-9CE0-69558C272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B31-1E7C-4E72-A96C-421D8B8656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62400" cy="4505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3429000"/>
            <a:ext cx="2666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query to list those who did NOT 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181480" y="25146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F22-51C5-49F8-980B-47271D124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981080"/>
            <a:ext cx="76197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ustomer.CustomerID 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5EF-0577-4344-ADC1-401BD9336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371600"/>
            <a:ext cx="769608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 and Sum(QuantityOnHa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the Sum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it as ModelsOn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table: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ID, CategoryName, LowLimit, HighLi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data from Figure 5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B52-FEF9-4CEC-A763-E671D332ED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43320" cy="453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143-EF8C-4719-8991-ED891E24AD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489040"/>
            <a:ext cx="556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ModelsOnHa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ModelID, Sum(QuantityOnHand) As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Sum(QuantityOnHand)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646-66E5-4DA9-BA97-DBAAD95933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927-CF17-4889-AFE7-E81CE48A09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752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TABLE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 Category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ategoryNam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owLimi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ighLimi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pk_SalesCategory PRIMARY KEY (Category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371-7440-49CC-8C21-A6B8541576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05120"/>
            <a:ext cx="83059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1, 'Hot',0, 6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2, 'Good', 6, 1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3, 'OK', 1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4, 'Weak', 20, 4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5, 'Slow', 40, 100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CCF-3779-4A4D-9192-C8C8798C7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828800"/>
            <a:ext cx="617220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ModelsOnHand and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nequality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1B4-4959-48EB-91F9-B422634733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1040" cy="4486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124080"/>
            <a:ext cx="2438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quality (theta) joins assign the proper categor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038480" y="2590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3429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F13-3DB6-4B31-A81B-CF97AFC835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0280" y="57913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69584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487-047A-4992-AA50-268C1C766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08080"/>
            <a:ext cx="7467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ModelID, QOH, SalesCategory.CategoryID,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ModelsOnHand.QOH &gt;= SalesCategory.Low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ModelsOnHand.QOH &lt; SalesCategory.High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79E-ECE3-415E-8CF5-1FA591DD00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25772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50532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models in each sales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419720" y="25146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7164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388-84C3-4145-9E43-65029EFBE4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752480"/>
            <a:ext cx="6095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sCategory.CategoryID, Category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unt(ModelID) As Count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ModelsOnHand.QOH &gt;= SalesCategory.Low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ModelsOnHand.QOH &lt; SalesCategory.High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SalesCategory.CategoryID,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CF6-1ABD-423F-A436-A12CD33D79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600200"/>
            <a:ext cx="7391160" cy="4495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January sale date in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entir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word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and name to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AE5-31BF-4C89-984D-A9F8D576BE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571760"/>
            <a:ext cx="5524560" cy="4448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3429000"/>
            <a:ext cx="2590560" cy="215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it could be done with simple conditions, but it is good practice for UN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266720" y="3962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66720" y="41911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DD4-80FA-4C92-BE41-D7983EFB77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676520"/>
            <a:ext cx="80769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'Jan'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Date Between '01-Jan-2006' AND '31-Jan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'Mar'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Date Between '01-Mar-2006' AND '31-Mar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3FB-CE1C-460C-8716-FF7CFE0D05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905120"/>
            <a:ext cx="525780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A90-39C3-4173-93E4-0633B9A980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7524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2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LETE CASC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713-4092-4102-8346-76E9A2C7B4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90512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MyTemp PRIMARY KEY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3B9-2676-4F42-BA66-AD0851603E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828800"/>
            <a:ext cx="723924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INSERT command: INSERT INTO Customer (CustomerID, LastName, FirstName, City, Gender) VALUES (4000, 'Jones', 'Jack', 'Nowhere', 'Mal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B4F-AE6C-4694-861B-B70487C901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76520"/>
            <a:ext cx="7162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um(QuantitySold*SalePrice) As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Customer.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1FA-812F-4767-89FE-15F8709E5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9810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4000, 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3920" y="4303800"/>
            <a:ext cx="52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 7 shows how to create sequences so CustomerID is gen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D4A-9F84-47B5-AAB9-98DD4005B6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D52-C013-4817-A1F1-73DC712A9D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523880"/>
            <a:ext cx="72388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ModelYear, and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Category=’Board’ And ModelYear=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first two lin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st =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5D4-C9E1-417D-968C-A4D44331B1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295880" cy="4495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19051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query to see new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it before running secon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571640" y="2209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D72-0D2B-4AC3-9D72-2AEDE7BF63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05120"/>
            <a:ext cx="6858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ategory, ModelYear, Round(Cost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ategory='Board'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- run the top query first, then edit it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T Cost=Round(Cost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ategory='Board'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8BE-B558-4DC2-8720-293EF3E804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676520"/>
            <a:ext cx="6629400" cy="4114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ELECT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ID, LName, F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MyTe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ID&gt;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ELECT row to DE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 commit;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83D-8038-4C08-B2BB-FC818DF3ED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85800" y="1447920"/>
            <a:ext cx="572940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337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write a SELECT query to see th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0481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hange the SELECT row to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AF1-8564-4CDC-83A0-C50EB21592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FA3-9B4D-42C5-A117-F2A061FEF7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828800"/>
            <a:ext cx="63244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Sum(RentF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96D-6B73-43AC-AB97-897458E494B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67652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-Jan-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nd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-Mar-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437976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to replace fixed dates with parameters that can be entered by 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1A7-665D-4750-B1E3-E3768961C9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600200"/>
            <a:ext cx="624852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, Sale,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Sum(QuantitySold*SalePrice) AS Sales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the other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a view Customer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vg(SalesValue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9CC-2E08-49CA-B0BE-09E6044768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76520"/>
            <a:ext cx="7543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tore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new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dates to Oct-D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AF5-37FA-4A58-9890-5FC65B419DE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: Proced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70172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Star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e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End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Star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End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360-E1B2-4D2A-84E0-C57200E9FB7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90840" y="1552680"/>
            <a:ext cx="5962320" cy="3476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: specify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pecify b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419360" y="1905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05520" y="20574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291-6282-48D1-9FDA-7D4D4BA8A4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6272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-EXECUTE GetCategoryFees '01-Jan-2006', '31-Mar-2006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XECUTE GetCategoryFees @StartDate='01-Jan-2006'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@EndDate='31-Mar-2006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2A3-0430-44F4-B517-08D3F3D153F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85960" y="1890720"/>
            <a:ext cx="377208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AC0-A64F-4282-894A-27719A951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Avg(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AF7-3699-4000-BC26-A63B50AF4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905120"/>
            <a:ext cx="693396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Sales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for Sales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SELECT Avg(SalesValue) FROM CustomerSa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B54-ADA1-4EA4-AECA-894EFEEB0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3990960" cy="4591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6668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876560" y="2286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D29-8360-4BB4-BF49-32CD1CE34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33:33Z</dcterms:modified>
  <cp:revision>53</cp:revision>
  <dc:subject/>
  <dc:title>All Powder Board and Ski</dc:title>
</cp:coreProperties>
</file>