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193-C2A1-4E6A-950B-10C146E4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679-07C6-4002-81F1-7CE1BAED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CE8-5511-4371-8836-9F8B6775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877-E345-4978-863A-1F529E56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303F-D59A-402B-B03A-6381D71C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4E8-3650-4D1B-9AA8-C5D8E2A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0AE-CE62-4D08-B12D-88524562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F39F-9277-4748-83FA-6BCC6E79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237-4654-4C50-A1DF-94BE680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48A7-8AEB-4C56-97BE-F9A59645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BF2-B6DC-4E52-90AD-828BC30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A2D-907D-4D05-8931-B6EAD8B5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E8C-D9C5-4BE1-8B2A-8BD66498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93EF-BB76-495F-B9A4-E58BAE2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DBE-8CA2-4503-9102-B80869A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736F-9995-47EF-A4E9-07C83566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9C7F-0B9D-408C-AF8A-C6B25322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C31-1AD1-4A9A-8DE8-B5EE560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3EC-9625-4559-A412-24599099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DB2-7F77-4704-B878-16CF741E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EF2-E0CC-4370-AAB1-7EB836D5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6DB-8ACD-47E8-B664-2AA16C3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C5D-029D-4F48-98A3-4C7EEF8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DC3-5962-4FEF-97D3-FBBF3BF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3F6-1B93-45C7-80C9-7B5267FFB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E88-5FC3-4EF1-93B8-6B079AA3A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3C42-5B85-459A-B7D4-5294DBF9B2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05120"/>
            <a:ext cx="7848720" cy="2590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og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connection string in the app.config file to remove the values for Data Source, User ID,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the Menu form to open the Log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the Login button to modify the connection string and test the lo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EEC-FBBE-4115-AB54-2E4A7E1FBD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de to Call Log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43828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nu_Load(ByVal send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.EventArgs)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mLogi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mLogin.ShowDialo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4760" y="14842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.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CFA-0838-4059-AEA8-E85665B3AA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gin Butto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371600"/>
            <a:ext cx="86104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Login_Click(ByVal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Login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   connectionString="Data Source=;Initial Catalog=Powd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   Persist Security Info=True;User ID=;Password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C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ing =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Settings.PowderConnectionString.Replace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User ID=", "User ID=" &amp; UsernameTextBox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n = sCn.Replace("Password=", "Password=" &amp; PasswordTextBox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.Settings.Item("PowderConnectionString")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sCn.Replace("Data Source=", "Data Source=" &amp; ServerTextBox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nnection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Settings.Item("PowderConnectionString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Label.Text = "Invalid login. Please try again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 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57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gin.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A93-2B25-401C-956C-47D148B52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05120"/>
            <a:ext cx="784872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axes.vb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parameterized code to compute the ta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 and switch to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alesTax text box and the Enter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de to compute the sales 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to test the compu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CAC-0BBC-40DA-BD1C-BAC09DD14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de to Compute Tax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05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ublic Shared Func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mputeSalesTax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Amount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eci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ec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qlClient.SqlConnection(My.Settings.PowderConnectionSt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.CommandText = "SELECT dbo.ComputeSalesTax(@Amount) AS Tax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.Parameters.Add(New SqlClient.SqlParameter("@Amount", Amou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dr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qlClient.SqlData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dr = cmd.ExecuteReader(CommandBehavior.Single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dr.Rea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 Deci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= rdr.GetDecimal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dr.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Windows.Forms.MessageBox.Show("Error computing taxes.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6480" y="5335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axes.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DA3-5217-4922-BCA0-C9DD6C1FCE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057400"/>
            <a:ext cx="792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alesTaxTextBox_Enter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bject, 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ystem.EventArgs) Handles SalesTaxTextBox.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ecimal = Taxes.ComputeSalesTax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ubtotalLabel.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lesTaxTextBox.Text = Format(tax, "0.00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aleTotalLabel.Text = Format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Typ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ubtotalLabel.Text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eci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+ tax, "0.00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025-BA92-4F9D-B0A4-BA7B6E6890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7196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1F0-8BDB-44A5-9C98-C6D760C8A8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14960" cy="4597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9304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t brea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7524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/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/Step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96216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518148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orm and vari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276360" y="518148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724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047760" y="175248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547-0409-45BF-87C6-390194BA62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Database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002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ustomerID, EmployeeID, SaleDat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OnHand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27672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w item is sold,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ions: changes to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eItem is revoked, the SaleItem row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antitySold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U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528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pl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leID=3000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KU=500000 or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ustomerID=58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mployeeID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721-363D-47FB-A906-9F8A1730AC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828800"/>
            <a:ext cx="73152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 table with a SaleID of 3000, CustomerID of 582, and EmployeeID of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NSERT trigger for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Item table (3000, 500000, 1,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value of QuantityOnHand in the Inventory table for SKU=500000 and ensure it was decreased from 10 to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949-C3C3-4FD9-A6CC-D4E7AE6D6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71960" cy="4105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581280"/>
            <a:ext cx="838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715000" y="35812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98B-04E2-416A-B65E-F975DDA82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Event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447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769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name='NewSaleQOH' AND type='T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RIGGER New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RIGGER New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inse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4864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/inser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019560" y="4952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952520" y="53337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05A-BB6A-4913-9DBB-8667449027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tup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82880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 (SaleID, CustomerID, Employe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82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00000, 1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6095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379-4062-4937-8302-38B8497DD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76520"/>
            <a:ext cx="693432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 (SaleID=3000 And SKU=500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LE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the SaleItem row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95D-30E4-401E-B421-F16BF755B4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tential Problem: Delete Ro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133720"/>
            <a:ext cx="6095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does no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723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name='DelSaleQOH' AND type='T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RIGGER Del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RIGGER Del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dele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4956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38862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the delete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AFF-8A34-4DD1-8269-A3DA13F6D4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5CD-B3E8-4E86-B024-BCC7218B01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828800"/>
            <a:ext cx="647676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an update to change the QuantitySold in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D3F-6A6B-4B92-B11D-7D0F82FE64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Quant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590920"/>
            <a:ext cx="8534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name='ChangeSaleQOH' AND type='TR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OP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 + deleted.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Inventory INNER JOIN inser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00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1523880"/>
            <a:ext cx="990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505320"/>
            <a:ext cx="3657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ack the old quantity (1) and subtract the new value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18148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1911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7FC-FB83-4D46-A993-1BBEDD4B04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3526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3, SKU =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595600"/>
            <a:ext cx="5257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by changing both QuantitySold and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4956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44792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471-C592-49D0-B76B-BA85EB1468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981080"/>
            <a:ext cx="792468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ull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QuantitySold and SKU (to 500010) in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 for SKU 500000 and 50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03B-B7CE-4D3B-8E33-4D4D77B23E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igger to Handle SKU Changes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47640"/>
            <a:ext cx="8686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name='ChangeSaleQOH' AND type='TR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OP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COLUMNS_UPDATED() &amp; 4) &gt; 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3rd column QuantitySold is chang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 + deleted.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Inventory INNER JOIN inser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61D-98DF-47D0-8C27-4A631FFA51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828800"/>
            <a:ext cx="502920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Server Management Studio to create the ComputeSalesTax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unction with an SQL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BE8-DE09-4A15-9F25-02E179707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igger to Handle SKU Changes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8288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COLUMNS_UPDATED() &amp; 2) &g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2nd column SKU is chang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restore QOH for original SKU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dele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subtract for QOH for new SKU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ins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54864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4D9-BDBF-4E20-A49C-54D41D7634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86532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46483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638320" y="4800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340-7C16-49AE-8DDC-305E5D42B9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4480" y="1981080"/>
            <a:ext cx="801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REATE TABLE Rental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ntID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 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ount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etime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ount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a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varchar(1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STRAINT pk_RentalDiscount PRIMARY KEY (RentID, DiscountDat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STRAINT fk_RentalDiscountRental FOREIGN KEY 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FERENCES Rental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BC7-69A9-4821-BC14-782484B6DB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800680" cy="4295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1600200"/>
            <a:ext cx="17528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791320" y="2209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DF2-DBAA-4BFC-9507-C861D8C932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905120"/>
            <a:ext cx="7238880" cy="2361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Discount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the Rental form that opens the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FB0-3F51-4E6C-8979-A39228F409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33560" cy="285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3372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 and Amount are determined by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3623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8954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4648320"/>
            <a:ext cx="3353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unbound form built as a blank Windo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ECF-119B-4510-B5A9-1E0E6B4824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00200"/>
            <a:ext cx="762012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Rental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Click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Refresh button and code to the Rent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DD5-C3E4-41F3-B633-0A4B3908F9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257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 the RentID and Repair charge to the new form as de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60020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Form, 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event: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66688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iscountButton_Click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ystem.Objec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ystem.EventArgs)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iscountButton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frmRentalDiscount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RentalDiscou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rmRentalDiscount.Sh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rmRentalDiscount.RentIDTextBox.Text = Me.RentIDTextBox.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rmRentalDiscount.AmountTextBox.Text = Me.ChargesLabel.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973-ABD0-4FFD-836D-A943573E1A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387440"/>
            <a:ext cx="8001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Button_Click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Button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lClient.SqlConnection(My.Settings.PowderConnection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r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SQL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n = cnn.BeginTransactio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Transaction = t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QL = "UPDATE RentItem Set RepairCharges=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QL &amp;= " WHERE RentID=@RentI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ext = s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RentID", 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RentIDTextBox.Text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ExecuteNonQuer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QL = "INSERT INTO RentalDiscount(RentID, DiscountDa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countAmount, Reason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D13-E9E1-4299-86ED-118FDCF1D5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447920"/>
            <a:ext cx="853452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SQL &amp;= " VALUES(@RentID2, @DiscountDate, @DiscountAmount, @Reason)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CommandText = sSQ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qlClient.SqlParameter("@RentID2", 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Type(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RentIDTextBox.Text, Integer)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Parameters.Add(New SqlClient.SqlParameter("@DiscountDate",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DiscountDateTimePicker.Value.Date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Parameters.Add(New SqlClient.SqlParameter("@DiscountAmount",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CTyp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AmountTextBox.Text, Decimal)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Parameters.Add(New SqlClient.SqlParameter("@Reason", 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ReasonTextBox.Text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ExecuteNonQuery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Transaction.Commit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ssageLabel.Text = "Changes recorded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Transaction.Rollback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ssageLabel.Text = "Error saving changes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Final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End 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558-2D7C-4CC1-96E3-3B3138D759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198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x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657600"/>
            <a:ext cx="15238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 is required to separate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5053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3760" y="266652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350496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65B-9A16-45AC-8A25-CF1E5176C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60020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thing goes wrong, cancel the fir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87656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819520"/>
            <a:ext cx="769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Transaction.Rollba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Label.Text = "Error saving changes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Fi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CD6-97E3-48C8-A73F-DDA7DD3DE1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752480"/>
            <a:ext cx="716292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DatePart(“ww”, SaleDate) As Sale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QuantitySold*SalePrice AS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 b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0B8-41EB-48CA-AD85-35DD4E4754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284560"/>
            <a:ext cx="739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Weekly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atePart("ww", SaleDate) AS SaleWeek, Sum(QuantitySold*SalePrice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Date Is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ePart("ww", SaleDa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D0A-29D5-4126-9FD5-864AB8875D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600200"/>
            <a:ext cx="670572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AvgPercentWeeklyChang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to call the function: SELECT AvgPercentWeekly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B7B-CD27-4832-97FA-A19F224C3D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14479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name = 'AvgPercentWeeklyChange' AND type = 'FN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OP FUNCTION AvgPercentWeekly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Function AvgPercentWeeklyChange 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S 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c1 CURSOR FORWARD_ONLY READ_ONLY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SaleWeek, Value FROM WeeklySales ORDER BY Sale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Avg1 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N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PriorValue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cWeek int, @cValue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Avg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N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PriorValue = -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o Compute Ave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4572000"/>
            <a:ext cx="3352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SELECT statement for the cursor to trace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181120" y="39621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410080"/>
            <a:ext cx="3352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ariable to hold the value from the previous row with the same data type as the column in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276720" y="55627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8CC-EC3A-4F2B-8B27-71030A2998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1371600"/>
            <a:ext cx="8001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TCH NEXT FROM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@cWeek, @c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@@FETCH_STATU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@PriorValue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Avg1 = @Avg1 + (@cValue - @PriorValue)/@Prior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N = @N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PriorValue = @c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TCH NEXT FROM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@cWeek, @c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LLOCATE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(@Avg1/@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Chan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828800"/>
            <a:ext cx="3047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373392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952880"/>
            <a:ext cx="3124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row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22860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66520" y="2286000"/>
            <a:ext cx="2667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723920" y="335232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352320" y="3809520"/>
            <a:ext cx="3048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735-1844-4918-8414-9BD65203C4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1600200"/>
            <a:ext cx="685800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new TestIdentit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and display the generated key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with an existing key value by temporarily turning off the ide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without a key value and display the genera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119-0A38-45D4-9E86-0F3126D51C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an Identity for a New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214720"/>
            <a:ext cx="601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Test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dentity(1,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TestIdentity PRIMARY KEY (C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63E-9684-4F4F-A820-63F2CA79FD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Key Gener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5588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TestIdentity (LastName, Fir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'Jones', 'Jo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COPE_IDENTIT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76520"/>
            <a:ext cx="5943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into TestIdentity without specifying a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312408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what key value was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14440" y="3276720"/>
            <a:ext cx="2590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962160" y="2057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1CC-32E9-4251-8533-3816C7C2D0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Data with Original Val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1981080"/>
            <a:ext cx="624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DENTITY_INSERT TestIdentity 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TestIdentity (CID, LastName, Fir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10, 'Brown', 'Bobbi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COPE_IDENTIT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DENTITY_INSERT TestIdentity O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1D5-ED9E-489C-B249-FB4C202CFD7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87308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REATE FUNCTION ComputeSalesTax(@Amount As money) RETURNS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ECLARE @taxRate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T @taxRate = 0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turn (Round(@taxRate*@Amount,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771-AF1A-497F-9E72-E41617C7B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2895480"/>
            <a:ext cx="62208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480"/>
                </a:moveTo>
                <a:cubicBezTo>
                  <a:pt x="204" y="424"/>
                  <a:pt x="16" y="368"/>
                  <a:pt x="8" y="288"/>
                </a:cubicBezTo>
                <a:cubicBezTo>
                  <a:pt x="0" y="208"/>
                  <a:pt x="172" y="104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128-542A-4955-9D85-1E607AC3F2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-SQL Procedure NewSa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0840" y="1449720"/>
            <a:ext cx="747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NewSale(@CustomerID int, @EmployeeID i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SKU nvarchar(50), @NewSaleID int OUT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(CustomerID, EmployeeID, 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@CustomerID, @EmployeeID, GETDA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tmpSaleID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tmpSaleID = (SELECT SCOPE_IDENTITY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tmpListPrice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tmpListPrice = (SELECT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KU=@S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(SaleID, SKU, SalePrice, QuantityS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@tmpSaleID, @SKU, @tmpListPrice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NewSaleID=@tmp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318-701F-4DD7-BD37-E9457D14887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NewSale Proced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243828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Use the following commands to test th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NewSaleID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NewSale 502, 5, N'500000', @NewSaleI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@New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B9A-0DA2-4913-AB1F-2D73B65F5EE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1828800"/>
            <a:ext cx="701028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QL NewSal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643-45CF-42C9-B1F3-1A9A774747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133720" y="2638440"/>
            <a:ext cx="4476600" cy="29242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1863720"/>
            <a:ext cx="3733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s and SKU would be scanned, but to test code, set defaul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038480" y="251784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517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191120" y="251784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D3B-74FA-452F-94C1-605B04CF27B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ual Basic Calls SQL Proced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600200"/>
            <a:ext cx="8382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SaleButton_Click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SaleButton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lClient.SqlConnection(My.Settings.PowderConnection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ype = CommandType.Stored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ext = "NewSa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CustomerID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ustomerID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EmployeeID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EmployeeID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SKU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SKU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7A6-FFB9-4642-85C7-AEC1D2AEBE9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B Call to SQL Procedur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60020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mSaleI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Client.SqlParameter("@NewSaleID"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SaleID.DbType = DbType.In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SaleID.Direction = ParameterDirection.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SaleID.SqlDbType = SqlDbType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Parameters.Add(prmSal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NonQue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eneratedIDTextBox.Text = prmSaleID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Changes recorde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Error saving change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n.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4876920"/>
            <a:ext cx="3200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parameter separately to pick up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96B-D0BF-480B-8F6C-7F29E8FCBCE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1905120"/>
            <a:ext cx="64767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for Customer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 wizard to create a second form that displays CustomerID and ZIP Code in a tabular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85F-CE81-4FEB-B256-4B07C7FF75F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urrency and Lock Test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9880" y="2286000"/>
            <a:ext cx="33242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DC9-622D-4BB0-8604-7E0F031F25C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-SQL to Change ZIP Co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523880"/>
            <a:ext cx="7162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UpdateZIP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ustomerID i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NewZIPCode nvarchar(2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ErrorCode int OUT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@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@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ErrorCode = @@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FF8-64CA-4EC3-A947-CFE72C4FA3B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465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Function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895480"/>
            <a:ext cx="1295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32767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876560" y="251424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5720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result: 7 percent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038480" y="457164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04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52680" y="3581280"/>
            <a:ext cx="198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336-B3F6-4AA6-A63E-B885E2B2E6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ual Basic Code for Procedure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1752480"/>
            <a:ext cx="822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ChangeZIP_Click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ChangeZIP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nnection(Form1.globalVars.SQL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ype = CommandType.Stored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ext = "UpdateZI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Parameter("@CustomerID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ustomerID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Parameter("@NewZIPCode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NewZIPCode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01D-9F1A-4451-B0EF-406252E4466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ual Basic Code for Procedure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447920"/>
            <a:ext cx="769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mErrorI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Client.SqlParameter("@ErrorCode"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ErrorID.DbType = DbType.In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ErrorID.SqlDbType = SqlDbType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ErrorID.Direction = ParameterDirection.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Parameters.Add(prmErro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NonQue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mErrorID.Value &lt;&gt; 0)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Error in databas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Changes recorde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Error saving change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n.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FAE-4258-4D1E-9EC1-8B5ECD987F6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Li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EF3-33C1-418F-A716-90370E08DE3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828800"/>
            <a:ext cx="777240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oth forms so they are both visible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ist form, change the last ZIP digit but do not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st form, enter the same Customer ID and a different ZIP code, then click the Sav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list form and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receive a concurrency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D9E-408F-40D2-9522-24FF2ED78DC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905120"/>
            <a:ext cx="7848720" cy="1828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equery button to the CustomerLi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button when concurrency violations a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ncurrency test to the procedure code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D3F-BB93-4E4A-AAB6-E9A8998092A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nger Lock on the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3716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UpdateZIP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ustomerID i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NewZIPCode nvarchar(2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OldZIPCode n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ErrorCode int OUT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@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@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ZIP = @Old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@@ERROR = 0) AND (@@ROWCOUNT &l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ErrorCode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ErrorCode = @@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3505320"/>
            <a:ext cx="22096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ly if old value remains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191120" y="38098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80060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638320" y="472392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85D-4B3E-4ABE-AF05-5FDA90E5FA3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4280" y="217008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bo.ComputeSalesTax(100) A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D63-02C1-43E2-A69E-B0BA79A8D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Login and Modify Connection Str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ogin form to collect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Connectio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de to substitute log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F1A-F3D0-42C7-A9E9-DFE6ED724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g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85732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E4C-9DB5-43E0-AF63-6658A2CDE6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45:10Z</dcterms:modified>
  <cp:revision>89</cp:revision>
  <dc:subject/>
  <dc:title>All Powder Board and Ski</dc:title>
</cp:coreProperties>
</file>