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65D-B81E-40BD-A899-BDA82887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056-1EB2-4BF6-866B-A31B4103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A8B-1386-406E-8807-93A6E6DC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805-C5E3-4842-8AFC-06957BE8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6A32-479C-4CC6-A894-DA40B68D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05C0-EB36-4241-9110-0E8935D3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8619-C658-464F-96AE-7E429DEA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A714-E27A-4C5E-9926-C02A2C92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C81D-3628-4199-A727-DDC1AAA7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3011-C10E-49FB-8E2C-F8C9B85E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EDCB-1C6B-408B-9F16-E4C2A847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520-7DA0-49CB-B25A-6AED1B6E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A296-96FA-4B54-83CD-7CEFCE4C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5B48-1557-4560-939E-5FE8712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592E-A3D4-43B4-AC35-B1EA2848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A582-133A-4261-B3AF-6E904C1C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ED01-5539-4DDF-BF15-35934302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856-7ED6-4E5E-80ED-69B456C9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196-5634-4202-A0A2-B3C4CAF9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D68-5018-4AE8-9C0C-F771DEA3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A7A-5C55-45E0-AF0D-D80B7DF4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A2F-ED70-40C3-BC06-F8E56C36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B63-F228-4D7A-B195-671DD4D5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390-BC71-4620-964A-F775420F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E874-08A7-43AB-9351-F6227DFF1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D1F-DA1F-42BB-85E8-7D4CF64C4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: Databas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2176-F0C3-4622-8B02-2000CCE8CD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19904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19112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286000"/>
            <a:ext cx="914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27672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18148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1148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05120" y="24382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09552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495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523880" y="510516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461-A9CD-4C93-832E-6ED0099EFC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057400"/>
            <a:ext cx="6629400" cy="2819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ustomer and Sal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GenerateKey to Customer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 it to Custome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new CustomerID from right side into Sa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CustomerID from Customer and drop it on CustomerID in Sa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out relationship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331-CF62-43E0-B142-65485AE2FC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33520" y="2162160"/>
            <a:ext cx="3409920" cy="3629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15732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-and-drop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3443400"/>
            <a:ext cx="17528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in and max for both sides of th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962160" y="39006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257440" y="3900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1855800"/>
            <a:ext cx="1828800" cy="977760"/>
          </a:xfrm>
          <a:custGeom>
            <a:avLst/>
            <a:gdLst/>
            <a:ahLst/>
            <a:rect l="l" t="t" r="r" b="b"/>
            <a:pathLst>
              <a:path w="1152" h="616">
                <a:moveTo>
                  <a:pt x="1152" y="376"/>
                </a:moveTo>
                <a:cubicBezTo>
                  <a:pt x="1104" y="188"/>
                  <a:pt x="1056" y="0"/>
                  <a:pt x="864" y="40"/>
                </a:cubicBezTo>
                <a:cubicBezTo>
                  <a:pt x="672" y="80"/>
                  <a:pt x="336" y="348"/>
                  <a:pt x="0" y="6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800" y="22240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CC3-542E-49BC-87A3-8723491512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2362320"/>
            <a:ext cx="6705720" cy="1600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Grade/Grade and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click messages 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errors by removing columns and adding new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C9C-4D45-4694-901A-B7353D8EDA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gn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838760" cy="3648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43828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KU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20574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286000"/>
            <a:ext cx="1981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Inventory table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51460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098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e diagnostic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7242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40384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errors are highl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562360" y="297144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061-0743-4CDC-9F60-CF262DD35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915080" cy="3876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8080" y="16765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setting SKU as a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20574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3809880"/>
            <a:ext cx="3200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till causes problems because SaleDate does not depend on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800600" y="26668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43400" y="41911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B39-AE86-496D-93B9-30B9D210B7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Many-to-Many Relation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2906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666880"/>
            <a:ext cx="1600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290680"/>
            <a:ext cx="13716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6668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24080" y="1995480"/>
            <a:ext cx="3948120" cy="477720"/>
          </a:xfrm>
          <a:custGeom>
            <a:avLst/>
            <a:gdLst/>
            <a:ahLst/>
            <a:rect l="l" t="t" r="r" b="b"/>
            <a:pathLst>
              <a:path w="2487" h="301">
                <a:moveTo>
                  <a:pt x="0" y="301"/>
                </a:moveTo>
                <a:cubicBezTo>
                  <a:pt x="205" y="251"/>
                  <a:pt x="816" y="0"/>
                  <a:pt x="1230" y="0"/>
                </a:cubicBezTo>
                <a:cubicBezTo>
                  <a:pt x="1644" y="0"/>
                  <a:pt x="2225" y="238"/>
                  <a:pt x="2487" y="30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5680" y="16365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427212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6483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1219320" cy="1905120"/>
          </a:xfrm>
          <a:custGeom>
            <a:avLst/>
            <a:gdLst/>
            <a:ahLst/>
            <a:rect l="l" t="t" r="r" b="b"/>
            <a:pathLst>
              <a:path w="768" h="1200">
                <a:moveTo>
                  <a:pt x="768" y="0"/>
                </a:moveTo>
                <a:lnTo>
                  <a:pt x="384" y="0"/>
                </a:lnTo>
                <a:lnTo>
                  <a:pt x="384" y="1200"/>
                </a:lnTo>
                <a:lnTo>
                  <a:pt x="0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895480"/>
            <a:ext cx="1143000" cy="2286000"/>
          </a:xfrm>
          <a:custGeom>
            <a:avLst/>
            <a:gdLst/>
            <a:ahLst/>
            <a:rect l="l" t="t" r="r" b="b"/>
            <a:pathLst>
              <a:path w="720" h="1440">
                <a:moveTo>
                  <a:pt x="0" y="0"/>
                </a:moveTo>
                <a:lnTo>
                  <a:pt x="384" y="0"/>
                </a:lnTo>
                <a:lnTo>
                  <a:pt x="384" y="1440"/>
                </a:lnTo>
                <a:lnTo>
                  <a:pt x="72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600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02600" y="4800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504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6488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454-E94D-4E34-8E60-04FF5E06AC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i Shop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1680" y="64008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: www.rossign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317680" y="2286000"/>
            <a:ext cx="561960" cy="2676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470320" y="2590920"/>
            <a:ext cx="498240" cy="2371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22600" y="2819520"/>
            <a:ext cx="449280" cy="2143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754360" y="3048120"/>
            <a:ext cx="401760" cy="1914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149560" y="1981080"/>
            <a:ext cx="625320" cy="2981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1981080" y="1905120"/>
            <a:ext cx="641520" cy="3057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251240" y="20937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shops carry multiple lengths of each ski or board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51240" y="34290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information refers to the overall type of board or s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51240" y="4572000"/>
            <a:ext cx="34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information refers to an individual ski or board—defined by its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3800" y="53341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ignol Ax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4800600"/>
            <a:ext cx="129528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0"/>
                </a:moveTo>
                <a:lnTo>
                  <a:pt x="0" y="192"/>
                </a:lnTo>
                <a:lnTo>
                  <a:pt x="816" y="192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496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9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9692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8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182880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590560" y="18288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EA4-D7F4-4D4C-ABA8-465107F98B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2057400"/>
            <a:ext cx="426708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SaleIte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ItemMode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he proper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/Grade and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B09-92A0-4407-AD73-A8ADEDA64B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s and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429520" cy="25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D9B-5B47-40FF-9716-4F91861572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ED3-817C-42E7-93A7-06AF623670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16560" y="167652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16560" y="217332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8400" y="270684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32400" y="371160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230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535-D392-4169-928F-15CC9B6108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2286000"/>
            <a:ext cx="106704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lnTo>
                  <a:pt x="192" y="0"/>
                </a:lnTo>
                <a:lnTo>
                  <a:pt x="192" y="432"/>
                </a:lnTo>
                <a:lnTo>
                  <a:pt x="672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2860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240" y="624"/>
                </a:lnTo>
                <a:lnTo>
                  <a:pt x="24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3581280"/>
            <a:ext cx="838080" cy="7621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240" y="0"/>
                </a:lnTo>
                <a:lnTo>
                  <a:pt x="24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AC8-1B36-463D-899D-50C66116A7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QL Server Data Types (Domains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295280"/>
          <a:ext cx="7723440" cy="4795920"/>
        </p:xfrm>
        <a:graphic>
          <a:graphicData uri="http://schemas.openxmlformats.org/drawingml/2006/table">
            <a:tbl>
              <a:tblPr/>
              <a:tblGrid>
                <a:gridCol w="1712880"/>
                <a:gridCol w="2438640"/>
                <a:gridCol w="2685960"/>
                <a:gridCol w="88596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  (character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/Unico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 or nch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ch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 or n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ga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 (8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 (16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32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4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 prec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ny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ll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g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(p,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^15 to 2^15 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^31 to 2^31 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^63 to 2^63 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: 1...38,  s: 0...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 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time, smalldateti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1/1753 to 12/31/9999 (3.33m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1/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ga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28600" y="632376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el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A0F-162B-4E6B-9E51-0C22033D00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Business Obje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25A-FD15-4BE8-8C3F-DC175143CF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ociations or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213372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288"/>
                </a:moveTo>
                <a:lnTo>
                  <a:pt x="432" y="288"/>
                </a:lnTo>
                <a:lnTo>
                  <a:pt x="432" y="0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2952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976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8C9-8282-4B2C-B3BC-6F3B0464A9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514600"/>
            <a:ext cx="533412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: http://time-post.com/db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in with your book account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udent who has two key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8BD-4404-4054-85F6-209CBDD7B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4111560" cy="441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080" y="1981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key numbers you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6668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124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sername and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5812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495680"/>
            <a:ext cx="18288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orrect name, e-mail address and 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426672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D59-DEB5-48FD-A38B-0D0B36997A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ass Regis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111560" cy="4419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638680" y="194004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ful accoun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3159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university an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403848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admi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76360" y="24382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0381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285640" y="3962160"/>
            <a:ext cx="3352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890-FB16-4085-A1DB-18D1C1EAF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286000"/>
            <a:ext cx="487656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/Open, choose All Powder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/Ad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header/Renam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columns from right onto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name/set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F14-B043-4C1B-9826-F8FAFBEC40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20:15Z</dcterms:modified>
  <cp:revision>19</cp:revision>
  <dc:subject/>
  <dc:title>All Powder Board and Ski</dc:title>
</cp:coreProperties>
</file>